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45F02-AEC8-4B1A-80A6-2E6F682B7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3E9DB-44BE-4D0E-A7E3-3113C37DC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7E320-3103-4DA1-8314-2CFA0BE1D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2129A-7F3E-4CEF-AB7C-5013B5D62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11975-F96F-48CD-A845-E08331C5C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88745-795B-4D53-B50C-BCBA7622C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C9E97-064E-41FD-8CFC-35D5C5939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B6811-5D18-46C2-8E8E-376DA5916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609D5-7630-405C-BBB7-7CDD9AFD4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FD1E1-57CF-423B-8608-6484BAD17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2AE7E-A910-4E9D-AC64-D37DC7B5B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72C35-396A-47BE-AB82-638EFAE33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53468-D81D-41E4-9FD5-818995AAC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972A2-30E6-4027-AC3F-B936851E6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72585-E5B2-4DA2-8AD9-C1D2A5415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52E36-D106-4416-A9C5-E2D175195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AE7B6-FF20-4DC0-8CA3-FA41CBF7E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10B16E6-B387-485C-91D3-E196F23C87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1BB1BC-95E2-4947-80D1-70FA06371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3D74290-FD18-4049-B1B1-029E4F1677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A67361-4461-4E4D-916E-E0B06E6B5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F7958E-65C1-4DC6-8EFC-C19F34E7BA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D2301-A0ED-42E3-A46F-A8D379D23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DAF80A-1A7A-44F9-9F1B-72323C0EE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958318-BC9B-4A50-AA86-F762F7E27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22DC49-700B-4DC7-AD74-CC19AEA7A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DE6C7D-B6BF-4A9C-922D-8B4E62AEE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0453D9-C555-40F4-B3C6-1B52DCF8CA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EFC93F1-D614-4660-8F79-EC32266BCE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D82908A-88E7-49E3-9BD8-725D75B67E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5284B25-5C79-4EB0-A997-9A34CF32B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EED971-F734-4F46-937B-F542BDFBF1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F2E313-9DB8-4A6C-8C01-225EBBAEA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91FB0-B460-488D-95DF-C45B6A0A0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B22228-ED7B-4FA5-BDC4-ABE6F5B48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3A6E17-C332-405A-8D70-D054B8CC6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67F0E7-0CFC-4A41-BADA-E604DEE36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F3A7AD-5AC9-4393-9790-0ADBE64FA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E1404D-EB05-440F-BB69-5053F771A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E6D2AB-3F31-474F-8BFA-FDC008373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576383-92A7-409E-A054-39177E45FB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C11A9D-C89C-40C4-9565-FCDBE601CB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3AEDF44-5961-4620-B299-B917786C6D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A1952EA-FAB6-48AD-B850-1940AE8C61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728C3-FF00-457E-AB65-C1A17F22A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D6A5F3A-3B22-40B7-98D1-3E479DDECF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6C172C-87B7-4FE1-8A05-E2C262C963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5883BC-AA2E-45B6-8906-0C4BBD8DF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AA3AA5-DAA0-4257-BF93-7D0EC0FCC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5E30F4-6E01-42F8-8A4C-456F9E6B9F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8CE06B-344F-4F7A-9EFF-C37A0F0D3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755A37-3697-47AB-9608-86D707530D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5C2527-1A2F-4EF9-B152-BD3E24658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E62CB0-B05A-4C24-B7F3-59E450E98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0213F79-8066-4973-902D-C600B6E212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BE58-4A39-4DED-AC8E-64A5320CD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43B64DB-C8A6-4F6A-B640-10942D84AB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04F5B2-AB79-494D-BD7A-39147C8FA6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79F2EF-9CE8-4E09-9DB2-4C9024FD85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1170D3-816E-4266-8953-BBAACA9BB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BFBDED-12A4-435F-BEF9-CB6DCFEF8D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8665D0-8476-42F3-B290-F0E1593B21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911D67-7FDD-4069-A7A2-B6A9B352A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7D76F-D8F6-46AA-9748-063326B0B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0738C5-138B-491C-80CD-7138F20B81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AE17FE-2478-4C7C-B78E-B0786370D5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C843C-81C7-40E8-BD31-E066FA353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8C0734-B8DC-4725-B82C-A02C690AE9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CB3A06-3343-457A-913E-53727F20CD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FCE8A4-F069-4BCA-A84F-A1DB66568D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3082717-87BA-4BA4-91F2-A228A3EAD4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66F489-E503-4BFD-9107-DE7604C9A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BF1E094-CEE5-4FBD-B760-FA079E792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D30128B-34D6-42D5-B864-55DB6134C3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321B23A-8745-4339-8021-74702CEABC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1E8F9FE-3FBA-47CA-BC3E-AF74AB6DA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B2024E4-1D43-403C-8399-39F664550D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7FAC-0741-4C3A-B7CF-64E8CF8E6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8BC931-327A-418A-9D2E-716F74A53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B810CF-DEAC-4FEA-A804-C10189699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39F708E-5BA3-4FFC-BF15-CEAF1C4C8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1244333-7BB4-4C22-8E9C-A795E9B246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80B7C7C-ECCD-4B25-89C1-D03E7CE6F9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E4796A-9F7A-44E2-B62F-14D06B917E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3DA313-AE7C-4486-A63F-D8DBC39E26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0869A1-03A7-4DDB-871F-D99840EF1C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ED391E-DD6A-4CED-9A5B-44652156BF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1D7E7-E9DC-438C-BAB1-7EE49C9273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9A45E-919D-437F-966A-242973544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C1C063-BEED-48C9-8D58-A4A448EADA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E4FC0A-E3C7-4608-A806-92C7A3F68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B0A184-1219-4C8B-9B42-87921D2C1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F342E-DBFE-4F22-B5C4-FA5E6EEE6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CC6EB5-0446-428A-890C-0A990A9FA8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5FAB56-E93C-484F-A20E-1E60425C21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6117CA-3FE3-4FCF-827F-9DA5FE65934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5A1C-0567-43CF-B529-37ED95CD6467}"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28F5-AEB4-4343-BBA1-CE4A4B5705E6}"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9385-A030-4679-8C0D-2A64D9F6FB5F}"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C0C8-AF6A-42C9-A54F-A3F5AF31C186}"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2957-BD71-4CFF-8BBE-16C36957A57B}"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E766-55F9-477B-B9FC-E0FDDBA8E501}"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10D7-5470-428F-84A4-F656957B65D6}"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4BF0-9767-4199-9727-3CDA9AF69241}"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D YOU KNOW?</a:t>
            </a:r>
            <a:endParaRPr b="0" lang="en-US" sz="4400" spc="-1" strike="noStrike">
              <a:solidFill>
                <a:srgbClr val="775f55"/>
              </a:solidFill>
              <a:latin typeface="Tw Cen MT"/>
            </a:endParaRPr>
          </a:p>
        </p:txBody>
      </p:sp>
      <p:sp>
        <p:nvSpPr>
          <p:cNvPr id="351" name=""/>
          <p:cNvSpPr txBox="1"/>
          <p:nvPr/>
        </p:nvSpPr>
        <p:spPr>
          <a:xfrm>
            <a:off x="228600" y="1600200"/>
            <a:ext cx="8686800" cy="51055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om 1982 to 1992, approximately 1.6 million acres of wetlands on nonfederal lands in the U.S. were converted for other us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7% of the wetlands were converted into land for developmen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27% of wetlands were converted into land for agriculture.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remaining wetlands in U.S. were destroyed, additional flood-control costs would be $7.7 billion to $31 billion per yea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etland Habitats</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eshwater wetlands are areas of land that are covered with fresh water for at least part of the yea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federal permit is required to fill wetlands, deposit dredged or fill material in th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etland RegulatoryAuthority-Permit</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
          <p:cNvSpPr/>
          <p:nvPr/>
        </p:nvSpPr>
        <p:spPr>
          <a:xfrm>
            <a:off x="609480" y="1523880"/>
            <a:ext cx="800100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ory Requirement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tion 404 of the Clean Water Act (CWA) establishes a program to regulate the discharge of dredged or fill material into waters of the United States, including wetlands. Activities in waters of the United States regulated under this program include fill for development, water resource projects (such as dams and levees), infrastructure development (such as highways and airports) and mining project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tion 404 requires a permit before dredged or fill material may be discharged into waters of the United States, unless the activity is exempt from Section 404 regulation (e.g. certain farming and forestry activit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ww.epa.gov/wetland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Title 1" descr=""/>
          <p:cNvPicPr/>
          <p:nvPr/>
        </p:nvPicPr>
        <p:blipFill>
          <a:blip r:embed="rId2"/>
          <a:stretch/>
        </p:blipFill>
        <p:spPr>
          <a:xfrm>
            <a:off x="609480" y="-390600"/>
            <a:ext cx="8163000" cy="1719360"/>
          </a:xfrm>
          <a:prstGeom prst="rect">
            <a:avLst/>
          </a:prstGeom>
          <a:ln w="0">
            <a:noFill/>
          </a:ln>
        </p:spPr>
      </p:pic>
      <p:sp>
        <p:nvSpPr>
          <p:cNvPr id="358" name=""/>
          <p:cNvSpPr txBox="1"/>
          <p:nvPr/>
        </p:nvSpPr>
        <p:spPr>
          <a:xfrm>
            <a:off x="612360" y="1600200"/>
            <a:ext cx="8379000" cy="49528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rapping and filtering sediments, nutrients, and pollutants, which keep these materials from entering lakes, reservoirs and ocean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ducing the likelihood of a flood, protecting agriculture, roads, buildings, and human health and safety</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uffering shorelines against erosio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spawning grounds and habitat  for commercially important fish and shellfish.</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habitat for rare, threatened and endangered species of plants, birds and animal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recreational areas for activites such as fishing, bird watching, hiking, canoeing, photography and painting </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rections:</a:t>
            </a: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w Cen MT"/>
              </a:rPr>
              <a:t>PART 1: TYPES OF WETLANDS</a:t>
            </a:r>
            <a:endParaRPr b="0" lang="en-US" sz="3700" spc="-1" strike="noStrike">
              <a:solidFill>
                <a:srgbClr val="000000"/>
              </a:solidFill>
              <a:latin typeface="Tw Cen MT"/>
            </a:endParaRPr>
          </a:p>
          <a:p>
            <a:pPr lvl="2" marL="877680" indent="-21924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As a group, follow the flow chart to identify which wetland habitat is described on the cards.</a:t>
            </a:r>
            <a:endParaRPr b="0" lang="en-US" sz="32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w Cen MT"/>
              </a:rPr>
              <a:t>PART 2: Decisions?  Decisions? </a:t>
            </a:r>
            <a:endParaRPr b="0" lang="en-US" sz="3700" spc="-1" strike="noStrike">
              <a:solidFill>
                <a:srgbClr val="000000"/>
              </a:solidFill>
              <a:latin typeface="Tw Cen MT"/>
            </a:endParaRPr>
          </a:p>
          <a:p>
            <a:pPr lvl="2" marL="877680" indent="-21924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s a group you will play HYDROpoly to practice making sound decisions to benefit the environment or wetlands.</a:t>
            </a:r>
            <a:endParaRPr b="0" lang="en-US" sz="3200" spc="-1" strike="noStrike">
              <a:solidFill>
                <a:srgbClr val="000000"/>
              </a:solidFill>
              <a:latin typeface="Tw Cen MT"/>
            </a:endParaRPr>
          </a:p>
          <a:p>
            <a:pPr marL="30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3:22:02Z</dcterms:created>
  <dc:creator>User</dc:creator>
  <dc:description/>
  <dc:language>en-US</dc:language>
  <cp:lastModifiedBy>udsd</cp:lastModifiedBy>
  <dcterms:modified xsi:type="dcterms:W3CDTF">2008-02-25T15:15:59Z</dcterms:modified>
  <cp:revision>12</cp:revision>
  <dc:subject/>
  <dc:title>DID YOU KNOW?</dc:title>
</cp:coreProperties>
</file>