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5.jpeg" ContentType="image/jpeg"/>
  <Override PartName="/ppt/media/image24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wmf" ContentType="image/x-wmf"/>
  <Override PartName="/ppt/media/image1.jpeg" ContentType="image/jpeg"/>
  <Override PartName="/ppt/media/image35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37.jpeg" ContentType="image/jpeg"/>
  <Override PartName="/ppt/media/image26.jpeg" ContentType="image/jpeg"/>
  <Override PartName="/ppt/media/image42.png" ContentType="image/png"/>
  <Override PartName="/ppt/media/image5.jpeg" ContentType="image/jpeg"/>
  <Override PartName="/ppt/media/image11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6.png" ContentType="image/png"/>
  <Override PartName="/ppt/media/image40.png" ContentType="image/png"/>
  <Override PartName="/ppt/media/image9.jpeg" ContentType="image/jpeg"/>
  <Override PartName="/ppt/media/image23.wmf" ContentType="image/x-wmf"/>
  <Override PartName="/ppt/media/image43.jpeg" ContentType="image/jpeg"/>
  <Override PartName="/ppt/media/image44.jpeg" ContentType="image/jpeg"/>
  <Override PartName="/ppt/media/image45.jpeg" ContentType="image/jpeg"/>
  <Override PartName="/ppt/media/image46.png" ContentType="image/png"/>
  <Override PartName="/ppt/media/image47.jpeg" ContentType="image/jpeg"/>
  <Override PartName="/ppt/media/image41.png" ContentType="image/png"/>
  <Override PartName="/ppt/media/image48.jpeg" ContentType="image/jpeg"/>
  <Override PartName="/ppt/media/image32.jpeg" ContentType="image/jpeg"/>
  <Override PartName="/ppt/media/image49.jpeg" ContentType="image/jpeg"/>
  <Override PartName="/ppt/media/image12.png" ContentType="image/png"/>
  <Override PartName="/ppt/media/image31.jpeg" ContentType="image/jpeg"/>
  <Override PartName="/ppt/media/image30.jpeg" ContentType="image/jpeg"/>
  <Override PartName="/ppt/media/image17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348B-6BC2-4730-A5BC-335A02DD5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9BA4-1E25-4180-B010-1697A47F8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FA6A-1176-4421-BEFD-50E606E13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BF38-D842-405F-ADCC-A04E9532F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41E9-61D9-4E0E-AF91-B6C829AFC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82C9-02D8-4550-AA52-4365A0E14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A259-B4F0-4274-983C-EC153AA40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CCBA-A7DC-4309-BA5F-559977777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F683-7F35-4268-8597-0BF4BCC2E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8F93-69BE-4372-B374-75FFF6099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1 definitely.  Numbers 2-5 are contested by man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72A1-DA3C-489B-9EE8-4760A3312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98D3-AECB-43B3-B21D-3F62EE981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BE91-9D25-439C-A6D7-4D195DD4D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93F5-9CDA-4B33-8292-317E7B173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d an apple or a 100 g mass next to a vertical meter stick, and lift it to the top of the meter stick in 1.0 second time. “How much power did it take to do this? – One watt.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0B3F-7FCC-4150-BE2A-38E4233E4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ia.doe.gov/kids/classactivities/EnergyAnalysisEIA.pd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F444-CFF6-467A-A5B4-9CB689EB7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6A2B-C881-42C0-8FFD-7E6AE53F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2A9F-81FD-4F96-83E2-672D5719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3E44-E356-4450-9556-FD5E7232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E118-031F-437D-A21E-F0D79B24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5B4B-DF5D-4625-946B-932D99ED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1FD5-F894-40B8-B139-7D04B88B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9B21-1206-4E12-B325-AC491EC0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3D96-1F0E-4849-94B6-47E445CD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679B-8BB3-4D97-8863-564726FC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F96D-B462-4C85-9CB2-84F85BD0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B12D-F1C7-4B2D-8C7E-5D90FAE7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DF4C-A817-4457-9A33-320697D5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0536-9F3F-481A-938E-D54F23E3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AB95-F548-4471-BCFC-534089D7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04EE-0D4B-44B0-9E12-410AA9C2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2816-5E48-47B3-ADB4-0060E2447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D278-D69D-4FA3-8BA5-16DB85CD7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3732A9-01EB-4B88-A884-0787B186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2E2576-DCBB-4EDD-9E44-561105B1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A31BA2-E3C7-4EC5-9876-D2FF0B6F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5A3F5B-DE99-4B40-B705-7815AE6A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465F15-7D7F-423A-9A33-52DDA8E6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14CF-883A-4136-B36D-4FF7AA83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410D6C-D1DA-41BC-98A7-8EA1EFD2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41A0B1-1123-40E1-9334-99419840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E6FBFC-944D-454A-818D-1F0D8074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078324-C2F7-4821-9C82-6AAC4512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AD5AB0-B659-4EEC-847F-68FCC5F5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9886CF-C0ED-4924-8A31-A0A30608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547044-FC8C-4473-9977-62A4831C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A2E6-D409-47DD-B540-FB61882D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636F-DC02-4D3F-B94C-070D51A4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1417-0293-4F7F-A275-39EAEC30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B09D-B950-4FD0-9046-D8356882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FDAD-66AC-417E-8C0F-C11DDBA2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0516-F77C-4F1D-A605-5260F6B9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3DCF-5E2B-426E-AF55-0F5375BFB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D27F-7290-405C-9545-1C993EB8C6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1EE1-4DF7-46A5-BE82-8EC7560D68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http://images.google.com/imgres?imgurl=http://www.goalfinder.com/images/SCCAPP2/burning-of-wood.jpg&amp;imgrefurl=http://www.goalfinder.com/product.asp%3Fproductid%3D74&amp;h=161&amp;w=250&amp;sz=7&amp;hl=en&amp;start=42&amp;tbnid=HsqnibfLl1Oa2M:&amp;tbnh=71&amp;tbnw=111&amp;prev=/images%3Fq%3Dburning%2Bwood%26start%3D40%26gbv%3D2%26ndsp%3D20%26svnum%3D10%26hl%3Den%26sa%3DN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icture-newsletter.com/nuclear/nuclear-power-plant-9igh.jpg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f5Vwxabb12s&amp;feature=related" TargetMode="External"/><Relationship Id="rId2" Type="http://schemas.openxmlformats.org/officeDocument/2006/relationships/hyperlink" Target="http://www.youtube.com/watch?v=f5Vwxabb12s&amp;feature=related" TargetMode="External"/><Relationship Id="rId3" Type="http://schemas.openxmlformats.org/officeDocument/2006/relationships/hyperlink" Target="http://www.youtube.com/watch?v=f5Vwxabb12s&amp;feature=related" TargetMode="External"/><Relationship Id="rId4" Type="http://schemas.openxmlformats.org/officeDocument/2006/relationships/hyperlink" Target="http://www.youtube.com/watch?v=mUMAfSBR4yg&amp;feature=related" TargetMode="External"/><Relationship Id="rId5" Type="http://schemas.openxmlformats.org/officeDocument/2006/relationships/hyperlink" Target="http://www.youtube.com/watch?v=mUMAfSBR4yg&amp;feature=related" TargetMode="External"/><Relationship Id="rId6" Type="http://schemas.openxmlformats.org/officeDocument/2006/relationships/hyperlink" Target="http://www.youtube.com/watch?v=mUMAfSBR4yg&amp;feature=related" TargetMode="External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9880" y="457200"/>
            <a:ext cx="365760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How can changing a light bulb reduce greenhouse gas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C:\Users\jolill\AppData\Local\Microsoft\Windows\Temporary Internet Files\Content.IE5\7CPA9WEO\MPj04373310000[1].jpg"/>
          <p:cNvPicPr/>
          <p:nvPr/>
        </p:nvPicPr>
        <p:blipFill>
          <a:blip r:embed="rId1"/>
          <a:stretch/>
        </p:blipFill>
        <p:spPr>
          <a:xfrm>
            <a:off x="2438280" y="4041720"/>
            <a:ext cx="2819520" cy="2816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Users\jolill\AppData\Local\Microsoft\Windows\Temporary Internet Files\Content.IE5\9ISTM1HJ\MCj02909300000[1].wmf"/>
          <p:cNvPicPr/>
          <p:nvPr/>
        </p:nvPicPr>
        <p:blipFill>
          <a:blip r:embed="rId2"/>
          <a:stretch/>
        </p:blipFill>
        <p:spPr>
          <a:xfrm>
            <a:off x="7696080" y="685800"/>
            <a:ext cx="1149480" cy="1727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C:\Users\jolill\AppData\Local\Microsoft\Windows\Temporary Internet Files\Content.IE5\ZIHHMIK6\MPj04373300000[1].jpg"/>
          <p:cNvPicPr/>
          <p:nvPr/>
        </p:nvPicPr>
        <p:blipFill>
          <a:blip r:embed="rId3"/>
          <a:stretch/>
        </p:blipFill>
        <p:spPr>
          <a:xfrm>
            <a:off x="380880" y="457200"/>
            <a:ext cx="3505320" cy="3733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Users\jolill\AppData\Local\Microsoft\Windows\Temporary Internet Files\Content.IE5\7CPA9WEO\MCj04347170000[1].wmf"/>
          <p:cNvPicPr/>
          <p:nvPr/>
        </p:nvPicPr>
        <p:blipFill>
          <a:blip r:embed="rId4"/>
          <a:stretch/>
        </p:blipFill>
        <p:spPr>
          <a:xfrm>
            <a:off x="7924680" y="2971800"/>
            <a:ext cx="765360" cy="1797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Users\jolill\AppData\Local\Microsoft\Windows\Temporary Internet Files\Content.IE5\7CPA9WEO\MPj04372340000[1].jpg"/>
          <p:cNvPicPr/>
          <p:nvPr/>
        </p:nvPicPr>
        <p:blipFill>
          <a:blip r:embed="rId5"/>
          <a:stretch/>
        </p:blipFill>
        <p:spPr>
          <a:xfrm>
            <a:off x="5486400" y="4191120"/>
            <a:ext cx="2286000" cy="2263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C:\Users\jolill\AppData\Local\Microsoft\Windows\Temporary Internet Files\Content.IE5\9ISTM1HJ\MPj04372700000[1].jpg"/>
          <p:cNvPicPr/>
          <p:nvPr/>
        </p:nvPicPr>
        <p:blipFill>
          <a:blip r:embed="rId6"/>
          <a:stretch/>
        </p:blipFill>
        <p:spPr>
          <a:xfrm>
            <a:off x="762120" y="4648320"/>
            <a:ext cx="1527120" cy="15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 (6) Forms of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nergy of moving thing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: wind, moving 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Electr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nergy of moving electr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He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nergy of temperature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tter temperatures can do more wor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4" descr="Electrical Wires"/>
          <p:cNvPicPr/>
          <p:nvPr/>
        </p:nvPicPr>
        <p:blipFill>
          <a:blip r:embed="rId1"/>
          <a:stretch/>
        </p:blipFill>
        <p:spPr>
          <a:xfrm>
            <a:off x="7238880" y="2362320"/>
            <a:ext cx="1641600" cy="2189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windmills"/>
          <p:cNvPicPr/>
          <p:nvPr/>
        </p:nvPicPr>
        <p:blipFill>
          <a:blip r:embed="rId2"/>
          <a:stretch/>
        </p:blipFill>
        <p:spPr>
          <a:xfrm>
            <a:off x="4952880" y="1295280"/>
            <a:ext cx="2067120" cy="2705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burning-of-woo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57800" y="4800600"/>
            <a:ext cx="23194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 (6) Forms of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nergy of moving phot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hem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nerg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tor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the bonds between ato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: food, wood, gasoline, batteries, coal, oil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ucl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nerg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tor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tween the subatomic partic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: Nuclear power pl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6" descr="nuclear-power-plant-9i.jpg (96092 Byte) nuclear power plant Leibstad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4876920"/>
            <a:ext cx="2743200" cy="1676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C:\Users\jolill\AppData\Local\Microsoft\Windows\Temporary Internet Files\Content.IE5\9ISTM1HJ\MCj04325890000[1].png"/>
          <p:cNvPicPr/>
          <p:nvPr/>
        </p:nvPicPr>
        <p:blipFill>
          <a:blip r:embed="rId3"/>
          <a:stretch/>
        </p:blipFill>
        <p:spPr>
          <a:xfrm>
            <a:off x="4876920" y="1295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Users\jolill\AppData\Local\Microsoft\Windows\Temporary Internet Files\Content.IE5\ZIHHMIK6\MCj02333910000[1].wmf"/>
          <p:cNvPicPr/>
          <p:nvPr/>
        </p:nvPicPr>
        <p:blipFill>
          <a:blip r:embed="rId4"/>
          <a:stretch/>
        </p:blipFill>
        <p:spPr>
          <a:xfrm>
            <a:off x="6400800" y="2819520"/>
            <a:ext cx="2216160" cy="19047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Law of Thermodynam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Conservation of Energy Law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nergy can neither be created nor destroy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ergy in the universe is consta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can’t destroy energy, you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hange its form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: Mat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: Light Bul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C:\Users\jolill\AppData\Local\Microsoft\Windows\Temporary Internet Files\Content.IE5\7CPA9WEO\MCj02903820000[1].wmf"/>
          <p:cNvPicPr/>
          <p:nvPr/>
        </p:nvPicPr>
        <p:blipFill>
          <a:blip r:embed="rId1"/>
          <a:stretch/>
        </p:blipFill>
        <p:spPr>
          <a:xfrm>
            <a:off x="5562720" y="3995640"/>
            <a:ext cx="273024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Law of Thermodynam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Energy Quality Law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hen energy changes form, some useful energy is always degraded to lower quality, less useful energ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ow temperature he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the least useful energy form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: 90% of energy in gas (chemical) is changed to hea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10% of the electricity flowing through a light bulb is converted to light energy (the rest is hea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3" descr="C:\Users\jolill\AppData\Local\Microsoft\Windows\Temporary Internet Files\Content.IE5\9ISTM1HJ\MCj02909300000[1].wmf"/>
          <p:cNvPicPr/>
          <p:nvPr/>
        </p:nvPicPr>
        <p:blipFill>
          <a:blip r:embed="rId1"/>
          <a:stretch/>
        </p:blipFill>
        <p:spPr>
          <a:xfrm rot="840000">
            <a:off x="7924320" y="914400"/>
            <a:ext cx="8845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electricit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vement of elec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are normally neutral, but interactions can create imbal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electrons move through metal wires, they rub against the wire – creating friction.  This resistance creates heat and even ligh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where does this supply of electrons come fro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C:\Users\jolill\AppData\Local\Microsoft\Windows\Temporary Internet Files\Content.IE5\7CPA9WEO\MCj04369170000[1].png"/>
          <p:cNvPicPr/>
          <p:nvPr/>
        </p:nvPicPr>
        <p:blipFill>
          <a:blip r:embed="rId1"/>
          <a:stretch/>
        </p:blipFill>
        <p:spPr>
          <a:xfrm>
            <a:off x="7010280" y="228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77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" dur="77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2" dur="77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4" dur="77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youtube.com/watch?v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=f5Vwxabb12s&amp;feature=related</a:t>
            </a:r>
            <a:br>
              <a:rPr sz="2000"/>
            </a:b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youtube.com/watch?v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=mUMAfSBR4yg&amp;feature=related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Content Placeholder 3" descr="light-bulb-label.jpg"/>
          <p:cNvPicPr/>
          <p:nvPr/>
        </p:nvPicPr>
        <p:blipFill>
          <a:blip r:embed="rId7"/>
          <a:stretch/>
        </p:blipFill>
        <p:spPr>
          <a:xfrm>
            <a:off x="685800" y="1371600"/>
            <a:ext cx="75438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8862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gnets &amp; Gen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metacafe.com/watch/912594/simple_electric_generator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sources, for example coal, are burn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boils water, which produces s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team spins a tur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urbine spins a mag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agnet creates a flow of electr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flow of electrons travels from the power plant to your hom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3" descr="magnet.jpg"/>
          <p:cNvPicPr/>
          <p:nvPr/>
        </p:nvPicPr>
        <p:blipFill>
          <a:blip r:embed="rId1"/>
          <a:stretch/>
        </p:blipFill>
        <p:spPr>
          <a:xfrm>
            <a:off x="4267080" y="0"/>
            <a:ext cx="434340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E:\Chapter_12\Present\Images\12_07a-c.jpg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Pictorial image showing the journey of electricity from the power station to our houses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887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Evaluating Energy Resourc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U.S. has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.6%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 of world population; uses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24%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 of the world’s energy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0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84%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from nonrenewable fossil fuels (oil, coal, &amp; natural gas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0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7%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from nuclear powe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0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9%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from renewable sources (hydropower, geothermal, solar, biomas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C:\Users\jolill\AppData\Local\Microsoft\Windows\Temporary Internet Files\Content.IE5\9ISTM1HJ\MPj04373700000[1].jpg"/>
          <p:cNvPicPr/>
          <p:nvPr/>
        </p:nvPicPr>
        <p:blipFill>
          <a:blip r:embed="rId1"/>
          <a:stretch/>
        </p:blipFill>
        <p:spPr>
          <a:xfrm>
            <a:off x="5867280" y="0"/>
            <a:ext cx="3276720" cy="37432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ergy – Where does it come from and why does it produce wast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xploring our traditional sources of energy: NONRENEWABLE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apter 1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S 3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12_04"/>
          <p:cNvPicPr/>
          <p:nvPr/>
        </p:nvPicPr>
        <p:blipFill>
          <a:blip r:embed="rId1"/>
          <a:stretch/>
        </p:blipFill>
        <p:spPr>
          <a:xfrm>
            <a:off x="914400" y="990720"/>
            <a:ext cx="6705720" cy="56480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obal Primary Energy Supp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9" descr="12_T01"/>
          <p:cNvPicPr/>
          <p:nvPr/>
        </p:nvPicPr>
        <p:blipFill>
          <a:blip r:embed="rId1"/>
          <a:stretch/>
        </p:blipFill>
        <p:spPr>
          <a:xfrm>
            <a:off x="533520" y="533520"/>
            <a:ext cx="8367480" cy="5790960"/>
          </a:xfrm>
          <a:prstGeom prst="rect">
            <a:avLst/>
          </a:prstGeom>
          <a:ln w="0">
            <a:noFill/>
          </a:ln>
        </p:spPr>
      </p:pic>
      <p:sp>
        <p:nvSpPr>
          <p:cNvPr id="196" name="Oval 6"/>
          <p:cNvSpPr/>
          <p:nvPr/>
        </p:nvSpPr>
        <p:spPr>
          <a:xfrm>
            <a:off x="6400800" y="3048120"/>
            <a:ext cx="533520" cy="304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12_10"/>
          <p:cNvPicPr/>
          <p:nvPr/>
        </p:nvPicPr>
        <p:blipFill>
          <a:blip r:embed="rId1"/>
          <a:stretch/>
        </p:blipFill>
        <p:spPr>
          <a:xfrm>
            <a:off x="533520" y="363600"/>
            <a:ext cx="779148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lyze the fig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primary energy source for all of our transporta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largest end use consumer of U.S. energ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largest primary energy source use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second largest primary energy sourc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smallest utilized primary energy source and what is used fo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primary energy source powers all sectors of end us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coal used to powe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re does industry draw its power from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nuclear power used fo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only end use item that has one primary energy sourc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288720"/>
            <a:ext cx="7739280" cy="70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alibri"/>
              </a:rPr>
              <a:t>Fossil Fuel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669160" cy="552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Fossil fuels originated from the decay of living organisms millions of years ago, and account for about 80% of the energy generated in the U.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The fossil fuels used in energy generation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Natural gas, which is 70 - 80% methane (CH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iquid hydrocarbons obtained from the distillation of petrole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Coal - a solid mixture of large molecules with a H/C ratio of about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5403960" y="6519960"/>
            <a:ext cx="373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www.lander.edu/rlayland/Chem%20103/chap_12.ppt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5" descr="12_11ab"/>
          <p:cNvPicPr/>
          <p:nvPr/>
        </p:nvPicPr>
        <p:blipFill>
          <a:blip r:embed="rId1"/>
          <a:stretch/>
        </p:blipFill>
        <p:spPr>
          <a:xfrm>
            <a:off x="776160" y="1600200"/>
            <a:ext cx="7591680" cy="46483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Fossil Fuels Are Form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Fossil Fuels Are Form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6" descr="12_11c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33520" y="15228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ergy resources removed from the earth’s crust include: oil, natural gas, coal, and ura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_x000e_MILES81902.jpg                                                 00007890&#9;ROCKETEER                      ABA78158: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6629400" y="6580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ff"/>
                </a:solidFill>
                <a:uFillTx/>
                <a:latin typeface="Arial"/>
              </a:rPr>
              <a:t>www.bio.miami.edu/beck/esc101/Chapter14&amp;15.p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" descr="E:\Chapter_12\Present\Images\12_T03.jpg"/>
          <p:cNvPicPr/>
          <p:nvPr/>
        </p:nvPicPr>
        <p:blipFill>
          <a:blip r:embed="rId1"/>
          <a:stretch/>
        </p:blipFill>
        <p:spPr>
          <a:xfrm>
            <a:off x="1219320" y="2286000"/>
            <a:ext cx="7238880" cy="38098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al is cheaper but gas is clean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al: $0.85 per million Btu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Gas: $2.18 per million Btu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ude Oil: $2.97 per million B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822960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8908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Problems with Fossil Fue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Fossil fuels are nonrenewable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At projected consumption rates, natural gas and petroleum will be depleted before the end of the 21st cent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mpurities in fossil fuels are a major source of pol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urning fossil fuels produce large amounts of CO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, which contributes to global war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1028"/>
          <p:cNvSpPr/>
          <p:nvPr/>
        </p:nvSpPr>
        <p:spPr>
          <a:xfrm>
            <a:off x="5403960" y="6519960"/>
            <a:ext cx="373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www.lander.edu/rlayland/Chem%20103/chap_12.ppt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066680"/>
            <a:ext cx="8610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pee"/>
              </a:rPr>
              <a:t>What is energ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pee"/>
              </a:rPr>
              <a:t>What forms does it come in &amp; how do we use 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pee"/>
              </a:rPr>
              <a:t>Understand that ALL sources of energy have costs and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pee"/>
              </a:rPr>
              <a:t>Why do we use nonrenewabl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4" descr="C:\Users\jolill\AppData\Local\Microsoft\Windows\Temporary Internet Files\Content.IE5\E3FIT9Z8\MPj04372480000[1].jpg"/>
          <p:cNvPicPr/>
          <p:nvPr/>
        </p:nvPicPr>
        <p:blipFill>
          <a:blip r:embed="rId1"/>
          <a:stretch/>
        </p:blipFill>
        <p:spPr>
          <a:xfrm>
            <a:off x="5638680" y="4114800"/>
            <a:ext cx="3191040" cy="2438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Users\jolill\AppData\Local\Microsoft\Windows\Temporary Internet Files\Content.IE5\9ISTM1HJ\MPj04373530000[1].jpg"/>
          <p:cNvPicPr/>
          <p:nvPr/>
        </p:nvPicPr>
        <p:blipFill>
          <a:blip r:embed="rId2"/>
          <a:stretch/>
        </p:blipFill>
        <p:spPr>
          <a:xfrm>
            <a:off x="2743200" y="4038480"/>
            <a:ext cx="2743200" cy="2590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:\Users\jolill\AppData\Local\Microsoft\Windows\Temporary Internet Files\Content.IE5\7CPA9WEO\MPj04372980000[1].jpg"/>
          <p:cNvPicPr/>
          <p:nvPr/>
        </p:nvPicPr>
        <p:blipFill>
          <a:blip r:embed="rId3"/>
          <a:stretch/>
        </p:blipFill>
        <p:spPr>
          <a:xfrm>
            <a:off x="380880" y="4038480"/>
            <a:ext cx="2487600" cy="2514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C:\Users\jolill\AppData\Local\Microsoft\Windows\Temporary Internet Files\Content.IE5\7CPA9WEO\MCj03266400000[1].wmf"/>
          <p:cNvPicPr/>
          <p:nvPr/>
        </p:nvPicPr>
        <p:blipFill>
          <a:blip r:embed="rId4"/>
          <a:stretch/>
        </p:blipFill>
        <p:spPr>
          <a:xfrm>
            <a:off x="6934320" y="208080"/>
            <a:ext cx="1574640" cy="14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C:\Users\jolill\AppData\Local\Microsoft\Windows\Temporary Internet Files\Content.IE5\E3FIT9Z8\MCj04326430000[1].png"/>
          <p:cNvPicPr/>
          <p:nvPr/>
        </p:nvPicPr>
        <p:blipFill>
          <a:blip r:embed="rId5"/>
          <a:stretch/>
        </p:blipFill>
        <p:spPr>
          <a:xfrm rot="2247000">
            <a:off x="7137000" y="2793960"/>
            <a:ext cx="13906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380880" y="838080"/>
            <a:ext cx="80773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Energy Resource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1. Oi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2. Natural G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3. Co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4. Nuclear Energ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6629400" y="6599160"/>
            <a:ext cx="2514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00ff"/>
                </a:solidFill>
                <a:uFillTx/>
                <a:latin typeface="Arial"/>
              </a:rPr>
              <a:t>www.bio.miami.edu/beck/esc101/Chapter14&amp;15.pp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alibri"/>
              </a:rPr>
              <a:t>Oi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Deposits of crude oil often are trapped within the earth's crust and can be extracted by drilling a 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Fossil fuel, produced by the decomposition of deeply buried organic matter from plants &amp; anim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Crude oil:  complex liquid mixture of hydrocarbons, with small amounts of S, O, N impu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2880" y="274320"/>
            <a:ext cx="37339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ude O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240" y="533520"/>
            <a:ext cx="487692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troleum (crude oi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ck, black oil as it comes out of the gro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Estimated reserve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ducated guesses about the location and size of oil or natural gas depos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Proven reserv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how much oil can be economically obtained from the oil fi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Produc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withdrawal of oil or gas from the oil fi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valuable natural resource (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soline, heating oil, jet fuel, grease, wax, asphalt, plastics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5" descr="oilblob"/>
          <p:cNvPicPr/>
          <p:nvPr/>
        </p:nvPicPr>
        <p:blipFill>
          <a:blip r:embed="rId1"/>
          <a:stretch/>
        </p:blipFill>
        <p:spPr>
          <a:xfrm>
            <a:off x="5257800" y="1523880"/>
            <a:ext cx="369576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il 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composi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ancient sea plants &amp; anim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ick buri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al decayed (some carbon remai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ea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millions of years to 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7339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il Ext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876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imary Oil Recov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ill 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mp out oil that flows by gravity into 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condary Oil Recov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ject water into nearby water to force oil into we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9" descr="Typical production"/>
          <p:cNvPicPr/>
          <p:nvPr/>
        </p:nvPicPr>
        <p:blipFill>
          <a:blip r:embed="rId1"/>
          <a:stretch/>
        </p:blipFill>
        <p:spPr>
          <a:xfrm>
            <a:off x="4800600" y="1828800"/>
            <a:ext cx="4038480" cy="3492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main"/>
          <p:cNvPicPr/>
          <p:nvPr/>
        </p:nvPicPr>
        <p:blipFill>
          <a:blip r:embed="rId2"/>
          <a:stretch/>
        </p:blipFill>
        <p:spPr>
          <a:xfrm>
            <a:off x="4648320" y="228600"/>
            <a:ext cx="42670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hanced (Tertiary) Oil Recov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7" descr="CO2flooding"/>
          <p:cNvPicPr/>
          <p:nvPr/>
        </p:nvPicPr>
        <p:blipFill>
          <a:blip r:embed="rId1"/>
          <a:stretch/>
        </p:blipFill>
        <p:spPr>
          <a:xfrm>
            <a:off x="600120" y="1447920"/>
            <a:ext cx="79344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O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rganization of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P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troleum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xporting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C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 up in 1960 so developing countries would get a fair price for the resour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 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67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world’s o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udi Arabia (#1), Iraq (#2), Iran, Kuwait, UAE, Algeria, Libya, Nigeria, Ecuador, Gabon, Indonesia, Qatar, and Venezuel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C:\WINDOWS\DESKTOP\APES Powerpoint\energy\worldreserves.gif"/>
          <p:cNvPicPr/>
          <p:nvPr/>
        </p:nvPicPr>
        <p:blipFill>
          <a:blip r:embed="rId1"/>
          <a:stretch/>
        </p:blipFill>
        <p:spPr>
          <a:xfrm>
            <a:off x="-1371600" y="0"/>
            <a:ext cx="11658600" cy="725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3429000" y="457200"/>
            <a:ext cx="5181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Oil in U.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533520" y="609480"/>
            <a:ext cx="327636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3%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of world rese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ses nearly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0%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of world reser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65% for transportat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creasing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ependence on import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D:\users\prich\lite_web\L11_figs\M15_08.pct"/>
          <p:cNvPicPr/>
          <p:nvPr/>
        </p:nvPicPr>
        <p:blipFill>
          <a:blip r:embed="rId1"/>
          <a:stretch/>
        </p:blipFill>
        <p:spPr>
          <a:xfrm>
            <a:off x="3581280" y="1219320"/>
            <a:ext cx="4902480" cy="541008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"/>
          <p:cNvSpPr/>
          <p:nvPr/>
        </p:nvSpPr>
        <p:spPr>
          <a:xfrm>
            <a:off x="6629400" y="6580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ff"/>
                </a:solidFill>
                <a:uFillTx/>
                <a:latin typeface="Arial"/>
              </a:rPr>
              <a:t>www.bio.miami.edu/beck/esc101/Chapter14&amp;15.p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_x000e_MILES81907.jpg                                                 00007890&#9;ROCKETEER                      ABA78158:"/>
          <p:cNvPicPr/>
          <p:nvPr/>
        </p:nvPicPr>
        <p:blipFill>
          <a:blip r:embed="rId1"/>
          <a:stretch/>
        </p:blipFill>
        <p:spPr>
          <a:xfrm>
            <a:off x="457200" y="2133720"/>
            <a:ext cx="8153280" cy="4410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"/>
          <p:cNvSpPr/>
          <p:nvPr/>
        </p:nvSpPr>
        <p:spPr>
          <a:xfrm>
            <a:off x="380880" y="228600"/>
            <a:ext cx="815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w oil prices have stimulated economic growth, they have discouraged / prevented improvements in energy efficiency and alternative technologies favoring renewable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C:\Users\jolill\AppData\Local\Microsoft\Windows\Temporary Internet Files\Content.IE5\ZIHHMIK6\MPj04372970000[1].jpg"/>
          <p:cNvPicPr/>
          <p:nvPr/>
        </p:nvPicPr>
        <p:blipFill>
          <a:blip r:embed="rId1"/>
          <a:stretch/>
        </p:blipFill>
        <p:spPr>
          <a:xfrm>
            <a:off x="0" y="228600"/>
            <a:ext cx="1670040" cy="16732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What is our best immediate energy optio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Cut out unnecessary energy waste by improving energy 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Transition to a renewable  or solar 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n, wind, flowing water, biomass, geothermal, hydrogen g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Burn more coal &amp; synthetic gas/liqu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Natural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Nuclear po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C:\Users\jolill\AppData\Local\Microsoft\Windows\Temporary Internet Files\Content.IE5\E3FIT9Z8\MCBD06663_0000[1].wmf"/>
          <p:cNvPicPr/>
          <p:nvPr/>
        </p:nvPicPr>
        <p:blipFill>
          <a:blip r:embed="rId2"/>
          <a:stretch/>
        </p:blipFill>
        <p:spPr>
          <a:xfrm>
            <a:off x="6553080" y="4724280"/>
            <a:ext cx="2103480" cy="1825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C:\Users\jolill\AppData\Local\Microsoft\Windows\Temporary Internet Files\Content.IE5\9ISTM1HJ\MCj04376290000[1].png"/>
          <p:cNvPicPr/>
          <p:nvPr/>
        </p:nvPicPr>
        <p:blipFill>
          <a:blip r:embed="rId3"/>
          <a:stretch/>
        </p:blipFill>
        <p:spPr>
          <a:xfrm>
            <a:off x="7086600" y="106668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 Barrel of Persian Gulf Oil Really Costs U.S. Consum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$30 in initial cos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+ $61 for military support servic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 $91 per barrel of o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Prentice Hall 200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il near $119 after report of Iranian boat fi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SNBC April. 25,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_x000e_MILES81910.jpg                                                 00007890&#9;ROCKETEER                      ABA78158: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4"/>
          <p:cNvSpPr/>
          <p:nvPr/>
        </p:nvSpPr>
        <p:spPr>
          <a:xfrm>
            <a:off x="6629400" y="6580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ff"/>
                </a:solidFill>
                <a:uFillTx/>
                <a:latin typeface="Arial"/>
              </a:rPr>
              <a:t>www.bio.miami.edu/beck/esc101/Chapter14&amp;15.p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027" descr="http://cwx.prenhall.com/bookbind/pubbooks/hillchem3/medialib/media_portfolio/text_images/CH06/FG06_21.JPG"/>
          <p:cNvPicPr/>
          <p:nvPr/>
        </p:nvPicPr>
        <p:blipFill>
          <a:blip r:embed="rId1"/>
          <a:stretch/>
        </p:blipFill>
        <p:spPr>
          <a:xfrm>
            <a:off x="685800" y="0"/>
            <a:ext cx="7684920" cy="685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WINDOWS\DESKTOP\APES Powerpoint\energy\distillationcolumn.gif"/>
          <p:cNvPicPr/>
          <p:nvPr/>
        </p:nvPicPr>
        <p:blipFill>
          <a:blip r:embed="rId1"/>
          <a:stretch/>
        </p:blipFill>
        <p:spPr>
          <a:xfrm>
            <a:off x="685800" y="0"/>
            <a:ext cx="7924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ve forms of O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il Shale &amp; Tar S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 forms of rock/sand that can be transformed (crushed/heated or pressurized) to be use like crude oi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S: In Canada &amp; U.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: Need ½ barrel of oil to extract &amp; purif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s large amounts of 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lutes groundwater, air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03" dur="2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6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5" descr="tar_sands3"/>
          <p:cNvPicPr/>
          <p:nvPr/>
        </p:nvPicPr>
        <p:blipFill>
          <a:blip r:embed="rId1"/>
          <a:stretch/>
        </p:blipFill>
        <p:spPr>
          <a:xfrm>
            <a:off x="304920" y="762120"/>
            <a:ext cx="4029120" cy="3019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tar_sands_lg"/>
          <p:cNvPicPr/>
          <p:nvPr/>
        </p:nvPicPr>
        <p:blipFill>
          <a:blip r:embed="rId2"/>
          <a:stretch/>
        </p:blipFill>
        <p:spPr>
          <a:xfrm>
            <a:off x="4419720" y="762120"/>
            <a:ext cx="4267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 stuf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youtube.com/watch?v=1MiQCBIx1mM&amp;feature=rel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an air conditioner works (not the energy about it thoug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Energy Consumption in the United St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143000"/>
            <a:ext cx="31240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780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780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(stea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780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780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ural 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780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780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clear 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609480" y="4191120"/>
            <a:ext cx="3505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4, and 5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3.5% of U.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9" descr="12_05"/>
          <p:cNvPicPr/>
          <p:nvPr/>
        </p:nvPicPr>
        <p:blipFill>
          <a:blip r:embed="rId1"/>
          <a:stretch/>
        </p:blipFill>
        <p:spPr>
          <a:xfrm>
            <a:off x="3962520" y="990720"/>
            <a:ext cx="49528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8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8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8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8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9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6" dur="2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914400" y="380880"/>
          <a:ext cx="7772400" cy="6264360"/>
        </p:xfrm>
        <a:graphic>
          <a:graphicData uri="http://schemas.openxmlformats.org/drawingml/2006/table">
            <a:tbl>
              <a:tblPr/>
              <a:tblGrid>
                <a:gridCol w="5181480"/>
                <a:gridCol w="2590920"/>
              </a:tblGrid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o Has the Oil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erv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th Ame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th and Central Ame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stern Eur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mer Soviet Count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ddle E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3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f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r East and Ocea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33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228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6228"/>
                </a:solidFill>
                <a:latin typeface="Calibri"/>
              </a:rPr>
              <a:t>No matter what our decision…</a:t>
            </a:r>
            <a:br>
              <a:rPr sz="3600"/>
            </a:br>
            <a:r>
              <a:rPr b="1" lang="en-US" sz="3600" spc="-1" strike="noStrike">
                <a:solidFill>
                  <a:srgbClr val="4f6228"/>
                </a:solidFill>
                <a:latin typeface="Calibri"/>
              </a:rPr>
              <a:t>Ask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352680" y="152280"/>
            <a:ext cx="5562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uch will be available in the next 15 years?  the next 30 years? longter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source’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et energ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iel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uch will it cost to develop, phase in, and use this energy resourc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will extracting, transporting, and using the energy resource affect the environme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this energy source help us sustain the eart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3" descr="C:\Users\jolill\AppData\Local\Microsoft\Windows\Temporary Internet Files\Content.IE5\7CPA9WEO\MPj04372720000[1].jpg"/>
          <p:cNvPicPr/>
          <p:nvPr/>
        </p:nvPicPr>
        <p:blipFill>
          <a:blip r:embed="rId1"/>
          <a:stretch/>
        </p:blipFill>
        <p:spPr>
          <a:xfrm>
            <a:off x="152280" y="2438280"/>
            <a:ext cx="2971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2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d you beat Mrs. Li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43000"/>
            <a:ext cx="83059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analyzed your (presumed) usage of electri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energy is second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Primary Energy Resources: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  The fossil fuels(oil, gas, and coal), nuclear energy, falling water, geothermal, and solar energ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Secondary Energy Resources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:  Those sources which are derived from primary resources such as electricity, fuels from coal, (synthetic natural gas and synthetic gasoline), as well as alcohol fu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wat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watt = energy to lift 100 g (or 1 Newton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1.0 second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measure of energy over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Energy </a:t>
            </a: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The ability to do work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embe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he amount of energy in the universe is const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What are the 2 major laws??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What are the 6 major form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3" descr="C:\Users\jolill\AppData\Local\Microsoft\Windows\Temporary Internet Files\Content.IE5\9ISTM1HJ\MCj02909300000[1].wmf"/>
          <p:cNvPicPr/>
          <p:nvPr/>
        </p:nvPicPr>
        <p:blipFill>
          <a:blip r:embed="rId1"/>
          <a:stretch/>
        </p:blipFill>
        <p:spPr>
          <a:xfrm rot="1311000">
            <a:off x="7238880" y="2209320"/>
            <a:ext cx="11494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Units of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calorie = amount of heat needed to heat 1 g of water 1 degree Celsi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cal = 4.187 Jo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Btu (British thermal unit) = amount of heat energy needed to raise the temp of 1 pound of water by 1 degree Fahrenhe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Btu = 1,054 joules; 252 cal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Q (quad) = 1 quadrillion Btu (very large!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.S. uses ~ 1 quad of energy about every 3.7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Units of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kWh = one kilowatt of electricity over 1 h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nergy it takes to burn a 100 watt light bulb for 10 hours (costs an average of 9 cen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6 million jo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,412 B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CF = Cubic foot: a measure of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CF of natural gas contains about 1020 B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5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1:50:44Z</dcterms:created>
  <dc:creator>Joanne Lilliendahl</dc:creator>
  <dc:description/>
  <dc:language>en-US</dc:language>
  <cp:lastModifiedBy>udsd</cp:lastModifiedBy>
  <dcterms:modified xsi:type="dcterms:W3CDTF">2008-05-09T22:07:29Z</dcterms:modified>
  <cp:revision>74</cp:revision>
  <dc:subject/>
  <dc:title>Energy – Where does it come from and why does it produce waste?</dc:title>
</cp:coreProperties>
</file>