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31.jpeg" ContentType="image/jpeg"/>
  <Override PartName="/ppt/media/image30.jpeg" ContentType="image/jpeg"/>
  <Override PartName="/ppt/media/image1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8E3-3533-4A10-9025-9F19F03FB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5A7-862D-4B6E-948C-8A44DEA6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AC9-8B9F-4928-A05D-AC6F8188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E5F-4EA6-4E6A-9AA2-95B80FF9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B60F-3AAC-4E4A-A3A4-1B466FA8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17AD-746A-427F-BA08-8736CF73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49D-B308-4887-8B68-C296CD1D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ABFE-E970-41ED-9F15-856F7E2A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0400-3022-41B2-919A-E321BDC7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705-7B64-44F2-A5F8-FDC246D6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1 definitely.  Numbers 2-5 are contested by m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BB77-D5C9-4863-B11D-820DB78C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D41E-8BE4-4954-BB06-735FB135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50B6-15E8-43D8-8FCB-242EB13C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4E4-C3E1-4C05-9604-B65D265A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an apple or a 100 g mass next to a vertical meter stick, and lift it to the top of the meter stick in 1.0 second time. “How much power did it take to do this? – One watt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9F23-7F71-42BC-9635-7D109C1F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a.doe.gov/kids/classactivities/EnergyAnalysisEIA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DB12-1EEB-4C57-9C50-762386C2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E83-7197-459A-9CB7-3445C06D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2AF-8C34-430B-BE4D-D0CDCCC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EC6-91B8-4C1D-8060-01326C7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C78-C8CF-4A78-9FA0-3CB9D31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238D-8714-4434-80DD-6DBAE141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C0AC-D61E-40E0-9349-0FE2F8E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B88-976E-4B52-8D49-8A6A2095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C253-953F-42CC-9428-0218788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BC8-E080-4B75-83F3-34FFD3F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DAE5-1436-4BF2-B1B5-D251B55C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5F1-6B4E-4960-835A-8330C90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38F-B0BD-4BD3-89AC-F7A71629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F6F6-55AE-45A9-A3B7-959575A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3B6-1E46-45C8-9CAE-8001A18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7A66-98D3-4E0C-87DA-71469EB1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58B5-C2F6-4FA5-ABF9-B0EF3C5E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BC2-96F2-4C0B-B592-011D5EEA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2519A-23C9-4405-BEE3-F0A058DE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4D777-5775-49E3-A3D4-ABB3C029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A0722-789A-4440-B742-F79ADBB6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03A0D-B0F7-4DD8-9839-226440F8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1B749-8CD0-4F0E-9342-3D125820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9BC-CB5F-4CA1-97C6-44E262E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B2C54-55AC-407A-8D2F-41F9CA1F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CD90F-B0AE-427A-93E4-AC229FC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85921-1EEA-43F8-94F9-C1A7D41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FD64B-A6F9-4AFD-95AB-D72AE2C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75781-2635-4E88-8960-EB94DA8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33A04-B9CC-430B-9E88-39523DB1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053F9-AF8B-43CC-A11B-D0D2A462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E70-2E3F-4C67-9FC0-AF98960E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74F-2ED8-43A0-B5A0-41770A14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863-A2CC-48FD-BF6C-13CD32D9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F89-9A48-43E8-AF4F-8ACC2E4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CC6-12C7-4BD5-B3EB-23C95C57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D8A-8AB7-4E62-987C-3070A79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53DC-2056-427E-9838-0E94E5619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111-C0A0-4345-9DDD-E3543E555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CC1D-9522-4897-9A1A-F22288FF5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ture-newsletter.com/nuclear/nuclear-power-plant-9igh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5Vwxabb12s&amp;feature=related" TargetMode="External"/><Relationship Id="rId2" Type="http://schemas.openxmlformats.org/officeDocument/2006/relationships/hyperlink" Target="http://www.youtube.com/watch?v=f5Vwxabb12s&amp;feature=related" TargetMode="External"/><Relationship Id="rId3" Type="http://schemas.openxmlformats.org/officeDocument/2006/relationships/hyperlink" Target="http://www.youtube.com/watch?v=f5Vwxabb12s&amp;feature=related" TargetMode="External"/><Relationship Id="rId4" Type="http://schemas.openxmlformats.org/officeDocument/2006/relationships/hyperlink" Target="http://www.youtube.com/watch?v=mUMAfSBR4yg&amp;feature=related" TargetMode="External"/><Relationship Id="rId5" Type="http://schemas.openxmlformats.org/officeDocument/2006/relationships/hyperlink" Target="http://www.youtube.com/watch?v=mUMAfSBR4yg&amp;feature=related" TargetMode="External"/><Relationship Id="rId6" Type="http://schemas.openxmlformats.org/officeDocument/2006/relationships/hyperlink" Target="http://www.youtube.com/watch?v=mUMAfSBR4yg&amp;feature=related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3657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How can changing a light bulb reduce greenhouse g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jolill\AppData\Local\Microsoft\Windows\Temporary Internet Files\Content.IE5\7CPA9WEO\MPj04373310000[1].jpg"/>
          <p:cNvPicPr/>
          <p:nvPr/>
        </p:nvPicPr>
        <p:blipFill>
          <a:blip r:embed="rId1"/>
          <a:stretch/>
        </p:blipFill>
        <p:spPr>
          <a:xfrm>
            <a:off x="2438280" y="4041720"/>
            <a:ext cx="2819520" cy="28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jolill\AppData\Local\Microsoft\Windows\Temporary Internet Files\Content.IE5\9ISTM1HJ\MCj02909300000[1].wmf"/>
          <p:cNvPicPr/>
          <p:nvPr/>
        </p:nvPicPr>
        <p:blipFill>
          <a:blip r:embed="rId2"/>
          <a:stretch/>
        </p:blipFill>
        <p:spPr>
          <a:xfrm>
            <a:off x="7696080" y="685800"/>
            <a:ext cx="11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jolill\AppData\Local\Microsoft\Windows\Temporary Internet Files\Content.IE5\ZIHHMIK6\MPj0437330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350532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jolill\AppData\Local\Microsoft\Windows\Temporary Internet Files\Content.IE5\7CPA9WEO\MCj04347170000[1].wmf"/>
          <p:cNvPicPr/>
          <p:nvPr/>
        </p:nvPicPr>
        <p:blipFill>
          <a:blip r:embed="rId4"/>
          <a:stretch/>
        </p:blipFill>
        <p:spPr>
          <a:xfrm>
            <a:off x="7924680" y="2971800"/>
            <a:ext cx="765360" cy="179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lill\AppData\Local\Microsoft\Windows\Temporary Internet Files\Content.IE5\7CPA9WEO\MPj04372340000[1].jpg"/>
          <p:cNvPicPr/>
          <p:nvPr/>
        </p:nvPicPr>
        <p:blipFill>
          <a:blip r:embed="rId5"/>
          <a:stretch/>
        </p:blipFill>
        <p:spPr>
          <a:xfrm>
            <a:off x="5486400" y="419112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jolill\AppData\Local\Microsoft\Windows\Temporary Internet Files\Content.IE5\9ISTM1HJ\MPj04372700000[1].jpg"/>
          <p:cNvPicPr/>
          <p:nvPr/>
        </p:nvPicPr>
        <p:blipFill>
          <a:blip r:embed="rId6"/>
          <a:stretch/>
        </p:blipFill>
        <p:spPr>
          <a:xfrm>
            <a:off x="762120" y="4648320"/>
            <a:ext cx="152712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th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wind, mov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elect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ergy of temperatur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tter temperatures can do more 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Electrical Wires"/>
          <p:cNvPicPr/>
          <p:nvPr/>
        </p:nvPicPr>
        <p:blipFill>
          <a:blip r:embed="rId1"/>
          <a:stretch/>
        </p:blipFill>
        <p:spPr>
          <a:xfrm>
            <a:off x="723888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windmills"/>
          <p:cNvPicPr/>
          <p:nvPr/>
        </p:nvPicPr>
        <p:blipFill>
          <a:blip r:embed="rId2"/>
          <a:stretch/>
        </p:blipFill>
        <p:spPr>
          <a:xfrm>
            <a:off x="4952880" y="1295280"/>
            <a:ext cx="2067120" cy="27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urning-of-woo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2319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pho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bonds between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food, wood, gasoline, batteries, coal, oil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Nuclear power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nuclear-power-plant-9i.jpg (96092 Byte) nuclear power plant Leibsta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876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jolill\AppData\Local\Microsoft\Windows\Temporary Internet Files\Content.IE5\9ISTM1HJ\MCj04325890000[1].png"/>
          <p:cNvPicPr/>
          <p:nvPr/>
        </p:nvPicPr>
        <p:blipFill>
          <a:blip r:embed="rId3"/>
          <a:stretch/>
        </p:blipFill>
        <p:spPr>
          <a:xfrm>
            <a:off x="48769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jolill\AppData\Local\Microsoft\Windows\Temporary Internet Files\Content.IE5\ZIHHMIK6\MCj02333910000[1].wmf"/>
          <p:cNvPicPr/>
          <p:nvPr/>
        </p:nvPicPr>
        <p:blipFill>
          <a:blip r:embed="rId4"/>
          <a:stretch/>
        </p:blipFill>
        <p:spPr>
          <a:xfrm>
            <a:off x="6400800" y="2819520"/>
            <a:ext cx="221616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nservation of Energ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can neither be created nor destr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in the universe is cons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an’t destroy energy,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 its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Light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jolill\AppData\Local\Microsoft\Windows\Temporary Internet Files\Content.IE5\7CPA9WEO\MCj02903820000[1].wmf"/>
          <p:cNvPicPr/>
          <p:nvPr/>
        </p:nvPicPr>
        <p:blipFill>
          <a:blip r:embed="rId1"/>
          <a:stretch/>
        </p:blipFill>
        <p:spPr>
          <a:xfrm>
            <a:off x="5562720" y="3995640"/>
            <a:ext cx="273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Qualit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w temperature he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east useful energy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90% of energy in gas (chemical) is changed to hea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0% of the electricity flowing through a light bulb is converted to light energy (the rest is he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840000">
            <a:off x="7924320" y="914400"/>
            <a:ext cx="8845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electri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normally neutral, but interactions can create imbal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electrons move through metal wires, they rub against the wire – creating friction.  This resistance creates heat and even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 does this supply of electrons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jolill\AppData\Local\Microsoft\Windows\Temporary Internet Files\Content.IE5\7CPA9WEO\MCj04369170000[1].png"/>
          <p:cNvPicPr/>
          <p:nvPr/>
        </p:nvPicPr>
        <p:blipFill>
          <a:blip r:embed="rId1"/>
          <a:stretch/>
        </p:blipFill>
        <p:spPr>
          <a:xfrm>
            <a:off x="701028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f5Vwxabb12s&amp;feature=related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=mUMAfSBR4yg&amp;feature=rela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light-bulb-label.jpg"/>
          <p:cNvPicPr/>
          <p:nvPr/>
        </p:nvPicPr>
        <p:blipFill>
          <a:blip r:embed="rId7"/>
          <a:stretch/>
        </p:blipFill>
        <p:spPr>
          <a:xfrm>
            <a:off x="685800" y="1371600"/>
            <a:ext cx="7543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nets &amp;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metacafe.com/watch/912594/simple_electric_genera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ources, for example coal, are bur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oils water, which produces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eam spins a tur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rbine spins a mag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et creates a flow of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low of electrons travels from the power plant to your ho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gnet.jpg"/>
          <p:cNvPicPr/>
          <p:nvPr/>
        </p:nvPicPr>
        <p:blipFill>
          <a:blip r:embed="rId1"/>
          <a:stretch/>
        </p:blipFill>
        <p:spPr>
          <a:xfrm>
            <a:off x="4267080" y="0"/>
            <a:ext cx="4343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Chapter_12\Present\Images\12_07a-c.jp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ictorial image showing the journey of electricity from the power station to our houses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Evaluating Energy Resour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U.S. ha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.6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world population; use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the world’s energy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4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onrenewable fossil fuels (oil, coal, &amp; natural ga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uclear pow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renewable sources (hydropower, geothermal, solar, bioma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Users\jolill\AppData\Local\Microsoft\Windows\Temporary Internet Files\Content.IE5\9ISTM1HJ\MPj04373700000[1]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74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– Where does it come from and why does it produc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ploring our traditional sources of energy: NONRENEWABL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 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2_04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5648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Primary Energy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12_T01"/>
          <p:cNvPicPr/>
          <p:nvPr/>
        </p:nvPicPr>
        <p:blipFill>
          <a:blip r:embed="rId1"/>
          <a:stretch/>
        </p:blipFill>
        <p:spPr>
          <a:xfrm>
            <a:off x="533520" y="533520"/>
            <a:ext cx="8367480" cy="579096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6400800" y="3048120"/>
            <a:ext cx="5335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2_10"/>
          <p:cNvPicPr/>
          <p:nvPr/>
        </p:nvPicPr>
        <p:blipFill>
          <a:blip r:embed="rId1"/>
          <a:stretch/>
        </p:blipFill>
        <p:spPr>
          <a:xfrm>
            <a:off x="533520" y="363600"/>
            <a:ext cx="7791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the fig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rimary energy source for all of our transpor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end use consumer of U.S. ener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primary energy source u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econd largest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mallest utilized primary energy source and what is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rimary energy source powers all sectors of end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coal used to pow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does industry draw its power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nuclear power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nly end use item that has one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88720"/>
            <a:ext cx="77392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Fossil Fu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6916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originated from the decay of living organisms millions of years ago, and account for about 80% of the energy generated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fossil fuels used in energy gene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atural gas, which is 70 - 80% methane (C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iquid hydrocarbons obtained from the distillation of 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al - a solid mixture of large molecules with a H/C ratio of abou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2_11ab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648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6" descr="12_11c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ergy resources removed from the earth’s crust include: oil, natural gas, coal, and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_x000e_MILES81902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E:\Chapter_12\Present\Images\12_T03.jpg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 is cheaper but gas is cle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: $0.85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Gas: $2.18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de Oil: $2.97 per million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890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s with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are non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t projected consumption rates, natural gas and petroleum will be depleted before the end of the 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mpurities in fossil fuels are a major source of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ning fossil fuels produce large amount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, which contributes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is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forms does it come in &amp; how do we use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Understand that ALL sources of energy have costs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y do we use nonrenewab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C:\Users\jolill\AppData\Local\Microsoft\Windows\Temporary Internet Files\Content.IE5\E3FIT9Z8\MPj04372480000[1].jpg"/>
          <p:cNvPicPr/>
          <p:nvPr/>
        </p:nvPicPr>
        <p:blipFill>
          <a:blip r:embed="rId1"/>
          <a:stretch/>
        </p:blipFill>
        <p:spPr>
          <a:xfrm>
            <a:off x="5638680" y="4114800"/>
            <a:ext cx="31910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jolill\AppData\Local\Microsoft\Windows\Temporary Internet Files\Content.IE5\9ISTM1HJ\MPj04373530000[1].jpg"/>
          <p:cNvPicPr/>
          <p:nvPr/>
        </p:nvPicPr>
        <p:blipFill>
          <a:blip r:embed="rId2"/>
          <a:stretch/>
        </p:blipFill>
        <p:spPr>
          <a:xfrm>
            <a:off x="2743200" y="40384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olill\AppData\Local\Microsoft\Windows\Temporary Internet Files\Content.IE5\7CPA9WEO\MPj04372980000[1].jpg"/>
          <p:cNvPicPr/>
          <p:nvPr/>
        </p:nvPicPr>
        <p:blipFill>
          <a:blip r:embed="rId3"/>
          <a:stretch/>
        </p:blipFill>
        <p:spPr>
          <a:xfrm>
            <a:off x="380880" y="403848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jolill\AppData\Local\Microsoft\Windows\Temporary Internet Files\Content.IE5\7CPA9WEO\MCj03266400000[1].wmf"/>
          <p:cNvPicPr/>
          <p:nvPr/>
        </p:nvPicPr>
        <p:blipFill>
          <a:blip r:embed="rId4"/>
          <a:stretch/>
        </p:blipFill>
        <p:spPr>
          <a:xfrm>
            <a:off x="6934320" y="208080"/>
            <a:ext cx="1574640" cy="14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jolill\AppData\Local\Microsoft\Windows\Temporary Internet Files\Content.IE5\E3FIT9Z8\MCj04326430000[1].png"/>
          <p:cNvPicPr/>
          <p:nvPr/>
        </p:nvPicPr>
        <p:blipFill>
          <a:blip r:embed="rId5"/>
          <a:stretch/>
        </p:blipFill>
        <p:spPr>
          <a:xfrm rot="2247000">
            <a:off x="7137000" y="279396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80880" y="8380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nergy Resourc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1. 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2. Natural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3. C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4. Nuclear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629400" y="6599160"/>
            <a:ext cx="251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O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eposits of crude oil often are trapped within the earth's crust and can be extracted by drilling a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, produced by the decomposition of deeply buried organic matter from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rude oil:  complex liquid mixture of hydrocarbons, with small amounts of S, O, N impu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48769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 (crude o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ck, black oil as it comes out of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stimated reserv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ed guesses about the location and size of oil or natural gas depos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ven reser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how much oil can be economically obtained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withdrawal of oil or gas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valuable natural resource 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oline, heating oil, jet fuel, grease, wax, asphalt, plastic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oilblob"/>
          <p:cNvPicPr/>
          <p:nvPr/>
        </p:nvPicPr>
        <p:blipFill>
          <a:blip r:embed="rId1"/>
          <a:stretch/>
        </p:blipFill>
        <p:spPr>
          <a:xfrm>
            <a:off x="5257800" y="1523880"/>
            <a:ext cx="369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ompos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cient se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bu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decayed (some carbon rema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llions of year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mp out oil that flows by gravity into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ect water into nearby water to force oil into w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9" descr="Typical production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4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main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hanced (Tertiary) Oil 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O2flooding"/>
          <p:cNvPicPr/>
          <p:nvPr/>
        </p:nvPicPr>
        <p:blipFill>
          <a:blip r:embed="rId1"/>
          <a:stretch/>
        </p:blipFill>
        <p:spPr>
          <a:xfrm>
            <a:off x="600120" y="1447920"/>
            <a:ext cx="7934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ganization of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roleum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port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in 1960 so developing countries would get a fair price for the re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7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world’s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udi Arabia (#1), Iraq (#2), Iran, Kuwait, UAE, Algeria, Libya, Nigeria, Ecuador, Gabon, Indonesia, Qatar, and Venezue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WINDOWS\DESKTOP\APES Powerpoint\energy\worldreserves.gif"/>
          <p:cNvPicPr/>
          <p:nvPr/>
        </p:nvPicPr>
        <p:blipFill>
          <a:blip r:embed="rId1"/>
          <a:stretch/>
        </p:blipFill>
        <p:spPr>
          <a:xfrm>
            <a:off x="-1371600" y="0"/>
            <a:ext cx="11658600" cy="72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42900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il in U.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609480"/>
            <a:ext cx="3276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3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 near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5% for transpor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pendence on impor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D:\users\prich\lite_web\L11_figs\M15_08.pct"/>
          <p:cNvPicPr/>
          <p:nvPr/>
        </p:nvPicPr>
        <p:blipFill>
          <a:blip r:embed="rId1"/>
          <a:stretch/>
        </p:blipFill>
        <p:spPr>
          <a:xfrm>
            <a:off x="3581280" y="1219320"/>
            <a:ext cx="490248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_x000e_MILES81907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44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80880" y="228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oil prices have stimulated economic growth, they have discouraged / prevented improvements in energy efficiency and alternative technologies favoring renew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jolill\AppData\Local\Microsoft\Windows\Temporary Internet Files\Content.IE5\ZIHHMIK6\MPj04372970000[1].jpg"/>
          <p:cNvPicPr/>
          <p:nvPr/>
        </p:nvPicPr>
        <p:blipFill>
          <a:blip r:embed="rId1"/>
          <a:stretch/>
        </p:blipFill>
        <p:spPr>
          <a:xfrm>
            <a:off x="0" y="228600"/>
            <a:ext cx="1670040" cy="1673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our best immediate energy op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ut out unnecessary energy waste by improving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ransition to a renewable  or solar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, wind, flowing water, biomass, geothermal, hydrogen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urn more coal &amp; synthetic gas/liq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jolill\AppData\Local\Microsoft\Windows\Temporary Internet Files\Content.IE5\E3FIT9Z8\MCBD06663_0000[1].wmf"/>
          <p:cNvPicPr/>
          <p:nvPr/>
        </p:nvPicPr>
        <p:blipFill>
          <a:blip r:embed="rId2"/>
          <a:stretch/>
        </p:blipFill>
        <p:spPr>
          <a:xfrm>
            <a:off x="6553080" y="4724280"/>
            <a:ext cx="2103480" cy="18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jolill\AppData\Local\Microsoft\Windows\Temporary Internet Files\Content.IE5\9ISTM1HJ\MCj04376290000[1].png"/>
          <p:cNvPicPr/>
          <p:nvPr/>
        </p:nvPicPr>
        <p:blipFill>
          <a:blip r:embed="rId3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 Barrel of Persian Gulf Oil Really Costs U.S.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$30 in initial co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$61 for military support servi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$91 per barrel of o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entice Hall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il near $119 after report of Iranian boat f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NBC April. 25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_x000e_MILES81910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27" descr="http://cwx.prenhall.com/bookbind/pubbooks/hillchem3/medialib/media_portfolio/text_images/CH06/FG06_21.JPG"/>
          <p:cNvPicPr/>
          <p:nvPr/>
        </p:nvPicPr>
        <p:blipFill>
          <a:blip r:embed="rId1"/>
          <a:stretch/>
        </p:blipFill>
        <p:spPr>
          <a:xfrm>
            <a:off x="685800" y="0"/>
            <a:ext cx="768492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DESKTOP\APES Powerpoint\energy\distillationcolumn.gif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orms of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Shale &amp; Tar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orms of rock/sand that can be transformed (crushed/heated or pressurized) to be use like crude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: In Canada &amp; U.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 Need ½ barrel of oil to extract &amp;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large amounts of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es groundwater, ai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tar_sands3"/>
          <p:cNvPicPr/>
          <p:nvPr/>
        </p:nvPicPr>
        <p:blipFill>
          <a:blip r:embed="rId1"/>
          <a:stretch/>
        </p:blipFill>
        <p:spPr>
          <a:xfrm>
            <a:off x="304920" y="76212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ar_sands_lg"/>
          <p:cNvPicPr/>
          <p:nvPr/>
        </p:nvPicPr>
        <p:blipFill>
          <a:blip r:embed="rId2"/>
          <a:stretch/>
        </p:blipFill>
        <p:spPr>
          <a:xfrm>
            <a:off x="4419720" y="76212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st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1MiQCBIx1mM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an air conditioner works (not the energy about it th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nergy Consumption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(st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9480" y="41911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4, an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5% of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12_05"/>
          <p:cNvPicPr/>
          <p:nvPr/>
        </p:nvPicPr>
        <p:blipFill>
          <a:blip r:embed="rId1"/>
          <a:stretch/>
        </p:blipFill>
        <p:spPr>
          <a:xfrm>
            <a:off x="3962520" y="99072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380880"/>
          <a:ext cx="7772400" cy="626436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Has the Oi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nd Central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er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er Soviet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 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East and Oce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No matter what our decision…</a:t>
            </a:r>
            <a:br>
              <a:rPr sz="3600"/>
            </a:b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As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1522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be available in the next 15 years?  the next 30 years? long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ourc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 ener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e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it cost to develop, phase in, and use this energy resour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extracting, transporting, and using the energy resource affect the environ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is energy source help us sustain the ear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Users\jolill\AppData\Local\Microsoft\Windows\Temporary Internet Files\Content.IE5\7CPA9WEO\MPj04372720000[1].jpg"/>
          <p:cNvPicPr/>
          <p:nvPr/>
        </p:nvPicPr>
        <p:blipFill>
          <a:blip r:embed="rId1"/>
          <a:stretch/>
        </p:blipFill>
        <p:spPr>
          <a:xfrm>
            <a:off x="152280" y="2438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you beat Mrs. L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nalyzed your (presumed) usage of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energy is 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imary Energy Resources: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The fossil fuels(oil, gas, and coal), nuclear energy, falling water, geothermal, and solar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ary Energy Resources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:  Those sources which are derived from primary resources such as electricity, fuels from coal, (synthetic natural gas and synthetic gasoline), as well as alcohol 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wat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watt = energy to lift 100 g (or 1 Newton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.0 seco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easure of energy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ability to do work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mount of energy in the univers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2 major laws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6 major form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1311000">
            <a:off x="7238880" y="2209320"/>
            <a:ext cx="1149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alorie = amount of heat needed to heat 1 g of water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al = 4.187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tu (British thermal unit) = amount of heat energy needed to raise the temp of 1 pound of water by 1 degree Fahr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Btu = 1,054 joules; 252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Q (quad) = 1 quadrillion Btu (very larg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uses ~ 1 quad of energy about every 3.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kWh = one kilowatt of electricity over 1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t takes to burn a 100 watt light bulb for 10 hours (costs an average of 9 c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6 million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412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F = Cubic foot: a measure of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F of natural gas contains about 1020 B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0:44Z</dcterms:created>
  <dc:creator>Joanne Lilliendahl</dc:creator>
  <dc:description/>
  <dc:language>en-US</dc:language>
  <cp:lastModifiedBy>udsd</cp:lastModifiedBy>
  <dcterms:modified xsi:type="dcterms:W3CDTF">2008-05-09T22:07:29Z</dcterms:modified>
  <cp:revision>74</cp:revision>
  <dc:subject/>
  <dc:title>Energy – Where does it come from and why does it produce waste?</dc:title>
</cp:coreProperties>
</file>