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1.xml.rels" ContentType="application/vnd.openxmlformats-package.relationships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5.jpeg" ContentType="image/jpeg"/>
  <Override PartName="/ppt/media/image24.png" ContentType="image/png"/>
  <Override PartName="/ppt/media/image22.wmf" ContentType="image/x-wmf"/>
  <Override PartName="/ppt/media/image20.jpeg" ContentType="image/jpeg"/>
  <Override PartName="/ppt/media/image21.png" ContentType="image/png"/>
  <Override PartName="/ppt/media/image19.jpeg" ContentType="image/jpeg"/>
  <Override PartName="/ppt/media/image18.jpeg" ContentType="image/jpeg"/>
  <Override PartName="/ppt/media/image15.png" ContentType="image/png"/>
  <Override PartName="/ppt/media/image16.jpeg" ContentType="image/jpeg"/>
  <Override PartName="/ppt/media/image14.wmf" ContentType="image/x-wmf"/>
  <Override PartName="/ppt/media/image1.jpeg" ContentType="image/jpeg"/>
  <Override PartName="/ppt/media/image35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37.jpeg" ContentType="image/jpeg"/>
  <Override PartName="/ppt/media/image26.jpeg" ContentType="image/jpeg"/>
  <Override PartName="/ppt/media/image42.png" ContentType="image/png"/>
  <Override PartName="/ppt/media/image5.jpeg" ContentType="image/jpeg"/>
  <Override PartName="/ppt/media/image11.wmf" ContentType="image/x-wmf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6.png" ContentType="image/png"/>
  <Override PartName="/ppt/media/image40.png" ContentType="image/png"/>
  <Override PartName="/ppt/media/image9.jpeg" ContentType="image/jpeg"/>
  <Override PartName="/ppt/media/image23.wmf" ContentType="image/x-wmf"/>
  <Override PartName="/ppt/media/image43.jpeg" ContentType="image/jpeg"/>
  <Override PartName="/ppt/media/image44.jpeg" ContentType="image/jpeg"/>
  <Override PartName="/ppt/media/image45.jpeg" ContentType="image/jpeg"/>
  <Override PartName="/ppt/media/image46.png" ContentType="image/png"/>
  <Override PartName="/ppt/media/image47.jpeg" ContentType="image/jpeg"/>
  <Override PartName="/ppt/media/image41.png" ContentType="image/png"/>
  <Override PartName="/ppt/media/image48.jpeg" ContentType="image/jpeg"/>
  <Override PartName="/ppt/media/image32.jpeg" ContentType="image/jpeg"/>
  <Override PartName="/ppt/media/image49.jpeg" ContentType="image/jpeg"/>
  <Override PartName="/ppt/media/image12.png" ContentType="image/png"/>
  <Override PartName="/ppt/media/image31.jpeg" ContentType="image/jpeg"/>
  <Override PartName="/ppt/media/image30.jpeg" ContentType="image/jpeg"/>
  <Override PartName="/ppt/media/image17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7.jpeg" ContentType="image/jpeg"/>
  <Override PartName="/ppt/media/image38.jpeg" ContentType="image/jpeg"/>
  <Override PartName="/ppt/media/image2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1019E-8B48-479D-A976-DB303F5419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FFE77-DC5F-45AC-A59E-8526310A1F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5759E-D031-4666-893E-60305CCFB8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392B3-42E5-4A5B-A2AA-53FA88BDAE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888B2-55BD-4533-8B71-B1A9E21DE2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10626-3DAC-4D29-8E2D-AE9A4F52DF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D414A-B7A7-4365-BA7B-E0FB2C60AC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D375B-886F-4306-9482-68C2069DD1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6EA24-8B6E-4F38-9358-9326FEAF23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2E722-9234-455B-B49B-049FBE21B9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 1 definitely.  Numbers 2-5 are contested by man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0FDB6-66F4-496E-B86E-09482D90F9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E21D1-018F-420C-84ED-1C9BE1917E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F5F4E-235E-4BD0-A590-A04B57656E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B0541-8075-4EDF-8E3D-036410830B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ld an apple or a 100 g mass next to a vertical meter stick, and lift it to the top of the meter stick in 1.0 second time. “How much power did it take to do this? – One watt.”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57AF8-2E4F-4F98-B53E-FB21BDC379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eia.doe.gov/kids/classactivities/EnergyAnalysisEIA.pd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90D81-201D-4A26-A498-DFCBFFDC5D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51BB-B857-4CD2-90CA-413281598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882E-3E3E-4F2D-935D-DC7FC31C0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5730-DFD2-440D-99FC-41F48C8FD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5FF1-C757-4884-BFF6-C1F7B9CA8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85A97-EF7B-4307-BE69-75B2C8482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B1A97-C7BC-4670-83A0-04869D6F7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A6F7E-B9A9-47AB-82BB-BDB6D5AC7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CB858-4928-4217-80F6-8110B3290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77832-6B15-424C-A1BD-507EBAE79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76063-7AA0-425B-B614-6C53BE0B8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C3479-A8DE-46B7-8D16-F1EB0BC81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6777-7DE6-4ED9-BE21-1D835C839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F6F53-83BE-44EC-BC9A-F6BAD19CD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F7BE0-A304-4721-BDB8-3551D1FB0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75C53-238D-4B50-8519-2228EDEF9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EA950-B8AE-4E17-9509-BB022A349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8AE50-9DC6-428E-AEDE-BF209F107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172A87-8829-42AF-B558-CDEB45A38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B448FD-2C17-4742-AD0A-37AA126FD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95FBAE-D1CD-40A0-81D9-435FF4E34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2A1336-626C-47F9-A4B4-B24568B35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ABD535-67DD-40EF-AA00-2F7E57E4B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9206-C4C3-4059-A9EE-C903EC291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970449-7687-46F6-8DA7-52AE1D873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FC4367-D834-42D6-B038-2EBF1956F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A66679-CCF3-4D66-9AED-68C30BEAE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5C0CA9-5BC6-4FC5-A8E3-B6936A887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6909D6-AEBE-4313-84B9-718953D31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AF546D-E218-41B6-A68D-026393DA1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8D645E-09A6-4257-A905-FB9EBAB5A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2DC1-62C5-41D3-85C4-972A1920F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DA81-D5B9-413B-9EF2-A3E84A0A7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82DC-C3D5-4826-9698-D52977E3B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1122-19C9-406B-A212-EDB207CAB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EFC0-CF42-491E-9077-EC289E0BA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3192-73AA-4671-BA4E-94A6D2ED5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73DA3-2DD7-45E8-B3C1-9770D5D829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E5884-2BD3-4DA2-A203-278E3F10F1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41B53-38A8-4801-ABC3-8A916E11F9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dt" idx="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hyperlink" Target="http://images.google.com/imgres?imgurl=http://www.goalfinder.com/images/SCCAPP2/burning-of-wood.jpg&amp;imgrefurl=http://www.goalfinder.com/product.asp%3Fproductid%3D74&amp;h=161&amp;w=250&amp;sz=7&amp;hl=en&amp;start=42&amp;tbnid=HsqnibfLl1Oa2M:&amp;tbnh=71&amp;tbnw=111&amp;prev=/images%3Fq%3Dburning%2Bwood%26start%3D40%26gbv%3D2%26ndsp%3D20%26svnum%3D10%26hl%3Den%26sa%3DN" TargetMode="External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picture-newsletter.com/nuclear/nuclear-power-plant-9igh.jpg" TargetMode="External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f5Vwxabb12s&amp;feature=related" TargetMode="External"/><Relationship Id="rId2" Type="http://schemas.openxmlformats.org/officeDocument/2006/relationships/hyperlink" Target="http://www.youtube.com/watch?v=f5Vwxabb12s&amp;feature=related" TargetMode="External"/><Relationship Id="rId3" Type="http://schemas.openxmlformats.org/officeDocument/2006/relationships/hyperlink" Target="http://www.youtube.com/watch?v=f5Vwxabb12s&amp;feature=related" TargetMode="External"/><Relationship Id="rId4" Type="http://schemas.openxmlformats.org/officeDocument/2006/relationships/hyperlink" Target="http://www.youtube.com/watch?v=mUMAfSBR4yg&amp;feature=related" TargetMode="External"/><Relationship Id="rId5" Type="http://schemas.openxmlformats.org/officeDocument/2006/relationships/hyperlink" Target="http://www.youtube.com/watch?v=mUMAfSBR4yg&amp;feature=related" TargetMode="External"/><Relationship Id="rId6" Type="http://schemas.openxmlformats.org/officeDocument/2006/relationships/hyperlink" Target="http://www.youtube.com/watch?v=mUMAfSBR4yg&amp;feature=related" TargetMode="External"/><Relationship Id="rId7" Type="http://schemas.openxmlformats.org/officeDocument/2006/relationships/image" Target="../media/image25.jpe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wmf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9880" y="457200"/>
            <a:ext cx="3657600" cy="315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ndalus"/>
                <a:ea typeface="Andalus"/>
              </a:rPr>
              <a:t>How can changing a light bulb reduce greenhouse gases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2" descr="C:\Users\jolill\AppData\Local\Microsoft\Windows\Temporary Internet Files\Content.IE5\7CPA9WEO\MPj04373310000[1].jpg"/>
          <p:cNvPicPr/>
          <p:nvPr/>
        </p:nvPicPr>
        <p:blipFill>
          <a:blip r:embed="rId1"/>
          <a:stretch/>
        </p:blipFill>
        <p:spPr>
          <a:xfrm>
            <a:off x="2438280" y="4041720"/>
            <a:ext cx="2819520" cy="28162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3" descr="C:\Users\jolill\AppData\Local\Microsoft\Windows\Temporary Internet Files\Content.IE5\9ISTM1HJ\MCj02909300000[1].wmf"/>
          <p:cNvPicPr/>
          <p:nvPr/>
        </p:nvPicPr>
        <p:blipFill>
          <a:blip r:embed="rId2"/>
          <a:stretch/>
        </p:blipFill>
        <p:spPr>
          <a:xfrm>
            <a:off x="7696080" y="685800"/>
            <a:ext cx="1149480" cy="17272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4" descr="C:\Users\jolill\AppData\Local\Microsoft\Windows\Temporary Internet Files\Content.IE5\ZIHHMIK6\MPj04373300000[1].jpg"/>
          <p:cNvPicPr/>
          <p:nvPr/>
        </p:nvPicPr>
        <p:blipFill>
          <a:blip r:embed="rId3"/>
          <a:stretch/>
        </p:blipFill>
        <p:spPr>
          <a:xfrm>
            <a:off x="380880" y="457200"/>
            <a:ext cx="3505320" cy="37339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C:\Users\jolill\AppData\Local\Microsoft\Windows\Temporary Internet Files\Content.IE5\7CPA9WEO\MCj04347170000[1].wmf"/>
          <p:cNvPicPr/>
          <p:nvPr/>
        </p:nvPicPr>
        <p:blipFill>
          <a:blip r:embed="rId4"/>
          <a:stretch/>
        </p:blipFill>
        <p:spPr>
          <a:xfrm>
            <a:off x="7924680" y="2971800"/>
            <a:ext cx="765360" cy="17971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C:\Users\jolill\AppData\Local\Microsoft\Windows\Temporary Internet Files\Content.IE5\7CPA9WEO\MPj04372340000[1].jpg"/>
          <p:cNvPicPr/>
          <p:nvPr/>
        </p:nvPicPr>
        <p:blipFill>
          <a:blip r:embed="rId5"/>
          <a:stretch/>
        </p:blipFill>
        <p:spPr>
          <a:xfrm>
            <a:off x="5486400" y="4191120"/>
            <a:ext cx="2286000" cy="22636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8" descr="C:\Users\jolill\AppData\Local\Microsoft\Windows\Temporary Internet Files\Content.IE5\9ISTM1HJ\MPj04372700000[1].jpg"/>
          <p:cNvPicPr/>
          <p:nvPr/>
        </p:nvPicPr>
        <p:blipFill>
          <a:blip r:embed="rId6"/>
          <a:stretch/>
        </p:blipFill>
        <p:spPr>
          <a:xfrm>
            <a:off x="762120" y="4648320"/>
            <a:ext cx="1527120" cy="152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229600" cy="88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x (6) Forms of Ener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572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Mechanic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energy of moving thing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: wind, moving wa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Electric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energy of moving electr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He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energy of temperature chan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otter temperatures can do more work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Picture 4" descr="Electrical Wires"/>
          <p:cNvPicPr/>
          <p:nvPr/>
        </p:nvPicPr>
        <p:blipFill>
          <a:blip r:embed="rId1"/>
          <a:stretch/>
        </p:blipFill>
        <p:spPr>
          <a:xfrm>
            <a:off x="7238880" y="2362320"/>
            <a:ext cx="1641600" cy="21891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5" descr="windmills"/>
          <p:cNvPicPr/>
          <p:nvPr/>
        </p:nvPicPr>
        <p:blipFill>
          <a:blip r:embed="rId2"/>
          <a:stretch/>
        </p:blipFill>
        <p:spPr>
          <a:xfrm>
            <a:off x="4952880" y="1295280"/>
            <a:ext cx="2067120" cy="27054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6" descr="burning-of-wood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257800" y="4800600"/>
            <a:ext cx="231948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x (6) Forms of Ener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343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Ligh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energy of moving phot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Chemic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energy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tore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in the bonds between atom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: food, wood, gasoline, batteries, coal, oil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Nucle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energy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tore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between the subatomic partic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: Nuclear power pla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Picture 6" descr="nuclear-power-plant-9i.jpg (96092 Byte) nuclear power plant Leibstad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00600" y="4876920"/>
            <a:ext cx="2743200" cy="16761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2" descr="C:\Users\jolill\AppData\Local\Microsoft\Windows\Temporary Internet Files\Content.IE5\9ISTM1HJ\MCj04325890000[1].png"/>
          <p:cNvPicPr/>
          <p:nvPr/>
        </p:nvPicPr>
        <p:blipFill>
          <a:blip r:embed="rId3"/>
          <a:stretch/>
        </p:blipFill>
        <p:spPr>
          <a:xfrm>
            <a:off x="4876920" y="12952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3" descr="C:\Users\jolill\AppData\Local\Microsoft\Windows\Temporary Internet Files\Content.IE5\ZIHHMIK6\MCj02333910000[1].wmf"/>
          <p:cNvPicPr/>
          <p:nvPr/>
        </p:nvPicPr>
        <p:blipFill>
          <a:blip r:embed="rId4"/>
          <a:stretch/>
        </p:blipFill>
        <p:spPr>
          <a:xfrm>
            <a:off x="6400800" y="2819520"/>
            <a:ext cx="2216160" cy="190476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 txBox="1"/>
          <p:nvPr/>
        </p:nvSpPr>
        <p:spPr>
          <a:xfrm>
            <a:off x="4648320" y="159984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Law of Thermodynam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Conservation of Energy Law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Energy can neither be created nor destroy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ergy in the universe is consta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you can’t destroy energy, you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CA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hange its form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: Match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: Light Bul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Picture 2" descr="C:\Users\jolill\AppData\Local\Microsoft\Windows\Temporary Internet Files\Content.IE5\7CPA9WEO\MCj02903820000[1].wmf"/>
          <p:cNvPicPr/>
          <p:nvPr/>
        </p:nvPicPr>
        <p:blipFill>
          <a:blip r:embed="rId1"/>
          <a:stretch/>
        </p:blipFill>
        <p:spPr>
          <a:xfrm>
            <a:off x="5562720" y="3995640"/>
            <a:ext cx="2730240" cy="24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Law of Thermodynam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Energy Quality Law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When energy changes form, some useful energy is always degraded to lower quality, less useful energ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Low temperature hea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s the least useful energy form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: 90% of energy in gas (chemical) is changed to heat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nly 10% of the electricity flowing through a light bulb is converted to light energy (the rest is heat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0" name="Picture 3" descr="C:\Users\jolill\AppData\Local\Microsoft\Windows\Temporary Internet Files\Content.IE5\9ISTM1HJ\MCj02909300000[1].wmf"/>
          <p:cNvPicPr/>
          <p:nvPr/>
        </p:nvPicPr>
        <p:blipFill>
          <a:blip r:embed="rId1"/>
          <a:stretch/>
        </p:blipFill>
        <p:spPr>
          <a:xfrm rot="840000">
            <a:off x="7924320" y="914400"/>
            <a:ext cx="8845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at is electricity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movement of electr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oms are normally neutral, but interactions can create imbala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 electrons move through metal wires, they rub against the wire – creating friction.  This resistance creates heat and even light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t where does this supply of electrons come from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3" name="Picture 2" descr="C:\Users\jolill\AppData\Local\Microsoft\Windows\Temporary Internet Files\Content.IE5\7CPA9WEO\MCj04369170000[1].png"/>
          <p:cNvPicPr/>
          <p:nvPr/>
        </p:nvPicPr>
        <p:blipFill>
          <a:blip r:embed="rId1"/>
          <a:stretch/>
        </p:blipFill>
        <p:spPr>
          <a:xfrm>
            <a:off x="7010280" y="22860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9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youtube.com/watch?v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=f5Vwxabb12s&amp;feature=related</a:t>
            </a:r>
            <a:br>
              <a:rPr sz="2000"/>
            </a:b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youtube.com/watch?v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=mUMAfSBR4yg&amp;feature=related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5" name="Content Placeholder 3" descr="light-bulb-label.jpg"/>
          <p:cNvPicPr/>
          <p:nvPr/>
        </p:nvPicPr>
        <p:blipFill>
          <a:blip r:embed="rId7"/>
          <a:stretch/>
        </p:blipFill>
        <p:spPr>
          <a:xfrm>
            <a:off x="685800" y="1371600"/>
            <a:ext cx="7543800" cy="52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8862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gnets &amp; Gen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://www.metacafe.com/watch/912594/simple_electric_generator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ergy sources, for example coal, are burne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ich boils water, which produces ste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steam spins a turb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turbine spins a magn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magnet creates a flow of electr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s flow of electrons travels from the power plant to your home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8" name="Picture 3" descr="magnet.jpg"/>
          <p:cNvPicPr/>
          <p:nvPr/>
        </p:nvPicPr>
        <p:blipFill>
          <a:blip r:embed="rId1"/>
          <a:stretch/>
        </p:blipFill>
        <p:spPr>
          <a:xfrm>
            <a:off x="4267080" y="0"/>
            <a:ext cx="4343400" cy="23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500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E:\Chapter_12\Present\Images\12_07a-c.jpg"/>
          <p:cNvPicPr/>
          <p:nvPr/>
        </p:nvPicPr>
        <p:blipFill>
          <a:blip r:embed="rId1"/>
          <a:stretch/>
        </p:blipFill>
        <p:spPr>
          <a:xfrm>
            <a:off x="380880" y="380880"/>
            <a:ext cx="838224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2" descr="Pictorial image showing the journey of electricity from the power station to our houses"/>
          <p:cNvPicPr/>
          <p:nvPr/>
        </p:nvPicPr>
        <p:blipFill>
          <a:blip r:embed="rId1"/>
          <a:stretch/>
        </p:blipFill>
        <p:spPr>
          <a:xfrm>
            <a:off x="380880" y="304920"/>
            <a:ext cx="815364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887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alibri"/>
              </a:rPr>
              <a:t>Evaluating Energy Resource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alibri"/>
              </a:rPr>
              <a:t>U.S. has </a:t>
            </a: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4.6%</a:t>
            </a:r>
            <a:r>
              <a:rPr b="0" lang="en-US" sz="3600" spc="-1" strike="noStrike">
                <a:solidFill>
                  <a:srgbClr val="0000ff"/>
                </a:solidFill>
                <a:latin typeface="Calibri"/>
              </a:rPr>
              <a:t> of world population; uses </a:t>
            </a: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24%</a:t>
            </a:r>
            <a:r>
              <a:rPr b="0" lang="en-US" sz="3600" spc="-1" strike="noStrike">
                <a:solidFill>
                  <a:srgbClr val="0000ff"/>
                </a:solidFill>
                <a:latin typeface="Calibri"/>
              </a:rPr>
              <a:t> of the world’s energy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200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84%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 from nonrenewable fossil fuels (oil, coal, &amp; natural gas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200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7%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 from nuclear power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200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9%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 from renewable sources (hydropower, geothermal, solar, biomass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4" descr="C:\Users\jolill\AppData\Local\Microsoft\Windows\Temporary Internet Files\Content.IE5\9ISTM1HJ\MPj04373700000[1].jpg"/>
          <p:cNvPicPr/>
          <p:nvPr/>
        </p:nvPicPr>
        <p:blipFill>
          <a:blip r:embed="rId1"/>
          <a:stretch/>
        </p:blipFill>
        <p:spPr>
          <a:xfrm>
            <a:off x="5867280" y="0"/>
            <a:ext cx="3276720" cy="374328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nergy – Where does it come from and why does it produce wast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Exploring our traditional sources of energy: NONRENEWABLE ENER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apter 1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ES 30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5" descr="12_04"/>
          <p:cNvPicPr/>
          <p:nvPr/>
        </p:nvPicPr>
        <p:blipFill>
          <a:blip r:embed="rId1"/>
          <a:stretch/>
        </p:blipFill>
        <p:spPr>
          <a:xfrm>
            <a:off x="914400" y="990720"/>
            <a:ext cx="6705720" cy="564804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lobal Primary Energy Suppl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9" descr="12_T01"/>
          <p:cNvPicPr/>
          <p:nvPr/>
        </p:nvPicPr>
        <p:blipFill>
          <a:blip r:embed="rId1"/>
          <a:stretch/>
        </p:blipFill>
        <p:spPr>
          <a:xfrm>
            <a:off x="533520" y="533520"/>
            <a:ext cx="8367480" cy="5790960"/>
          </a:xfrm>
          <a:prstGeom prst="rect">
            <a:avLst/>
          </a:prstGeom>
          <a:ln w="0">
            <a:noFill/>
          </a:ln>
        </p:spPr>
      </p:pic>
      <p:sp>
        <p:nvSpPr>
          <p:cNvPr id="196" name="Oval 6"/>
          <p:cNvSpPr/>
          <p:nvPr/>
        </p:nvSpPr>
        <p:spPr>
          <a:xfrm>
            <a:off x="6400800" y="3048120"/>
            <a:ext cx="533520" cy="3045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5" descr="12_10"/>
          <p:cNvPicPr/>
          <p:nvPr/>
        </p:nvPicPr>
        <p:blipFill>
          <a:blip r:embed="rId1"/>
          <a:stretch/>
        </p:blipFill>
        <p:spPr>
          <a:xfrm>
            <a:off x="533520" y="363600"/>
            <a:ext cx="7791480" cy="59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alyze the fig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at is the primary energy source for all of our transportation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at is the largest end use consumer of U.S. energy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at is the largest primary energy source used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at is the second largest primary energy source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at is the smallest utilized primary energy source and what is used for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at primary energy source powers all sectors of end use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at is coal used to power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ere does industry draw its power from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at is nuclear power used for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at is the only end use item that has one primary energy source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066680" y="288720"/>
            <a:ext cx="7739280" cy="70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Calibri"/>
              </a:rPr>
              <a:t>Fossil Fuel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8669160" cy="552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Fossil fuels originated from the decay of living organisms millions of years ago, and account for about 80% of the energy generated in the U.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The fossil fuels used in energy generation ar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Natural gas, which is 70 - 80% methane (CH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Calibri"/>
              </a:rPr>
              <a:t>4</a:t>
            </a: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Liquid hydrocarbons obtained from the distillation of petrole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Coal - a solid mixture of large molecules with a H/C ratio of about 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5403960" y="6519960"/>
            <a:ext cx="3733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www.lander.edu/rlayland/Chem%20103/chap_12.ppt</a:t>
            </a: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5" descr="12_11ab"/>
          <p:cNvPicPr/>
          <p:nvPr/>
        </p:nvPicPr>
        <p:blipFill>
          <a:blip r:embed="rId1"/>
          <a:stretch/>
        </p:blipFill>
        <p:spPr>
          <a:xfrm>
            <a:off x="776160" y="1600200"/>
            <a:ext cx="7591680" cy="464832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Fossil Fuels Are Form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Fossil Fuels Are Form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6" descr="12_11c"/>
          <p:cNvPicPr/>
          <p:nvPr/>
        </p:nvPicPr>
        <p:blipFill>
          <a:blip r:embed="rId1"/>
          <a:stretch/>
        </p:blipFill>
        <p:spPr>
          <a:xfrm>
            <a:off x="380880" y="1066680"/>
            <a:ext cx="838224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2"/>
          <p:cNvSpPr/>
          <p:nvPr/>
        </p:nvSpPr>
        <p:spPr>
          <a:xfrm>
            <a:off x="533520" y="152280"/>
            <a:ext cx="8305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Energy resources removed from the earth’s crust include: oil, natural gas, coal, and uran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3" descr="_x000e_MILES81902.jpg                                                 00007890&#9;ROCKETEER                      ABA78158: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586728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4"/>
          <p:cNvSpPr/>
          <p:nvPr/>
        </p:nvSpPr>
        <p:spPr>
          <a:xfrm>
            <a:off x="6629400" y="658008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ff"/>
                </a:solidFill>
                <a:uFillTx/>
                <a:latin typeface="Arial"/>
              </a:rPr>
              <a:t>www.bio.miami.edu/beck/esc101/Chapter14&amp;15.p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1" descr="E:\Chapter_12\Present\Images\12_T03.jpg"/>
          <p:cNvPicPr/>
          <p:nvPr/>
        </p:nvPicPr>
        <p:blipFill>
          <a:blip r:embed="rId1"/>
          <a:stretch/>
        </p:blipFill>
        <p:spPr>
          <a:xfrm>
            <a:off x="1219320" y="2286000"/>
            <a:ext cx="7238880" cy="380988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al is cheaper but gas is cleane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al: $0.85 per million Btu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Gas: $2.18 per million Btu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rude Oil: $2.97 per million Bt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457200" y="2057400"/>
            <a:ext cx="8229600" cy="40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8908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Problems with Fossil Fuel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Fossil fuels are nonrenewable resour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At projected consumption rates, natural gas and petroleum will be depleted before the end of the 21st centu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Impurities in fossil fuels are a major source of pollu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Burning fossil fuels produce large amounts of CO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, which contributes to global warm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Text Box 1028"/>
          <p:cNvSpPr/>
          <p:nvPr/>
        </p:nvSpPr>
        <p:spPr>
          <a:xfrm>
            <a:off x="5403960" y="6519960"/>
            <a:ext cx="3733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www.lander.edu/rlayland/Chem%20103/chap_12.ppt</a:t>
            </a: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066680"/>
            <a:ext cx="861048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pee"/>
              </a:rPr>
              <a:t>What is energy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pee"/>
              </a:rPr>
              <a:t>What forms does it come in &amp; how do we use it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pee"/>
              </a:rPr>
              <a:t>Understand that ALL sources of energy have costs and benefi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pee"/>
              </a:rPr>
              <a:t>Why do we use nonrenewable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4" descr="C:\Users\jolill\AppData\Local\Microsoft\Windows\Temporary Internet Files\Content.IE5\E3FIT9Z8\MPj04372480000[1].jpg"/>
          <p:cNvPicPr/>
          <p:nvPr/>
        </p:nvPicPr>
        <p:blipFill>
          <a:blip r:embed="rId1"/>
          <a:stretch/>
        </p:blipFill>
        <p:spPr>
          <a:xfrm>
            <a:off x="5638680" y="4114800"/>
            <a:ext cx="3191040" cy="24382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C:\Users\jolill\AppData\Local\Microsoft\Windows\Temporary Internet Files\Content.IE5\9ISTM1HJ\MPj04373530000[1].jpg"/>
          <p:cNvPicPr/>
          <p:nvPr/>
        </p:nvPicPr>
        <p:blipFill>
          <a:blip r:embed="rId2"/>
          <a:stretch/>
        </p:blipFill>
        <p:spPr>
          <a:xfrm>
            <a:off x="2743200" y="4038480"/>
            <a:ext cx="2743200" cy="25909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C:\Users\jolill\AppData\Local\Microsoft\Windows\Temporary Internet Files\Content.IE5\7CPA9WEO\MPj04372980000[1].jpg"/>
          <p:cNvPicPr/>
          <p:nvPr/>
        </p:nvPicPr>
        <p:blipFill>
          <a:blip r:embed="rId3"/>
          <a:stretch/>
        </p:blipFill>
        <p:spPr>
          <a:xfrm>
            <a:off x="380880" y="4038480"/>
            <a:ext cx="2487600" cy="25146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7" descr="C:\Users\jolill\AppData\Local\Microsoft\Windows\Temporary Internet Files\Content.IE5\7CPA9WEO\MCj03266400000[1].wmf"/>
          <p:cNvPicPr/>
          <p:nvPr/>
        </p:nvPicPr>
        <p:blipFill>
          <a:blip r:embed="rId4"/>
          <a:stretch/>
        </p:blipFill>
        <p:spPr>
          <a:xfrm>
            <a:off x="6934320" y="208080"/>
            <a:ext cx="1574640" cy="14302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8" descr="C:\Users\jolill\AppData\Local\Microsoft\Windows\Temporary Internet Files\Content.IE5\E3FIT9Z8\MCj04326430000[1].png"/>
          <p:cNvPicPr/>
          <p:nvPr/>
        </p:nvPicPr>
        <p:blipFill>
          <a:blip r:embed="rId5"/>
          <a:stretch/>
        </p:blipFill>
        <p:spPr>
          <a:xfrm rot="2247000">
            <a:off x="7137000" y="2793960"/>
            <a:ext cx="1390680" cy="13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2"/>
          <p:cNvSpPr/>
          <p:nvPr/>
        </p:nvSpPr>
        <p:spPr>
          <a:xfrm>
            <a:off x="380880" y="838080"/>
            <a:ext cx="807732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4040" indent="-284040"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ff"/>
                </a:solidFill>
                <a:latin typeface="Arial"/>
              </a:rPr>
              <a:t>Energy Resources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spcBef>
                <a:spcPts val="12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ff"/>
                </a:solidFill>
                <a:latin typeface="Arial"/>
              </a:rPr>
              <a:t>1. Oil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Arial"/>
              </a:rPr>
              <a:t>2. Natural G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Arial"/>
              </a:rPr>
              <a:t>3. Coa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Arial"/>
              </a:rPr>
              <a:t>4. Nuclear Energ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3"/>
          <p:cNvSpPr/>
          <p:nvPr/>
        </p:nvSpPr>
        <p:spPr>
          <a:xfrm>
            <a:off x="6629400" y="6599160"/>
            <a:ext cx="2514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 u="sng">
                <a:solidFill>
                  <a:srgbClr val="0000ff"/>
                </a:solidFill>
                <a:uFillTx/>
                <a:latin typeface="Arial"/>
              </a:rPr>
              <a:t>www.bio.miami.edu/beck/esc101/Chapter14&amp;15.pp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Calibri"/>
              </a:rPr>
              <a:t>Oi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Deposits of crude oil often are trapped within the earth's crust and can be extracted by drilling a we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Fossil fuel, produced by the decomposition of deeply buried organic matter from plants &amp; anim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Crude oil:  complex liquid mixture of hydrocarbons, with small amounts of S, O, N impur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952880" y="274320"/>
            <a:ext cx="37339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rude Oi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28240" y="533520"/>
            <a:ext cx="4876920" cy="55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etroleum (crude oil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ck, black oil as it comes out of the grou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46c0a"/>
                </a:solidFill>
                <a:latin typeface="Calibri"/>
              </a:rPr>
              <a:t>Estimated reserves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ducated guesses about the location and size of oil or natural gas deposi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46c0a"/>
                </a:solidFill>
                <a:latin typeface="Calibri"/>
              </a:rPr>
              <a:t>Proven reserve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how much oil can be economically obtained from the oil fiel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46c0a"/>
                </a:solidFill>
                <a:latin typeface="Calibri"/>
              </a:rPr>
              <a:t>Productio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withdrawal of oil or gas from the oil fiel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ost valuable natural resource (?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asoline, heating oil, jet fuel, grease, wax, asphalt, plastics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2" name="Picture 5" descr="oilblob"/>
          <p:cNvPicPr/>
          <p:nvPr/>
        </p:nvPicPr>
        <p:blipFill>
          <a:blip r:embed="rId1"/>
          <a:stretch/>
        </p:blipFill>
        <p:spPr>
          <a:xfrm>
            <a:off x="5257800" y="1523880"/>
            <a:ext cx="369576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il Form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Decomposit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f ancient sea plants &amp; anim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Quick burial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rtial decayed (some carbon remain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s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hea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&amp;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es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Tim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– millions of years to for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373392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il Extra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48769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rimary Oil Recove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rill we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ump out oil that flows by gravity into we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econdary Oil Recove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ject water into nearby water to force oil into wel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7" name="Picture 9" descr="Typical production"/>
          <p:cNvPicPr/>
          <p:nvPr/>
        </p:nvPicPr>
        <p:blipFill>
          <a:blip r:embed="rId1"/>
          <a:stretch/>
        </p:blipFill>
        <p:spPr>
          <a:xfrm>
            <a:off x="4800600" y="1828800"/>
            <a:ext cx="4038480" cy="349236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0" descr="main"/>
          <p:cNvPicPr/>
          <p:nvPr/>
        </p:nvPicPr>
        <p:blipFill>
          <a:blip r:embed="rId2"/>
          <a:stretch/>
        </p:blipFill>
        <p:spPr>
          <a:xfrm>
            <a:off x="4648320" y="228600"/>
            <a:ext cx="426708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28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hanced (Tertiary) Oil Recove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0" name="Picture 7" descr="CO2flooding"/>
          <p:cNvPicPr/>
          <p:nvPr/>
        </p:nvPicPr>
        <p:blipFill>
          <a:blip r:embed="rId1"/>
          <a:stretch/>
        </p:blipFill>
        <p:spPr>
          <a:xfrm>
            <a:off x="600120" y="1447920"/>
            <a:ext cx="79344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Calibri"/>
              </a:rPr>
              <a:t>O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rganization of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Calibri"/>
              </a:rPr>
              <a:t>P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etroleum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Calibri"/>
              </a:rPr>
              <a:t>E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xporting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Calibri"/>
              </a:rPr>
              <a:t>C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ountr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t up in 1960 so developing countries would get a fair price for the resour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trol </a:t>
            </a: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67%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f world’s o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audi Arabia (#1), Iraq (#2), Iran, Kuwait, UAE, Algeria, Libya, Nigeria, Ecuador, Gabon, Indonesia, Qatar, and Venezuel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2" descr="C:\WINDOWS\DESKTOP\APES Powerpoint\energy\worldreserves.gif"/>
          <p:cNvPicPr/>
          <p:nvPr/>
        </p:nvPicPr>
        <p:blipFill>
          <a:blip r:embed="rId1"/>
          <a:stretch/>
        </p:blipFill>
        <p:spPr>
          <a:xfrm>
            <a:off x="-1371600" y="0"/>
            <a:ext cx="11658600" cy="725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2"/>
          <p:cNvSpPr/>
          <p:nvPr/>
        </p:nvSpPr>
        <p:spPr>
          <a:xfrm>
            <a:off x="3429000" y="457200"/>
            <a:ext cx="5181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Oil in U.S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533520" y="609480"/>
            <a:ext cx="3276360" cy="57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.3%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of world reser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uses nearly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0%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of world reserv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65% for transportatio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increasing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dependence on imports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4" descr="D:\users\prich\lite_web\L11_figs\M15_08.pct"/>
          <p:cNvPicPr/>
          <p:nvPr/>
        </p:nvPicPr>
        <p:blipFill>
          <a:blip r:embed="rId1"/>
          <a:stretch/>
        </p:blipFill>
        <p:spPr>
          <a:xfrm>
            <a:off x="3581280" y="1219320"/>
            <a:ext cx="4902480" cy="5410080"/>
          </a:xfrm>
          <a:prstGeom prst="rect">
            <a:avLst/>
          </a:prstGeom>
          <a:ln w="0">
            <a:noFill/>
          </a:ln>
        </p:spPr>
      </p:pic>
      <p:sp>
        <p:nvSpPr>
          <p:cNvPr id="237" name="Text Box 5"/>
          <p:cNvSpPr/>
          <p:nvPr/>
        </p:nvSpPr>
        <p:spPr>
          <a:xfrm>
            <a:off x="6629400" y="658008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ff"/>
                </a:solidFill>
                <a:uFillTx/>
                <a:latin typeface="Arial"/>
              </a:rPr>
              <a:t>www.bio.miami.edu/beck/esc101/Chapter14&amp;15.p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2" descr="_x000e_MILES81907.jpg                                                 00007890&#9;ROCKETEER                      ABA78158:"/>
          <p:cNvPicPr/>
          <p:nvPr/>
        </p:nvPicPr>
        <p:blipFill>
          <a:blip r:embed="rId1"/>
          <a:stretch/>
        </p:blipFill>
        <p:spPr>
          <a:xfrm>
            <a:off x="457200" y="2133720"/>
            <a:ext cx="8153280" cy="4410000"/>
          </a:xfrm>
          <a:prstGeom prst="rect">
            <a:avLst/>
          </a:prstGeom>
          <a:ln w="0">
            <a:noFill/>
          </a:ln>
        </p:spPr>
      </p:pic>
      <p:sp>
        <p:nvSpPr>
          <p:cNvPr id="239" name="Text Box 3"/>
          <p:cNvSpPr/>
          <p:nvPr/>
        </p:nvSpPr>
        <p:spPr>
          <a:xfrm>
            <a:off x="380880" y="228600"/>
            <a:ext cx="8153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Low oil prices have stimulated economic growth, they have discouraged / prevented improvements in energy efficiency and alternative technologies favoring renewable resour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4" descr="C:\Users\jolill\AppData\Local\Microsoft\Windows\Temporary Internet Files\Content.IE5\ZIHHMIK6\MPj04372970000[1].jpg"/>
          <p:cNvPicPr/>
          <p:nvPr/>
        </p:nvPicPr>
        <p:blipFill>
          <a:blip r:embed="rId1"/>
          <a:stretch/>
        </p:blipFill>
        <p:spPr>
          <a:xfrm>
            <a:off x="0" y="228600"/>
            <a:ext cx="1670040" cy="167328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What is our best immediate energy option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7524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Cut out unnecessary energy waste by improving energy efficien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Transition to a renewable  or solar 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n, wind, flowing water, biomass, geothermal, hydrogen g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Burn more coal &amp; synthetic gas/liqui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 Natural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. Nuclear pow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Picture 2" descr="C:\Users\jolill\AppData\Local\Microsoft\Windows\Temporary Internet Files\Content.IE5\E3FIT9Z8\MCBD06663_0000[1].wmf"/>
          <p:cNvPicPr/>
          <p:nvPr/>
        </p:nvPicPr>
        <p:blipFill>
          <a:blip r:embed="rId2"/>
          <a:stretch/>
        </p:blipFill>
        <p:spPr>
          <a:xfrm>
            <a:off x="6553080" y="4724280"/>
            <a:ext cx="2103480" cy="18259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3" descr="C:\Users\jolill\AppData\Local\Microsoft\Windows\Temporary Internet Files\Content.IE5\9ISTM1HJ\MCj04376290000[1].png"/>
          <p:cNvPicPr/>
          <p:nvPr/>
        </p:nvPicPr>
        <p:blipFill>
          <a:blip r:embed="rId3"/>
          <a:stretch/>
        </p:blipFill>
        <p:spPr>
          <a:xfrm>
            <a:off x="7086600" y="1066680"/>
            <a:ext cx="175248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4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4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a Barrel of Persian Gulf Oil Really Costs U.S. Consum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$30 in initial cost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+ $61 for military support service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= $91 per barrel of oi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Prentice Hall 2005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il near $119 after report of Iranian boat fir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SNBC April. 25, 200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2" descr="_x000e_MILES81910.jpg                                                 00007890&#9;ROCKETEER                      ABA78158:"/>
          <p:cNvPicPr/>
          <p:nvPr/>
        </p:nvPicPr>
        <p:blipFill>
          <a:blip r:embed="rId1"/>
          <a:stretch/>
        </p:blipFill>
        <p:spPr>
          <a:xfrm>
            <a:off x="0" y="-3024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243" name="Text Box 4"/>
          <p:cNvSpPr/>
          <p:nvPr/>
        </p:nvSpPr>
        <p:spPr>
          <a:xfrm>
            <a:off x="6629400" y="658008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ff"/>
                </a:solidFill>
                <a:uFillTx/>
                <a:latin typeface="Arial"/>
              </a:rPr>
              <a:t>www.bio.miami.edu/beck/esc101/Chapter14&amp;15.p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1027" descr="http://cwx.prenhall.com/bookbind/pubbooks/hillchem3/medialib/media_portfolio/text_images/CH06/FG06_21.JPG"/>
          <p:cNvPicPr/>
          <p:nvPr/>
        </p:nvPicPr>
        <p:blipFill>
          <a:blip r:embed="rId1"/>
          <a:stretch/>
        </p:blipFill>
        <p:spPr>
          <a:xfrm>
            <a:off x="685800" y="0"/>
            <a:ext cx="7684920" cy="685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2" descr="C:\WINDOWS\DESKTOP\APES Powerpoint\energy\distillationcolumn.gif"/>
          <p:cNvPicPr/>
          <p:nvPr/>
        </p:nvPicPr>
        <p:blipFill>
          <a:blip r:embed="rId1"/>
          <a:stretch/>
        </p:blipFill>
        <p:spPr>
          <a:xfrm>
            <a:off x="685800" y="0"/>
            <a:ext cx="79246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ternative forms of Oi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il Shale &amp; Tar S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fferent forms of rock/sand that can be transformed (crushed/heated or pressurized) to be use like crude oi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S: In Canada &amp; U.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: Need ½ barrel of oil to extract &amp; purif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s large amounts of wa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llutes groundwater, air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84" dur="20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9" dur="1000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96" dur="1000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9" dur="1000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900" fill="hold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5" descr="tar_sands3"/>
          <p:cNvPicPr/>
          <p:nvPr/>
        </p:nvPicPr>
        <p:blipFill>
          <a:blip r:embed="rId1"/>
          <a:stretch/>
        </p:blipFill>
        <p:spPr>
          <a:xfrm>
            <a:off x="304920" y="762120"/>
            <a:ext cx="4029120" cy="301932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6" descr="tar_sands_lg"/>
          <p:cNvPicPr/>
          <p:nvPr/>
        </p:nvPicPr>
        <p:blipFill>
          <a:blip r:embed="rId2"/>
          <a:stretch/>
        </p:blipFill>
        <p:spPr>
          <a:xfrm>
            <a:off x="4419720" y="762120"/>
            <a:ext cx="42670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16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tra stuf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www.youtube.com/watch?v=1MiQCBIx1mM&amp;feature=relat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w an air conditioner works (not the energy about it though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6c0a"/>
                </a:solidFill>
                <a:latin typeface="Calibri"/>
              </a:rPr>
              <a:t>Energy Consumption in the United St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1143000"/>
            <a:ext cx="31240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7804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oo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7804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ater (steam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7804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7804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atural g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7804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i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7804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uclear pow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16"/>
          <p:cNvSpPr/>
          <p:nvPr/>
        </p:nvSpPr>
        <p:spPr>
          <a:xfrm>
            <a:off x="609480" y="4191120"/>
            <a:ext cx="3505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4, and 5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3.5% of U.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ergy consum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9" descr="12_05"/>
          <p:cNvPicPr/>
          <p:nvPr/>
        </p:nvPicPr>
        <p:blipFill>
          <a:blip r:embed="rId1"/>
          <a:stretch/>
        </p:blipFill>
        <p:spPr>
          <a:xfrm>
            <a:off x="3962520" y="990720"/>
            <a:ext cx="495288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4" dur="10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9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2" dur="1000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1" dur="1000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44" dur="2000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9" dur="1000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6" name=""/>
          <p:cNvGraphicFramePr/>
          <p:nvPr/>
        </p:nvGraphicFramePr>
        <p:xfrm>
          <a:off x="914400" y="380880"/>
          <a:ext cx="7772400" cy="6264360"/>
        </p:xfrm>
        <a:graphic>
          <a:graphicData uri="http://schemas.openxmlformats.org/drawingml/2006/table">
            <a:tbl>
              <a:tblPr/>
              <a:tblGrid>
                <a:gridCol w="5181480"/>
                <a:gridCol w="2590920"/>
              </a:tblGrid>
              <a:tr h="1190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ho Has the Oil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erv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rth Americ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.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outh and Central Americ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9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estern Europ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.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ormer Soviet Countr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.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iddle Ea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3.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fric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ar East and Ocean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033.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2286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f6228"/>
                </a:solidFill>
                <a:latin typeface="Calibri"/>
              </a:rPr>
              <a:t>No matter what our decision…</a:t>
            </a:r>
            <a:br>
              <a:rPr sz="3600"/>
            </a:br>
            <a:r>
              <a:rPr b="1" lang="en-US" sz="3600" spc="-1" strike="noStrike">
                <a:solidFill>
                  <a:srgbClr val="4f6228"/>
                </a:solidFill>
                <a:latin typeface="Calibri"/>
              </a:rPr>
              <a:t>Ask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352680" y="152280"/>
            <a:ext cx="556272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much will be available in the next 15 years?  the next 30 years? longterm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is the source’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net energ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yield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much will it cost to develop, phase in, and use this energy resourc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will extracting, transporting, and using the energy resource affect the environment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this energy source help us sustain the earth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Picture 3" descr="C:\Users\jolill\AppData\Local\Microsoft\Windows\Temporary Internet Files\Content.IE5\7CPA9WEO\MPj04372720000[1].jpg"/>
          <p:cNvPicPr/>
          <p:nvPr/>
        </p:nvPicPr>
        <p:blipFill>
          <a:blip r:embed="rId1"/>
          <a:stretch/>
        </p:blipFill>
        <p:spPr>
          <a:xfrm>
            <a:off x="152280" y="2438280"/>
            <a:ext cx="29718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8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d you beat Mrs. Li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143000"/>
            <a:ext cx="830592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ou analyzed your (presumed) usage of electric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at energy is seconda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Primary Energy Resources:</a:t>
            </a: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  The fossil fuels(oil, gas, and coal), nuclear energy, falling water, geothermal, and solar energ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Secondary Energy Resources</a:t>
            </a: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:  Those sources which are derived from primary resources such as electricity, fuels from coal, (synthetic natural gas and synthetic gasoline), as well as alcohol fuel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1" dur="20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a wat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 watt = energy to lift 100 g (or 1 Newton)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1.0 second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a measure of energy over ti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Energy </a:t>
            </a:r>
            <a:r>
              <a:rPr b="0" lang="en-US" sz="3200" spc="-1" strike="noStrike">
                <a:solidFill>
                  <a:srgbClr val="0000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The ability to do work”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member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The amount of energy in the universe is consta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What are the 2 major laws??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What are the 6 major form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Picture 3" descr="C:\Users\jolill\AppData\Local\Microsoft\Windows\Temporary Internet Files\Content.IE5\9ISTM1HJ\MCj02909300000[1].wmf"/>
          <p:cNvPicPr/>
          <p:nvPr/>
        </p:nvPicPr>
        <p:blipFill>
          <a:blip r:embed="rId1"/>
          <a:stretch/>
        </p:blipFill>
        <p:spPr>
          <a:xfrm rot="1311000">
            <a:off x="7238880" y="2209320"/>
            <a:ext cx="114948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80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4" dur="500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ther Units of Ener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 calorie = amount of heat needed to heat 1 g of water 1 degree Celsi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 cal = 4.187 Jo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 Btu (British thermal unit) = amount of heat energy needed to raise the temp of 1 pound of water by 1 degree Fahrenhe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 Btu = 1,054 joules; 252 calor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 Q (quad) = 1 quadrillion Btu (very large!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.S. uses ~ 1 quad of energy about every 3.7 d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re Units of Ener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 kWh = one kilowatt of electricity over 1 ho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energy it takes to burn a 100 watt light bulb for 10 hours (costs an average of 9 cent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.6 million jo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,412 Bt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 CF = Cubic foot: a measure of volu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CF of natural gas contains about 1020 Bt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3T01:50:44Z</dcterms:created>
  <dc:creator>Joanne Lilliendahl</dc:creator>
  <dc:description/>
  <dc:language>en-US</dc:language>
  <cp:lastModifiedBy>udsd</cp:lastModifiedBy>
  <dcterms:modified xsi:type="dcterms:W3CDTF">2008-05-09T22:07:29Z</dcterms:modified>
  <cp:revision>74</cp:revision>
  <dc:subject/>
  <dc:title>Energy – Where does it come from and why does it produce waste?</dc:title>
</cp:coreProperties>
</file>