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12.png" ContentType="image/png"/>
  <Override PartName="/ppt/media/image31.jpeg" ContentType="image/jpeg"/>
  <Override PartName="/ppt/media/image30.jpeg" ContentType="image/jpeg"/>
  <Override PartName="/ppt/media/image1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C466-A551-4CA2-8D9E-A9FDE9BFA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F082-411C-45F6-8AB9-DEA00EDF7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51CB-2573-4521-A72F-A5D0A7E5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70CD-DBAA-4113-B798-48E16B58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EA7F-9FBD-46C0-9CDD-1F38F48D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8AB4-C327-4C8F-9656-5DC87B5A9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5327-158D-48FF-A1CE-0B42622D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980C-7C1E-498F-9400-5A7BADDD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96F8-D124-4D4C-900D-4F2453DF2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7FA7-A985-4D26-B4FC-A2B095CB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1 definitely.  Numbers 2-5 are contested by ma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1B1E-D894-431C-93A9-7A1C36E2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D5CF-2769-459C-9E4A-4E2AB5ADE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E438-6C9C-44C2-8B70-CED820B6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B594-274B-4665-A72E-953D61701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an apple or a 100 g mass next to a vertical meter stick, and lift it to the top of the meter stick in 1.0 second time. “How much power did it take to do this? – One watt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9500-ECB5-476D-8A89-E690E3366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a.doe.gov/kids/classactivities/EnergyAnalysisEIA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8D09-C84D-48BE-8148-D88E848F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7A3-6A6C-4BA7-BC39-8FD593D0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4FE-7811-4612-B199-F54FB016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B1B-667E-4AE3-BFE8-856509C9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E06-5510-4DB1-8885-EAD1B8D3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A773-A566-4E3C-A586-8B7F1332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41D1-5319-4B09-89B9-4715B5FD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C149-6698-4F6F-8EF0-675A1E74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726F-499B-4D93-B7D4-59B7F15A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602F-69E3-4E02-8975-855D7394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6160-EEEE-4BBE-B598-945E626B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6F15-1A99-4596-BC9D-D7AFEF2A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AB8-1243-4210-8C2E-34B2A6C0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E6CF-7BAF-44DD-8FC5-90E3273A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1AC4-F20C-4F35-ABF3-3AD8649C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034A-C8BC-4054-B667-42646C7F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3BE6-8E37-43D5-B303-1A19DE7D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F67-B084-478F-B5CF-73C3CFF4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BFE9A-C21C-4946-AD2C-F258CC03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633B7-9FB0-4972-BE99-28B63CD2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B6208-C7D9-465B-A729-AC872D8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71137-DE3D-46D3-A4B1-AC4456BF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F2085-49EE-4F0C-AB1D-F91A7579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713-8598-4D8A-BC4D-1563A25A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30810-FF24-4BC7-9D05-399F551D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EFEB2-2F49-4488-9F71-5B8FF0F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09869-4BF8-4138-8116-316CD613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DDC42-F80F-41CA-B890-9AAC4866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0BBA3-91B0-4DDC-A30D-C0B11452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4FDA1-C61B-4B96-B764-CE707AF7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B057D-34AC-4DE9-BBC6-2FB5DDFB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FDF-8D2D-489B-AF9E-99940927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12A-4BB5-43E7-A55D-E40DF07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DB7-C748-4999-B11A-FF6CA044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C50-4C28-4A7A-AEEB-FECF586D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AB5-9713-4F87-BAB1-2CF64EEA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B1B-56A6-44EC-9A0C-83A33C32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AE8E-D62A-4727-B74A-A17E59AB3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8038-EDB4-41AA-B616-6BAF853E5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EFC6-8469-4209-AAB8-0E2831320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icture-newsletter.com/nuclear/nuclear-power-plant-9igh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5Vwxabb12s&amp;feature=related" TargetMode="External"/><Relationship Id="rId2" Type="http://schemas.openxmlformats.org/officeDocument/2006/relationships/hyperlink" Target="http://www.youtube.com/watch?v=f5Vwxabb12s&amp;feature=related" TargetMode="External"/><Relationship Id="rId3" Type="http://schemas.openxmlformats.org/officeDocument/2006/relationships/hyperlink" Target="http://www.youtube.com/watch?v=f5Vwxabb12s&amp;feature=related" TargetMode="External"/><Relationship Id="rId4" Type="http://schemas.openxmlformats.org/officeDocument/2006/relationships/hyperlink" Target="http://www.youtube.com/watch?v=mUMAfSBR4yg&amp;feature=related" TargetMode="External"/><Relationship Id="rId5" Type="http://schemas.openxmlformats.org/officeDocument/2006/relationships/hyperlink" Target="http://www.youtube.com/watch?v=mUMAfSBR4yg&amp;feature=related" TargetMode="External"/><Relationship Id="rId6" Type="http://schemas.openxmlformats.org/officeDocument/2006/relationships/hyperlink" Target="http://www.youtube.com/watch?v=mUMAfSBR4yg&amp;feature=related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457200"/>
            <a:ext cx="3657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How can changing a light bulb reduce greenhouse gas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jolill\AppData\Local\Microsoft\Windows\Temporary Internet Files\Content.IE5\7CPA9WEO\MPj04373310000[1].jpg"/>
          <p:cNvPicPr/>
          <p:nvPr/>
        </p:nvPicPr>
        <p:blipFill>
          <a:blip r:embed="rId1"/>
          <a:stretch/>
        </p:blipFill>
        <p:spPr>
          <a:xfrm>
            <a:off x="2438280" y="4041720"/>
            <a:ext cx="2819520" cy="2816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jolill\AppData\Local\Microsoft\Windows\Temporary Internet Files\Content.IE5\9ISTM1HJ\MCj02909300000[1].wmf"/>
          <p:cNvPicPr/>
          <p:nvPr/>
        </p:nvPicPr>
        <p:blipFill>
          <a:blip r:embed="rId2"/>
          <a:stretch/>
        </p:blipFill>
        <p:spPr>
          <a:xfrm>
            <a:off x="7696080" y="685800"/>
            <a:ext cx="11494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jolill\AppData\Local\Microsoft\Windows\Temporary Internet Files\Content.IE5\ZIHHMIK6\MPj04373300000[1].jpg"/>
          <p:cNvPicPr/>
          <p:nvPr/>
        </p:nvPicPr>
        <p:blipFill>
          <a:blip r:embed="rId3"/>
          <a:stretch/>
        </p:blipFill>
        <p:spPr>
          <a:xfrm>
            <a:off x="380880" y="457200"/>
            <a:ext cx="3505320" cy="3733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jolill\AppData\Local\Microsoft\Windows\Temporary Internet Files\Content.IE5\7CPA9WEO\MCj04347170000[1].wmf"/>
          <p:cNvPicPr/>
          <p:nvPr/>
        </p:nvPicPr>
        <p:blipFill>
          <a:blip r:embed="rId4"/>
          <a:stretch/>
        </p:blipFill>
        <p:spPr>
          <a:xfrm>
            <a:off x="7924680" y="2971800"/>
            <a:ext cx="765360" cy="179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jolill\AppData\Local\Microsoft\Windows\Temporary Internet Files\Content.IE5\7CPA9WEO\MPj04372340000[1].jpg"/>
          <p:cNvPicPr/>
          <p:nvPr/>
        </p:nvPicPr>
        <p:blipFill>
          <a:blip r:embed="rId5"/>
          <a:stretch/>
        </p:blipFill>
        <p:spPr>
          <a:xfrm>
            <a:off x="5486400" y="419112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jolill\AppData\Local\Microsoft\Windows\Temporary Internet Files\Content.IE5\9ISTM1HJ\MPj04372700000[1].jpg"/>
          <p:cNvPicPr/>
          <p:nvPr/>
        </p:nvPicPr>
        <p:blipFill>
          <a:blip r:embed="rId6"/>
          <a:stretch/>
        </p:blipFill>
        <p:spPr>
          <a:xfrm>
            <a:off x="762120" y="4648320"/>
            <a:ext cx="152712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th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wind, moving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electr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ergy of temperatur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tter temperatures can do more 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Electrical Wires"/>
          <p:cNvPicPr/>
          <p:nvPr/>
        </p:nvPicPr>
        <p:blipFill>
          <a:blip r:embed="rId1"/>
          <a:stretch/>
        </p:blipFill>
        <p:spPr>
          <a:xfrm>
            <a:off x="723888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windmills"/>
          <p:cNvPicPr/>
          <p:nvPr/>
        </p:nvPicPr>
        <p:blipFill>
          <a:blip r:embed="rId2"/>
          <a:stretch/>
        </p:blipFill>
        <p:spPr>
          <a:xfrm>
            <a:off x="4952880" y="1295280"/>
            <a:ext cx="2067120" cy="270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urning-of-woo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800600"/>
            <a:ext cx="23194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phot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bonds between ato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food, wood, gasoline, batteries, coal, oil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subatomic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Nuclear power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nuclear-power-plant-9i.jpg (96092 Byte) nuclear power plant Leibstad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8769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jolill\AppData\Local\Microsoft\Windows\Temporary Internet Files\Content.IE5\9ISTM1HJ\MCj04325890000[1].png"/>
          <p:cNvPicPr/>
          <p:nvPr/>
        </p:nvPicPr>
        <p:blipFill>
          <a:blip r:embed="rId3"/>
          <a:stretch/>
        </p:blipFill>
        <p:spPr>
          <a:xfrm>
            <a:off x="487692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jolill\AppData\Local\Microsoft\Windows\Temporary Internet Files\Content.IE5\ZIHHMIK6\MCj02333910000[1].wmf"/>
          <p:cNvPicPr/>
          <p:nvPr/>
        </p:nvPicPr>
        <p:blipFill>
          <a:blip r:embed="rId4"/>
          <a:stretch/>
        </p:blipFill>
        <p:spPr>
          <a:xfrm>
            <a:off x="6400800" y="2819520"/>
            <a:ext cx="2216160" cy="190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onservation of Energ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can neither be created nor destr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 in the universe is cons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can’t destroy energy,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nge its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Light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jolill\AppData\Local\Microsoft\Windows\Temporary Internet Files\Content.IE5\7CPA9WEO\MCj02903820000[1].wmf"/>
          <p:cNvPicPr/>
          <p:nvPr/>
        </p:nvPicPr>
        <p:blipFill>
          <a:blip r:embed="rId1"/>
          <a:stretch/>
        </p:blipFill>
        <p:spPr>
          <a:xfrm>
            <a:off x="5562720" y="3995640"/>
            <a:ext cx="27302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Qualit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w temperature he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least useful energy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90% of energy in gas (chemical) is changed to hea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10% of the electricity flowing through a light bulb is converted to light energy (the rest is he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840000">
            <a:off x="7924320" y="914400"/>
            <a:ext cx="8845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electri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are normally neutral, but interactions can create imbal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electrons move through metal wires, they rub against the wire – creating friction.  This resistance creates heat and even l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re does this supply of electrons come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C:\Users\jolill\AppData\Local\Microsoft\Windows\Temporary Internet Files\Content.IE5\7CPA9WEO\MCj04369170000[1].png"/>
          <p:cNvPicPr/>
          <p:nvPr/>
        </p:nvPicPr>
        <p:blipFill>
          <a:blip r:embed="rId1"/>
          <a:stretch/>
        </p:blipFill>
        <p:spPr>
          <a:xfrm>
            <a:off x="701028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=f5Vwxabb12s&amp;feature=related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=mUMAfSBR4yg&amp;feature=relat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3" descr="light-bulb-label.jpg"/>
          <p:cNvPicPr/>
          <p:nvPr/>
        </p:nvPicPr>
        <p:blipFill>
          <a:blip r:embed="rId7"/>
          <a:stretch/>
        </p:blipFill>
        <p:spPr>
          <a:xfrm>
            <a:off x="685800" y="1371600"/>
            <a:ext cx="7543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862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nets &amp;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metacafe.com/watch/912594/simple_electric_generato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sources, for example coal, are bur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oils water, which produces s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eam spins a tur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rbine spins a mag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et creates a flow of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low of electrons travels from the power plant to your ho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gnet.jpg"/>
          <p:cNvPicPr/>
          <p:nvPr/>
        </p:nvPicPr>
        <p:blipFill>
          <a:blip r:embed="rId1"/>
          <a:stretch/>
        </p:blipFill>
        <p:spPr>
          <a:xfrm>
            <a:off x="4267080" y="0"/>
            <a:ext cx="4343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:\Chapter_12\Present\Images\12_07a-c.jpg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Pictorial image showing the journey of electricity from the power station to our houses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88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Evaluating Energy Resour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U.S. ha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.6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world population; use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24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the world’s energy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84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onrenewable fossil fuels (oil, coal, &amp; natural gas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7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uclear pow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9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renewable sources (hydropower, geothermal, solar, bioma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Users\jolill\AppData\Local\Microsoft\Windows\Temporary Internet Files\Content.IE5\9ISTM1HJ\MPj04373700000[1]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74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ergy – Where does it come from and why does it produce wa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ploring our traditional sources of energy: NONRENEWABL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 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2_04"/>
          <p:cNvPicPr/>
          <p:nvPr/>
        </p:nvPicPr>
        <p:blipFill>
          <a:blip r:embed="rId1"/>
          <a:stretch/>
        </p:blipFill>
        <p:spPr>
          <a:xfrm>
            <a:off x="914400" y="990720"/>
            <a:ext cx="6705720" cy="5648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Primary Energy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12_T01"/>
          <p:cNvPicPr/>
          <p:nvPr/>
        </p:nvPicPr>
        <p:blipFill>
          <a:blip r:embed="rId1"/>
          <a:stretch/>
        </p:blipFill>
        <p:spPr>
          <a:xfrm>
            <a:off x="533520" y="533520"/>
            <a:ext cx="8367480" cy="5790960"/>
          </a:xfrm>
          <a:prstGeom prst="rect">
            <a:avLst/>
          </a:prstGeom>
          <a:ln w="0">
            <a:noFill/>
          </a:ln>
        </p:spPr>
      </p:pic>
      <p:sp>
        <p:nvSpPr>
          <p:cNvPr id="196" name="Oval 6"/>
          <p:cNvSpPr/>
          <p:nvPr/>
        </p:nvSpPr>
        <p:spPr>
          <a:xfrm>
            <a:off x="6400800" y="3048120"/>
            <a:ext cx="5335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12_10"/>
          <p:cNvPicPr/>
          <p:nvPr/>
        </p:nvPicPr>
        <p:blipFill>
          <a:blip r:embed="rId1"/>
          <a:stretch/>
        </p:blipFill>
        <p:spPr>
          <a:xfrm>
            <a:off x="533520" y="363600"/>
            <a:ext cx="77914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the fig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primary energy source for all of our transport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end use consumer of U.S. energ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primary energy source us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econd largest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mallest utilized primary energy source and what is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primary energy source powers all sectors of end us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coal used to pow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does industry draw its power fro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nuclear power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nly end use item that has one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88720"/>
            <a:ext cx="77392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Fossil Fue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66916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originated from the decay of living organisms millions of years ago, and account for about 80% of the energy generated in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fossil fuels used in energy generati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atural gas, which is 70 - 80% methane (C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iquid hydrocarbons obtained from the distillation of 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al - a solid mixture of large molecules with a H/C ratio of abou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12_11ab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648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6" descr="12_11c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152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ergy resources removed from the earth’s crust include: oil, natural gas, coal, and 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_x000e_MILES81902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E:\Chapter_12\Present\Images\12_T03.jpg"/>
          <p:cNvPicPr/>
          <p:nvPr/>
        </p:nvPicPr>
        <p:blipFill>
          <a:blip r:embed="rId1"/>
          <a:stretch/>
        </p:blipFill>
        <p:spPr>
          <a:xfrm>
            <a:off x="1219320" y="2286000"/>
            <a:ext cx="723888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 is cheaper but gas is clea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: $0.85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Gas: $2.18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ude Oil: $2.97 per million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890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Problems with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are non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t projected consumption rates, natural gas and petroleum will be depleted before the end of the 21st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mpurities in fossil fuels are a major source of 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ning fossil fuels produce large amounts of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, which contributes to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28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is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forms does it come in &amp; how do we use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Understand that ALL sources of energy have costs and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y do we use nonrenewab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C:\Users\jolill\AppData\Local\Microsoft\Windows\Temporary Internet Files\Content.IE5\E3FIT9Z8\MPj04372480000[1].jpg"/>
          <p:cNvPicPr/>
          <p:nvPr/>
        </p:nvPicPr>
        <p:blipFill>
          <a:blip r:embed="rId1"/>
          <a:stretch/>
        </p:blipFill>
        <p:spPr>
          <a:xfrm>
            <a:off x="5638680" y="4114800"/>
            <a:ext cx="319104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jolill\AppData\Local\Microsoft\Windows\Temporary Internet Files\Content.IE5\9ISTM1HJ\MPj04373530000[1].jpg"/>
          <p:cNvPicPr/>
          <p:nvPr/>
        </p:nvPicPr>
        <p:blipFill>
          <a:blip r:embed="rId2"/>
          <a:stretch/>
        </p:blipFill>
        <p:spPr>
          <a:xfrm>
            <a:off x="2743200" y="40384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jolill\AppData\Local\Microsoft\Windows\Temporary Internet Files\Content.IE5\7CPA9WEO\MPj04372980000[1].jpg"/>
          <p:cNvPicPr/>
          <p:nvPr/>
        </p:nvPicPr>
        <p:blipFill>
          <a:blip r:embed="rId3"/>
          <a:stretch/>
        </p:blipFill>
        <p:spPr>
          <a:xfrm>
            <a:off x="380880" y="4038480"/>
            <a:ext cx="2487600" cy="251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jolill\AppData\Local\Microsoft\Windows\Temporary Internet Files\Content.IE5\7CPA9WEO\MCj03266400000[1].wmf"/>
          <p:cNvPicPr/>
          <p:nvPr/>
        </p:nvPicPr>
        <p:blipFill>
          <a:blip r:embed="rId4"/>
          <a:stretch/>
        </p:blipFill>
        <p:spPr>
          <a:xfrm>
            <a:off x="6934320" y="208080"/>
            <a:ext cx="1574640" cy="14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jolill\AppData\Local\Microsoft\Windows\Temporary Internet Files\Content.IE5\E3FIT9Z8\MCj04326430000[1].png"/>
          <p:cNvPicPr/>
          <p:nvPr/>
        </p:nvPicPr>
        <p:blipFill>
          <a:blip r:embed="rId5"/>
          <a:stretch/>
        </p:blipFill>
        <p:spPr>
          <a:xfrm rot="2247000">
            <a:off x="7137000" y="2793960"/>
            <a:ext cx="1390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80880" y="8380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Energy Resourc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1. 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2. Natural 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3. C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4. Nuclear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629400" y="6599160"/>
            <a:ext cx="2514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O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eposits of crude oil often are trapped within the earth's crust and can be extracted by drilling a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, produced by the decomposition of deeply buried organic matter from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rude oil:  complex liquid mixture of hydrocarbons, with small amounts of S, O, N impu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48769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 (crude o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ck, black oil as it comes out of the 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Estimated reserv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ated guesses about the location and size of oil or natural gas depos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ven reserv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how much oil can be economically obtained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withdrawal of oil or gas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valuable natural resource 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oline, heating oil, jet fuel, grease, wax, asphalt, plastic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oilblob"/>
          <p:cNvPicPr/>
          <p:nvPr/>
        </p:nvPicPr>
        <p:blipFill>
          <a:blip r:embed="rId1"/>
          <a:stretch/>
        </p:blipFill>
        <p:spPr>
          <a:xfrm>
            <a:off x="5257800" y="1523880"/>
            <a:ext cx="36957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ompos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ncient se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bu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decayed (some carbon remai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llions of year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ll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mp out oil that flows by gravity into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ect water into nearby water to force oil into w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9" descr="Typical production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349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main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hanced (Tertiary) Oil 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CO2flooding"/>
          <p:cNvPicPr/>
          <p:nvPr/>
        </p:nvPicPr>
        <p:blipFill>
          <a:blip r:embed="rId1"/>
          <a:stretch/>
        </p:blipFill>
        <p:spPr>
          <a:xfrm>
            <a:off x="600120" y="1447920"/>
            <a:ext cx="7934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ganization of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roleum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xporting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in 1960 so developing countries would get a fair price for the re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67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world’s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udi Arabia (#1), Iraq (#2), Iran, Kuwait, UAE, Algeria, Libya, Nigeria, Ecuador, Gabon, Indonesia, Qatar, and Venezue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WINDOWS\DESKTOP\APES Powerpoint\energy\worldreserves.gif"/>
          <p:cNvPicPr/>
          <p:nvPr/>
        </p:nvPicPr>
        <p:blipFill>
          <a:blip r:embed="rId1"/>
          <a:stretch/>
        </p:blipFill>
        <p:spPr>
          <a:xfrm>
            <a:off x="-1371600" y="0"/>
            <a:ext cx="11658600" cy="72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42900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il in U.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609480"/>
            <a:ext cx="3276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3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 nearl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5% for transpor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creasing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pendence on import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D:\users\prich\lite_web\L11_figs\M15_08.pct"/>
          <p:cNvPicPr/>
          <p:nvPr/>
        </p:nvPicPr>
        <p:blipFill>
          <a:blip r:embed="rId1"/>
          <a:stretch/>
        </p:blipFill>
        <p:spPr>
          <a:xfrm>
            <a:off x="3581280" y="1219320"/>
            <a:ext cx="4902480" cy="5410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_x000e_MILES81907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441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80880" y="2286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w oil prices have stimulated economic growth, they have discouraged / prevented improvements in energy efficiency and alternative technologies favoring renewabl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C:\Users\jolill\AppData\Local\Microsoft\Windows\Temporary Internet Files\Content.IE5\ZIHHMIK6\MPj04372970000[1].jpg"/>
          <p:cNvPicPr/>
          <p:nvPr/>
        </p:nvPicPr>
        <p:blipFill>
          <a:blip r:embed="rId1"/>
          <a:stretch/>
        </p:blipFill>
        <p:spPr>
          <a:xfrm>
            <a:off x="0" y="228600"/>
            <a:ext cx="1670040" cy="1673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at is our best immediate energy op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ut out unnecessary energy waste by improving energy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ransition to a renewable  or solar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, wind, flowing water, biomass, geothermal, hydrogen 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urn more coal &amp; synthetic gas/liq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Nuclear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jolill\AppData\Local\Microsoft\Windows\Temporary Internet Files\Content.IE5\E3FIT9Z8\MCBD06663_0000[1].wmf"/>
          <p:cNvPicPr/>
          <p:nvPr/>
        </p:nvPicPr>
        <p:blipFill>
          <a:blip r:embed="rId2"/>
          <a:stretch/>
        </p:blipFill>
        <p:spPr>
          <a:xfrm>
            <a:off x="6553080" y="4724280"/>
            <a:ext cx="2103480" cy="182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jolill\AppData\Local\Microsoft\Windows\Temporary Internet Files\Content.IE5\9ISTM1HJ\MCj04376290000[1].png"/>
          <p:cNvPicPr/>
          <p:nvPr/>
        </p:nvPicPr>
        <p:blipFill>
          <a:blip r:embed="rId3"/>
          <a:stretch/>
        </p:blipFill>
        <p:spPr>
          <a:xfrm>
            <a:off x="7086600" y="10666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 Barrel of Persian Gulf Oil Really Costs U.S.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$30 in initial co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$61 for military support servi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$91 per barrel of o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rentice Hall 200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il near $119 after report of Iranian boat f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NBC April. 25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_x000e_MILES81910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27" descr="http://cwx.prenhall.com/bookbind/pubbooks/hillchem3/medialib/media_portfolio/text_images/CH06/FG06_21.JPG"/>
          <p:cNvPicPr/>
          <p:nvPr/>
        </p:nvPicPr>
        <p:blipFill>
          <a:blip r:embed="rId1"/>
          <a:stretch/>
        </p:blipFill>
        <p:spPr>
          <a:xfrm>
            <a:off x="685800" y="0"/>
            <a:ext cx="768492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WINDOWS\DESKTOP\APES Powerpoint\energy\distillationcolumn.gif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orms of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Shale &amp; Tar S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forms of rock/sand that can be transformed (crushed/heated or pressurized) to be use like crude o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: In Canada &amp; U.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: Need ½ barrel of oil to extract &amp; puri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large amounts of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lutes groundwater, air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tar_sands3"/>
          <p:cNvPicPr/>
          <p:nvPr/>
        </p:nvPicPr>
        <p:blipFill>
          <a:blip r:embed="rId1"/>
          <a:stretch/>
        </p:blipFill>
        <p:spPr>
          <a:xfrm>
            <a:off x="304920" y="76212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tar_sands_lg"/>
          <p:cNvPicPr/>
          <p:nvPr/>
        </p:nvPicPr>
        <p:blipFill>
          <a:blip r:embed="rId2"/>
          <a:stretch/>
        </p:blipFill>
        <p:spPr>
          <a:xfrm>
            <a:off x="4419720" y="762120"/>
            <a:ext cx="426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stu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1MiQCBIx1mM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an air conditioner works (not the energy about it th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nergy Consumption in the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(ste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09480" y="41911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4, an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.5% of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12_05"/>
          <p:cNvPicPr/>
          <p:nvPr/>
        </p:nvPicPr>
        <p:blipFill>
          <a:blip r:embed="rId1"/>
          <a:stretch/>
        </p:blipFill>
        <p:spPr>
          <a:xfrm>
            <a:off x="3962520" y="99072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77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77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5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5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914400" y="380880"/>
          <a:ext cx="7772400" cy="6264360"/>
        </p:xfrm>
        <a:graphic>
          <a:graphicData uri="http://schemas.openxmlformats.org/drawingml/2006/table">
            <a:tbl>
              <a:tblPr/>
              <a:tblGrid>
                <a:gridCol w="5181480"/>
                <a:gridCol w="2590920"/>
              </a:tblGrid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Has the Oil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r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nd Central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ern 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er Soviet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 E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 East and Oce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228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No matter what our decision…</a:t>
            </a:r>
            <a:br>
              <a:rPr sz="3600"/>
            </a:b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As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352680" y="152280"/>
            <a:ext cx="5562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be available in the next 15 years?  the next 30 years? longte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ource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 ener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ie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it cost to develop, phase in, and use this energy resour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extracting, transporting, and using the energy resource affect the environ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this energy source help us sustain the ear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Users\jolill\AppData\Local\Microsoft\Windows\Temporary Internet Files\Content.IE5\7CPA9WEO\MPj04372720000[1].jpg"/>
          <p:cNvPicPr/>
          <p:nvPr/>
        </p:nvPicPr>
        <p:blipFill>
          <a:blip r:embed="rId1"/>
          <a:stretch/>
        </p:blipFill>
        <p:spPr>
          <a:xfrm>
            <a:off x="152280" y="24382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7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d you beat Mrs. L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nalyzed your (presumed) usage of 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energy is secon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imary Energy Resources: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 The fossil fuels(oil, gas, and coal), nuclear energy, falling water, geothermal, and solar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econdary Energy Resources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:  Those sources which are derived from primary resources such as electricity, fuels from coal, (synthetic natural gas and synthetic gasoline), as well as alcohol fu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wat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watt = energy to lift 100 g (or 1 Newton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.0 seco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easure of energy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ability to do work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amount of energy in the universe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2 major laws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6 major form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1311000">
            <a:off x="7238880" y="2209320"/>
            <a:ext cx="11494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alorie = amount of heat needed to heat 1 g of water 1 degree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al = 4.187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Btu (British thermal unit) = amount of heat energy needed to raise the temp of 1 pound of water by 1 degree Fahrenh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Btu = 1,054 joules; 252 cal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Q (quad) = 1 quadrillion Btu (very larg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.S. uses ~ 1 quad of energy about every 3.7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kWh = one kilowatt of electricity over 1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ergy it takes to burn a 100 watt light bulb for 10 hours (costs an average of 9 c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6 million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,412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F = Cubic foot: a measure of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F of natural gas contains about 1020 B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1:50:44Z</dcterms:created>
  <dc:creator>Joanne Lilliendahl</dc:creator>
  <dc:description/>
  <dc:language>en-US</dc:language>
  <cp:lastModifiedBy>udsd</cp:lastModifiedBy>
  <dcterms:modified xsi:type="dcterms:W3CDTF">2008-05-09T22:07:29Z</dcterms:modified>
  <cp:revision>74</cp:revision>
  <dc:subject/>
  <dc:title>Energy – Where does it come from and why does it produce waste?</dc:title>
</cp:coreProperties>
</file>