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9.jpeg" ContentType="image/jpeg"/>
  <Override PartName="/ppt/media/image23.wmf" ContentType="image/x-wmf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49.jpeg" ContentType="image/jpeg"/>
  <Override PartName="/ppt/media/image12.png" ContentType="image/png"/>
  <Override PartName="/ppt/media/image31.jpeg" ContentType="image/jpeg"/>
  <Override PartName="/ppt/media/image30.jpeg" ContentType="image/jpeg"/>
  <Override PartName="/ppt/media/image1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3699-6BE4-4BE2-8337-6E8E33A05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0C03-C812-4145-9AE2-BB60DB1A2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9EDB-CC73-4A24-9315-F8C1ECB4F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4A26-F56C-4B05-ADD1-36AB4D3E0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FCF9-4F2A-446F-A1C8-FAAE29F50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4C54-C4EB-4FB5-B698-A61D5013D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37FC-5051-43CB-8300-408D1DE95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DB3C-1DD0-4A90-9793-4A88BB2BF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598E-EB0F-477A-AA2E-964A9598A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6914-AB17-4428-825D-5B0A6F5A1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1 definitely.  Numbers 2-5 are contested by ma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CF7E-E16E-4E2E-90DA-B10666ADE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C5A8-92C1-4E7D-BA6C-BF72863CA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0841-8CE2-404C-8E85-C6864E6CC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6D3E-81AC-41F1-9136-40FB6C336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an apple or a 100 g mass next to a vertical meter stick, and lift it to the top of the meter stick in 1.0 second time. “How much power did it take to do this? – One watt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3411-D8BB-4EB8-AB86-C6D2D816D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a.doe.gov/kids/classactivities/EnergyAnalysisEIA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DE74-491B-4706-B463-3D46A4B74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1C3-92B0-4E3A-B214-70B3F94A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ABD-F4FC-4CED-B3AE-5504CEAE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74B-29AB-4FFA-BA46-BCE4769B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81E-26A4-4A0D-B461-A431E42E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9511-9145-4F17-AEDE-760E59EF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A154-E31C-451E-A587-CB49ADDD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8965-4596-4313-9323-CB8E37AD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A4EB-69F0-4BAA-B5B5-7F124ECD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918E-BDC8-49AA-AC05-9BFB9657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18A7-7953-4E25-ACAA-6C9CDEC6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19B4-52B8-4310-B4FD-0AB809F0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C8D-1254-43C3-8749-5B624EE5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A034-9328-4603-8B20-28785941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7D4A-1021-46D6-BFA5-8E320096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4EB3-25E5-44B7-A8B5-EBD5BC78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7161-02A5-43E4-A007-F43FF100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1207-B6D2-4F31-B3DD-39F97C7D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02AE3-194F-4681-9866-2F328295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F6CE3-A127-4BC7-967B-4B2EF3AA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D693B-7B15-4D4A-9C8B-D8A21FB4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5DA19-4626-446B-AD56-763E9EE9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BAE6D-36A6-427A-8EA5-BECD9C07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0D3-8D0F-4F06-AFB0-4DB34A22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A6048-1EF9-4754-A840-0219F1CB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44A72-80A5-4807-82D5-627BAD05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E3540-4460-45E7-973B-CAF03690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3C8D1-B9D7-4098-98D8-47B9D9E7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09013-A447-4589-95F9-7D44046A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F0B91-81F2-4E89-99D3-72636544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EA528-7CE7-4037-A514-2DD24313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D22-ABC4-416D-B79E-D2DBDDA6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F67-E886-401A-85B2-B5D87D36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BBB-1623-4D56-8539-5BD33790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BFF-AC7D-42E1-BE37-E165A431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3A5-2CEE-4283-8A69-E727E91C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A18-DE12-4734-A1B9-38534C43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679E-51D9-46E3-9FE0-EE98D988A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E8E9-BC1C-4D69-BC57-87A4E732E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FF63-CA29-4ADF-864B-E871DAFC7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goalfinder.com/images/SCCAPP2/burning-of-wood.jpg&amp;imgrefurl=http://www.goalfinder.com/product.asp%3Fproductid%3D74&amp;h=161&amp;w=250&amp;sz=7&amp;hl=en&amp;start=42&amp;tbnid=HsqnibfLl1Oa2M:&amp;tbnh=71&amp;tbnw=111&amp;prev=/images%3Fq%3Dburning%2Bwood%26start%3D40%26gbv%3D2%26ndsp%3D20%26svnum%3D10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icture-newsletter.com/nuclear/nuclear-power-plant-9igh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5Vwxabb12s&amp;feature=related" TargetMode="External"/><Relationship Id="rId2" Type="http://schemas.openxmlformats.org/officeDocument/2006/relationships/hyperlink" Target="http://www.youtube.com/watch?v=f5Vwxabb12s&amp;feature=related" TargetMode="External"/><Relationship Id="rId3" Type="http://schemas.openxmlformats.org/officeDocument/2006/relationships/hyperlink" Target="http://www.youtube.com/watch?v=f5Vwxabb12s&amp;feature=related" TargetMode="External"/><Relationship Id="rId4" Type="http://schemas.openxmlformats.org/officeDocument/2006/relationships/hyperlink" Target="http://www.youtube.com/watch?v=mUMAfSBR4yg&amp;feature=related" TargetMode="External"/><Relationship Id="rId5" Type="http://schemas.openxmlformats.org/officeDocument/2006/relationships/hyperlink" Target="http://www.youtube.com/watch?v=mUMAfSBR4yg&amp;feature=related" TargetMode="External"/><Relationship Id="rId6" Type="http://schemas.openxmlformats.org/officeDocument/2006/relationships/hyperlink" Target="http://www.youtube.com/watch?v=mUMAfSBR4yg&amp;feature=related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9880" y="457200"/>
            <a:ext cx="3657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How can changing a light bulb reduce greenhouse gas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jolill\AppData\Local\Microsoft\Windows\Temporary Internet Files\Content.IE5\7CPA9WEO\MPj04373310000[1].jpg"/>
          <p:cNvPicPr/>
          <p:nvPr/>
        </p:nvPicPr>
        <p:blipFill>
          <a:blip r:embed="rId1"/>
          <a:stretch/>
        </p:blipFill>
        <p:spPr>
          <a:xfrm>
            <a:off x="2438280" y="4041720"/>
            <a:ext cx="2819520" cy="2816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jolill\AppData\Local\Microsoft\Windows\Temporary Internet Files\Content.IE5\9ISTM1HJ\MCj02909300000[1].wmf"/>
          <p:cNvPicPr/>
          <p:nvPr/>
        </p:nvPicPr>
        <p:blipFill>
          <a:blip r:embed="rId2"/>
          <a:stretch/>
        </p:blipFill>
        <p:spPr>
          <a:xfrm>
            <a:off x="7696080" y="685800"/>
            <a:ext cx="1149480" cy="172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jolill\AppData\Local\Microsoft\Windows\Temporary Internet Files\Content.IE5\ZIHHMIK6\MPj04373300000[1].jpg"/>
          <p:cNvPicPr/>
          <p:nvPr/>
        </p:nvPicPr>
        <p:blipFill>
          <a:blip r:embed="rId3"/>
          <a:stretch/>
        </p:blipFill>
        <p:spPr>
          <a:xfrm>
            <a:off x="380880" y="457200"/>
            <a:ext cx="3505320" cy="3733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jolill\AppData\Local\Microsoft\Windows\Temporary Internet Files\Content.IE5\7CPA9WEO\MCj04347170000[1].wmf"/>
          <p:cNvPicPr/>
          <p:nvPr/>
        </p:nvPicPr>
        <p:blipFill>
          <a:blip r:embed="rId4"/>
          <a:stretch/>
        </p:blipFill>
        <p:spPr>
          <a:xfrm>
            <a:off x="7924680" y="2971800"/>
            <a:ext cx="765360" cy="1797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Users\jolill\AppData\Local\Microsoft\Windows\Temporary Internet Files\Content.IE5\7CPA9WEO\MPj04372340000[1].jpg"/>
          <p:cNvPicPr/>
          <p:nvPr/>
        </p:nvPicPr>
        <p:blipFill>
          <a:blip r:embed="rId5"/>
          <a:stretch/>
        </p:blipFill>
        <p:spPr>
          <a:xfrm>
            <a:off x="5486400" y="4191120"/>
            <a:ext cx="2286000" cy="2263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Users\jolill\AppData\Local\Microsoft\Windows\Temporary Internet Files\Content.IE5\9ISTM1HJ\MPj04372700000[1].jpg"/>
          <p:cNvPicPr/>
          <p:nvPr/>
        </p:nvPicPr>
        <p:blipFill>
          <a:blip r:embed="rId6"/>
          <a:stretch/>
        </p:blipFill>
        <p:spPr>
          <a:xfrm>
            <a:off x="762120" y="4648320"/>
            <a:ext cx="152712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(6) Form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th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wind, moving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electr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ergy of temperatur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tter temperatures can do more 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Electrical Wires"/>
          <p:cNvPicPr/>
          <p:nvPr/>
        </p:nvPicPr>
        <p:blipFill>
          <a:blip r:embed="rId1"/>
          <a:stretch/>
        </p:blipFill>
        <p:spPr>
          <a:xfrm>
            <a:off x="7238880" y="236232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windmills"/>
          <p:cNvPicPr/>
          <p:nvPr/>
        </p:nvPicPr>
        <p:blipFill>
          <a:blip r:embed="rId2"/>
          <a:stretch/>
        </p:blipFill>
        <p:spPr>
          <a:xfrm>
            <a:off x="4952880" y="1295280"/>
            <a:ext cx="2067120" cy="2705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burning-of-woo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800600"/>
            <a:ext cx="23194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(6) Form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of moving phot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o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the bonds between ato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food, wood, gasoline, batteries, coal, oil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erg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o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subatomic parti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Nuclear power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nuclear-power-plant-9i.jpg (96092 Byte) nuclear power plant Leibstad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876920"/>
            <a:ext cx="2743200" cy="1676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jolill\AppData\Local\Microsoft\Windows\Temporary Internet Files\Content.IE5\9ISTM1HJ\MCj04325890000[1].png"/>
          <p:cNvPicPr/>
          <p:nvPr/>
        </p:nvPicPr>
        <p:blipFill>
          <a:blip r:embed="rId3"/>
          <a:stretch/>
        </p:blipFill>
        <p:spPr>
          <a:xfrm>
            <a:off x="4876920" y="1295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jolill\AppData\Local\Microsoft\Windows\Temporary Internet Files\Content.IE5\ZIHHMIK6\MCj02333910000[1].wmf"/>
          <p:cNvPicPr/>
          <p:nvPr/>
        </p:nvPicPr>
        <p:blipFill>
          <a:blip r:embed="rId4"/>
          <a:stretch/>
        </p:blipFill>
        <p:spPr>
          <a:xfrm>
            <a:off x="6400800" y="2819520"/>
            <a:ext cx="2216160" cy="190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onservation of Energy La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ergy can neither be created nor destroy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 in the universe is consta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can’t destroy energy,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nge its for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Light Bul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C:\Users\jolill\AppData\Local\Microsoft\Windows\Temporary Internet Files\Content.IE5\7CPA9WEO\MCj02903820000[1].wmf"/>
          <p:cNvPicPr/>
          <p:nvPr/>
        </p:nvPicPr>
        <p:blipFill>
          <a:blip r:embed="rId1"/>
          <a:stretch/>
        </p:blipFill>
        <p:spPr>
          <a:xfrm>
            <a:off x="5562720" y="3995640"/>
            <a:ext cx="27302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ergy Quality La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en energy changes form, some useful energy is always degraded to lower quality, less useful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w temperature he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least useful energy for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90% of energy in gas (chemical) is changed to hea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10% of the electricity flowing through a light bulb is converted to light energy (the rest is he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C:\Users\jolill\AppData\Local\Microsoft\Windows\Temporary Internet Files\Content.IE5\9ISTM1HJ\MCj02909300000[1].wmf"/>
          <p:cNvPicPr/>
          <p:nvPr/>
        </p:nvPicPr>
        <p:blipFill>
          <a:blip r:embed="rId1"/>
          <a:stretch/>
        </p:blipFill>
        <p:spPr>
          <a:xfrm rot="840000">
            <a:off x="7924320" y="914400"/>
            <a:ext cx="8845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electri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vement of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are normally neutral, but interactions can create imbal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electrons move through metal wires, they rub against the wire – creating friction.  This resistance creates heat and even ligh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ere does this supply of electrons come f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C:\Users\jolill\AppData\Local\Microsoft\Windows\Temporary Internet Files\Content.IE5\7CPA9WEO\MCj04369170000[1].png"/>
          <p:cNvPicPr/>
          <p:nvPr/>
        </p:nvPicPr>
        <p:blipFill>
          <a:blip r:embed="rId1"/>
          <a:stretch/>
        </p:blipFill>
        <p:spPr>
          <a:xfrm>
            <a:off x="701028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=f5Vwxabb12s&amp;feature=related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youtube.com/watch?v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=mUMAfSBR4yg&amp;feature=relat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Content Placeholder 3" descr="light-bulb-label.jpg"/>
          <p:cNvPicPr/>
          <p:nvPr/>
        </p:nvPicPr>
        <p:blipFill>
          <a:blip r:embed="rId7"/>
          <a:stretch/>
        </p:blipFill>
        <p:spPr>
          <a:xfrm>
            <a:off x="685800" y="1371600"/>
            <a:ext cx="7543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862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gnets &amp;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metacafe.com/watch/912594/simple_electric_generato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sources, for example coal, are burn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boils water, which produces s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eam spins a tur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urbine spins a mag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gnet creates a flow of elec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flow of electrons travels from the power plant to your hom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gnet.jpg"/>
          <p:cNvPicPr/>
          <p:nvPr/>
        </p:nvPicPr>
        <p:blipFill>
          <a:blip r:embed="rId1"/>
          <a:stretch/>
        </p:blipFill>
        <p:spPr>
          <a:xfrm>
            <a:off x="4267080" y="0"/>
            <a:ext cx="4343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4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E:\Chapter_12\Present\Images\12_07a-c.jpg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Pictorial image showing the journey of electricity from the power station to our houses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88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Evaluating Energy Resourc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U.S. has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.6%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of world population; uses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24%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of the world’s energy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84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nonrenewable fossil fuels (oil, coal, &amp; natural gas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7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nuclear powe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9%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from renewable sources (hydropower, geothermal, solar, bioma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C:\Users\jolill\AppData\Local\Microsoft\Windows\Temporary Internet Files\Content.IE5\9ISTM1HJ\MPj04373700000[1].jpg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3743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ergy – Where does it come from and why does it produce was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ploring our traditional sources of energy: NONRENEWABL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 3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12_04"/>
          <p:cNvPicPr/>
          <p:nvPr/>
        </p:nvPicPr>
        <p:blipFill>
          <a:blip r:embed="rId1"/>
          <a:stretch/>
        </p:blipFill>
        <p:spPr>
          <a:xfrm>
            <a:off x="914400" y="990720"/>
            <a:ext cx="6705720" cy="56480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Primary Energy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12_T01"/>
          <p:cNvPicPr/>
          <p:nvPr/>
        </p:nvPicPr>
        <p:blipFill>
          <a:blip r:embed="rId1"/>
          <a:stretch/>
        </p:blipFill>
        <p:spPr>
          <a:xfrm>
            <a:off x="533520" y="533520"/>
            <a:ext cx="8367480" cy="5790960"/>
          </a:xfrm>
          <a:prstGeom prst="rect">
            <a:avLst/>
          </a:prstGeom>
          <a:ln w="0">
            <a:noFill/>
          </a:ln>
        </p:spPr>
      </p:pic>
      <p:sp>
        <p:nvSpPr>
          <p:cNvPr id="196" name="Oval 6"/>
          <p:cNvSpPr/>
          <p:nvPr/>
        </p:nvSpPr>
        <p:spPr>
          <a:xfrm>
            <a:off x="6400800" y="3048120"/>
            <a:ext cx="5335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12_10"/>
          <p:cNvPicPr/>
          <p:nvPr/>
        </p:nvPicPr>
        <p:blipFill>
          <a:blip r:embed="rId1"/>
          <a:stretch/>
        </p:blipFill>
        <p:spPr>
          <a:xfrm>
            <a:off x="533520" y="363600"/>
            <a:ext cx="77914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the fig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primary energy source for all of our transport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argest end use consumer of U.S. energ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argest primary energy source us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econd largest primary energy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mallest utilized primary energy source and what is use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primary energy source powers all sectors of end us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coal used to pow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does industry draw its power fro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nuclear power used f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nly end use item that has one primary energy sour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288720"/>
            <a:ext cx="77392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Fossil Fuel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66916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s originated from the decay of living organisms millions of years ago, and account for about 80% of the energy generated in the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fossil fuels used in energy generation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Natural gas, which is 70 - 80% methane (C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iquid hydrocarbons obtained from the distillation of petrole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oal - a solid mixture of large molecules with a H/C ratio of abou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403960" y="651996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www.lander.edu/rlayland/Chem%20103/chap_12.p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12_11ab"/>
          <p:cNvPicPr/>
          <p:nvPr/>
        </p:nvPicPr>
        <p:blipFill>
          <a:blip r:embed="rId1"/>
          <a:stretch/>
        </p:blipFill>
        <p:spPr>
          <a:xfrm>
            <a:off x="776160" y="1600200"/>
            <a:ext cx="7591680" cy="46483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Fossil Fuels Are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Fossil Fuels Are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6" descr="12_11c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3520" y="1522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ergy resources removed from the earth’s crust include: oil, natural gas, coal, and 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_x000e_MILES81902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E:\Chapter_12\Present\Images\12_T03.jpg"/>
          <p:cNvPicPr/>
          <p:nvPr/>
        </p:nvPicPr>
        <p:blipFill>
          <a:blip r:embed="rId1"/>
          <a:stretch/>
        </p:blipFill>
        <p:spPr>
          <a:xfrm>
            <a:off x="1219320" y="2286000"/>
            <a:ext cx="7238880" cy="3809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l is cheaper but gas is clean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l: $0.85 per million Bt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Gas: $2.18 per million Bt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ude Oil: $2.97 per million 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8908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Problems with Fossil Fu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s are nonrenew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t projected consumption rates, natural gas and petroleum will be depleted before the end of the 21st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mpurities in fossil fuels are a major source of pol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urning fossil fuels produce large amounts of 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, which contributes to 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028"/>
          <p:cNvSpPr/>
          <p:nvPr/>
        </p:nvSpPr>
        <p:spPr>
          <a:xfrm>
            <a:off x="5403960" y="651996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www.lander.edu/rlayland/Chem%20103/chap_12.p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066680"/>
            <a:ext cx="8610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at is ener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at forms does it come in &amp; how do we use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Understand that ALL sources of energy have costs and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pee"/>
              </a:rPr>
              <a:t>Why do we use nonrenewab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C:\Users\jolill\AppData\Local\Microsoft\Windows\Temporary Internet Files\Content.IE5\E3FIT9Z8\MPj04372480000[1].jpg"/>
          <p:cNvPicPr/>
          <p:nvPr/>
        </p:nvPicPr>
        <p:blipFill>
          <a:blip r:embed="rId1"/>
          <a:stretch/>
        </p:blipFill>
        <p:spPr>
          <a:xfrm>
            <a:off x="5638680" y="4114800"/>
            <a:ext cx="319104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jolill\AppData\Local\Microsoft\Windows\Temporary Internet Files\Content.IE5\9ISTM1HJ\MPj04373530000[1].jpg"/>
          <p:cNvPicPr/>
          <p:nvPr/>
        </p:nvPicPr>
        <p:blipFill>
          <a:blip r:embed="rId2"/>
          <a:stretch/>
        </p:blipFill>
        <p:spPr>
          <a:xfrm>
            <a:off x="2743200" y="40384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jolill\AppData\Local\Microsoft\Windows\Temporary Internet Files\Content.IE5\7CPA9WEO\MPj04372980000[1].jpg"/>
          <p:cNvPicPr/>
          <p:nvPr/>
        </p:nvPicPr>
        <p:blipFill>
          <a:blip r:embed="rId3"/>
          <a:stretch/>
        </p:blipFill>
        <p:spPr>
          <a:xfrm>
            <a:off x="380880" y="4038480"/>
            <a:ext cx="2487600" cy="2514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jolill\AppData\Local\Microsoft\Windows\Temporary Internet Files\Content.IE5\7CPA9WEO\MCj03266400000[1].wmf"/>
          <p:cNvPicPr/>
          <p:nvPr/>
        </p:nvPicPr>
        <p:blipFill>
          <a:blip r:embed="rId4"/>
          <a:stretch/>
        </p:blipFill>
        <p:spPr>
          <a:xfrm>
            <a:off x="6934320" y="208080"/>
            <a:ext cx="1574640" cy="14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Users\jolill\AppData\Local\Microsoft\Windows\Temporary Internet Files\Content.IE5\E3FIT9Z8\MCj04326430000[1].png"/>
          <p:cNvPicPr/>
          <p:nvPr/>
        </p:nvPicPr>
        <p:blipFill>
          <a:blip r:embed="rId5"/>
          <a:stretch/>
        </p:blipFill>
        <p:spPr>
          <a:xfrm rot="2247000">
            <a:off x="7137000" y="2793960"/>
            <a:ext cx="13906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80880" y="838080"/>
            <a:ext cx="8077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Energy Resourc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1. O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2. Natural G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3. C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4. Nuclear Ener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629400" y="6599160"/>
            <a:ext cx="2514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Oi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eposits of crude oil often are trapped within the earth's crust and can be extracted by drilling a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ssil fuel, produced by the decomposition of deeply buried organic matter from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rude oil:  complex liquid mixture of hydrocarbons, with small amounts of S, O, N impu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48769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roleum (crude oi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ck, black oil as it comes out of the 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Estimated reserve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ducated guesses about the location and size of oil or natural gas depos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roven reserv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how much oil can be economically obtained from the oil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rodu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withdrawal of oil or gas from the oil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valuable natural resource (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oline, heating oil, jet fuel, grease, wax, asphalt, plastic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" descr="oilblob"/>
          <p:cNvPicPr/>
          <p:nvPr/>
        </p:nvPicPr>
        <p:blipFill>
          <a:blip r:embed="rId1"/>
          <a:stretch/>
        </p:blipFill>
        <p:spPr>
          <a:xfrm>
            <a:off x="5257800" y="1523880"/>
            <a:ext cx="36957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compos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ncient sea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 bu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decayed (some carbon remai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illions of years to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Ex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mary Oil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ll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mp out oil that flows by gravity into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ary Oil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ect water into nearby water to force oil into w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9" descr="Typical production"/>
          <p:cNvPicPr/>
          <p:nvPr/>
        </p:nvPicPr>
        <p:blipFill>
          <a:blip r:embed="rId1"/>
          <a:stretch/>
        </p:blipFill>
        <p:spPr>
          <a:xfrm>
            <a:off x="4800600" y="1828800"/>
            <a:ext cx="4038480" cy="349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main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hanced (Tertiary) Oil Reco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7" descr="CO2flooding"/>
          <p:cNvPicPr/>
          <p:nvPr/>
        </p:nvPicPr>
        <p:blipFill>
          <a:blip r:embed="rId1"/>
          <a:stretch/>
        </p:blipFill>
        <p:spPr>
          <a:xfrm>
            <a:off x="600120" y="1447920"/>
            <a:ext cx="7934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ganization of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P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troleum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xporting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C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in 1960 so developing countries would get a fair price for the re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67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world’s 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udi Arabia (#1), Iraq (#2), Iran, Kuwait, UAE, Algeria, Libya, Nigeria, Ecuador, Gabon, Indonesia, Qatar, and Venezue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WINDOWS\DESKTOP\APES Powerpoint\energy\worldreserves.gif"/>
          <p:cNvPicPr/>
          <p:nvPr/>
        </p:nvPicPr>
        <p:blipFill>
          <a:blip r:embed="rId1"/>
          <a:stretch/>
        </p:blipFill>
        <p:spPr>
          <a:xfrm>
            <a:off x="-1371600" y="0"/>
            <a:ext cx="11658600" cy="725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3429000" y="45720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il in U.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33520" y="609480"/>
            <a:ext cx="32763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3%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of world re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 nearly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0%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of world reser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5% for transport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creasing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ependence on import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D:\users\prich\lite_web\L11_figs\M15_08.pct"/>
          <p:cNvPicPr/>
          <p:nvPr/>
        </p:nvPicPr>
        <p:blipFill>
          <a:blip r:embed="rId1"/>
          <a:stretch/>
        </p:blipFill>
        <p:spPr>
          <a:xfrm>
            <a:off x="3581280" y="1219320"/>
            <a:ext cx="4902480" cy="5410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_x000e_MILES81907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457200" y="2133720"/>
            <a:ext cx="8153280" cy="4410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380880" y="22860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w oil prices have stimulated economic growth, they have discouraged / prevented improvements in energy efficiency and alternative technologies favoring renewable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C:\Users\jolill\AppData\Local\Microsoft\Windows\Temporary Internet Files\Content.IE5\ZIHHMIK6\MPj04372970000[1].jpg"/>
          <p:cNvPicPr/>
          <p:nvPr/>
        </p:nvPicPr>
        <p:blipFill>
          <a:blip r:embed="rId1"/>
          <a:stretch/>
        </p:blipFill>
        <p:spPr>
          <a:xfrm>
            <a:off x="0" y="228600"/>
            <a:ext cx="1670040" cy="1673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hat is our best immediate energy op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ut out unnecessary energy waste by improving energy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ransition to a renewable  or solar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, wind, flowing water, biomass, geothermal, hydrogen 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urn more coal &amp; synthetic gas/liq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Natura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Nuclear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jolill\AppData\Local\Microsoft\Windows\Temporary Internet Files\Content.IE5\E3FIT9Z8\MCBD06663_0000[1].wmf"/>
          <p:cNvPicPr/>
          <p:nvPr/>
        </p:nvPicPr>
        <p:blipFill>
          <a:blip r:embed="rId2"/>
          <a:stretch/>
        </p:blipFill>
        <p:spPr>
          <a:xfrm>
            <a:off x="6553080" y="4724280"/>
            <a:ext cx="2103480" cy="1825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jolill\AppData\Local\Microsoft\Windows\Temporary Internet Files\Content.IE5\9ISTM1HJ\MCj04376290000[1].png"/>
          <p:cNvPicPr/>
          <p:nvPr/>
        </p:nvPicPr>
        <p:blipFill>
          <a:blip r:embed="rId3"/>
          <a:stretch/>
        </p:blipFill>
        <p:spPr>
          <a:xfrm>
            <a:off x="7086600" y="10666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 Barrel of Persian Gulf Oil Really Costs U.S.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$30 in initial co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$61 for military support servi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$91 per barrel of o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rentice Hall 200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il near $119 after report of Iranian boat f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NBC April. 25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_x000e_MILES81910.jpg                                                 00007890&#9;ROCKETEER                      ABA78158: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6629400" y="6580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</a:rPr>
              <a:t>www.bio.miami.edu/beck/esc101/Chapter14&amp;15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027" descr="http://cwx.prenhall.com/bookbind/pubbooks/hillchem3/medialib/media_portfolio/text_images/CH06/FG06_21.JPG"/>
          <p:cNvPicPr/>
          <p:nvPr/>
        </p:nvPicPr>
        <p:blipFill>
          <a:blip r:embed="rId1"/>
          <a:stretch/>
        </p:blipFill>
        <p:spPr>
          <a:xfrm>
            <a:off x="685800" y="0"/>
            <a:ext cx="768492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WINDOWS\DESKTOP\APES Powerpoint\energy\distillationcolumn.gif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orms of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 Shale &amp; Tar S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forms of rock/sand that can be transformed (crushed/heated or pressurized) to be use like crude o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: In Canada &amp; U.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: Need ½ barrel of oil to extract &amp; purif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large amounts of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lutes groundwater, air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tar_sands3"/>
          <p:cNvPicPr/>
          <p:nvPr/>
        </p:nvPicPr>
        <p:blipFill>
          <a:blip r:embed="rId1"/>
          <a:stretch/>
        </p:blipFill>
        <p:spPr>
          <a:xfrm>
            <a:off x="304920" y="76212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tar_sands_lg"/>
          <p:cNvPicPr/>
          <p:nvPr/>
        </p:nvPicPr>
        <p:blipFill>
          <a:blip r:embed="rId2"/>
          <a:stretch/>
        </p:blipFill>
        <p:spPr>
          <a:xfrm>
            <a:off x="4419720" y="762120"/>
            <a:ext cx="426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stu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youtube.com/watch?v=1MiQCBIx1mM&amp;feature=re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an air conditioner works (not the energy about it thoug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Energy Consumption in the United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(ste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al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80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609480" y="41911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4, an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.5% of U.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12_05"/>
          <p:cNvPicPr/>
          <p:nvPr/>
        </p:nvPicPr>
        <p:blipFill>
          <a:blip r:embed="rId1"/>
          <a:stretch/>
        </p:blipFill>
        <p:spPr>
          <a:xfrm>
            <a:off x="3962520" y="990720"/>
            <a:ext cx="4952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7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914400" y="380880"/>
          <a:ext cx="7772400" cy="6264360"/>
        </p:xfrm>
        <a:graphic>
          <a:graphicData uri="http://schemas.openxmlformats.org/drawingml/2006/table">
            <a:tbl>
              <a:tblPr/>
              <a:tblGrid>
                <a:gridCol w="5181480"/>
                <a:gridCol w="2590920"/>
              </a:tblGrid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o Has the Oil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r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nd Central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ern 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er Soviet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dle E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f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 East and Oce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228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No matter what our decision…</a:t>
            </a:r>
            <a:br>
              <a:rPr sz="3600"/>
            </a:b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Ask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352680" y="152280"/>
            <a:ext cx="5562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will be available in the next 15 years?  the next 30 years? longte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ource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et ener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iel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will it cost to develop, phase in, and use this energy resour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extracting, transporting, and using the energy resource affect the environ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this energy source help us sustain the ear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C:\Users\jolill\AppData\Local\Microsoft\Windows\Temporary Internet Files\Content.IE5\7CPA9WEO\MPj04372720000[1].jpg"/>
          <p:cNvPicPr/>
          <p:nvPr/>
        </p:nvPicPr>
        <p:blipFill>
          <a:blip r:embed="rId1"/>
          <a:stretch/>
        </p:blipFill>
        <p:spPr>
          <a:xfrm>
            <a:off x="152280" y="243828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d you beat Mrs. L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analyzed your (presumed) usage of electr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energy is second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imary Energy Resources: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 The fossil fuels(oil, gas, and coal), nuclear energy, falling water, geothermal, and solar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econdary Energy Resources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:  Those sources which are derived from primary resources such as electricity, fuels from coal, (synthetic natural gas and synthetic gasoline), as well as alcohol fu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wat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watt = energy to lift 100 g (or 1 Newton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.0 secon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measure of energy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ergy </a:t>
            </a: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The ability to do work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amount of energy in the universe is cons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are the 2 major laws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are the 6 major form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C:\Users\jolill\AppData\Local\Microsoft\Windows\Temporary Internet Files\Content.IE5\9ISTM1HJ\MCj02909300000[1].wmf"/>
          <p:cNvPicPr/>
          <p:nvPr/>
        </p:nvPicPr>
        <p:blipFill>
          <a:blip r:embed="rId1"/>
          <a:stretch/>
        </p:blipFill>
        <p:spPr>
          <a:xfrm rot="1311000">
            <a:off x="7238880" y="2209320"/>
            <a:ext cx="11494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Unit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alorie = amount of heat needed to heat 1 g of water 1 degree Cels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al = 4.187 Jo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Btu (British thermal unit) = amount of heat energy needed to raise the temp of 1 pound of water by 1 degree Fahrenh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Btu = 1,054 joules; 252 cal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Q (quad) = 1 quadrillion Btu (very large!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.S. uses ~ 1 quad of energy about every 3.7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Units of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kWh = one kilowatt of electricity over 1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ergy it takes to burn a 100 watt light bulb for 10 hours (costs an average of 9 ce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6 million jo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,412 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F = Cubic foot: a measure of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F of natural gas contains about 1020 B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1:50:44Z</dcterms:created>
  <dc:creator>Joanne Lilliendahl</dc:creator>
  <dc:description/>
  <dc:language>en-US</dc:language>
  <cp:lastModifiedBy>udsd</cp:lastModifiedBy>
  <dcterms:modified xsi:type="dcterms:W3CDTF">2008-05-09T22:07:29Z</dcterms:modified>
  <cp:revision>74</cp:revision>
  <dc:subject/>
  <dc:title>Energy – Where does it come from and why does it produce waste?</dc:title>
</cp:coreProperties>
</file>