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2E1-6452-4DC6-9E1F-B9D4B1C6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FCB-6FA0-4D7D-BA19-2895A52A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257-D9A9-4EB1-90BE-102B6CCD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44B-B4F3-4088-BA00-E53F12D7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B0E-B96F-427C-A6FC-A0AE40BA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AC5-C416-486D-A981-F4252955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65C-BD39-444D-A515-AADE652B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06F-EC16-413C-8129-5E669A10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AEA-C81E-4F56-983D-D1FC270B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B22-0634-4042-8E45-0C22508F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C1C-C458-40C7-9235-985F1370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E93-C2F6-4EF8-AB7B-F100E96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8367-02B3-4FEC-9BEB-F9E876F03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link.brightcove.com/services/link/bcpid1213900614/bctid1466838148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UWZb6QbMqQ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Electrical generator"/>
          <p:cNvPicPr/>
          <p:nvPr/>
        </p:nvPicPr>
        <p:blipFill>
          <a:blip r:embed="rId1"/>
          <a:stretch/>
        </p:blipFill>
        <p:spPr>
          <a:xfrm>
            <a:off x="0" y="1870200"/>
            <a:ext cx="8915400" cy="498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How Each Energy Source Works—   to Generate Electricit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-active &amp; Pa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How Small Solar Electric Systems Work "/>
          <p:cNvPicPr/>
          <p:nvPr/>
        </p:nvPicPr>
        <p:blipFill>
          <a:blip r:embed="rId1"/>
          <a:stretch/>
        </p:blipFill>
        <p:spPr>
          <a:xfrm>
            <a:off x="0" y="2590920"/>
            <a:ext cx="499104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Passive Solar Energy"/>
          <p:cNvPicPr/>
          <p:nvPr/>
        </p:nvPicPr>
        <p:blipFill>
          <a:blip r:embed="rId2"/>
          <a:stretch/>
        </p:blipFill>
        <p:spPr>
          <a:xfrm>
            <a:off x="5181480" y="22860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0" y="2660760"/>
            <a:ext cx="3809880" cy="419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rash to Steam to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839080" cy="5181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drogen Fuel Cell</a:t>
            </a:r>
            <a:br>
              <a:rPr sz="40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nk.brightcove.com/services/link/bcpid1213900614/bctid1466838148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Power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Recovery &amp;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410080" cy="54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3124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hoto"/>
          <p:cNvPicPr/>
          <p:nvPr/>
        </p:nvPicPr>
        <p:blipFill>
          <a:blip r:embed="rId1"/>
          <a:stretch/>
        </p:blipFill>
        <p:spPr>
          <a:xfrm>
            <a:off x="3505320" y="1371600"/>
            <a:ext cx="563868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Reservoir"/>
          <p:cNvPicPr/>
          <p:nvPr/>
        </p:nvPicPr>
        <p:blipFill>
          <a:blip r:embed="rId2"/>
          <a:stretch/>
        </p:blipFill>
        <p:spPr>
          <a:xfrm>
            <a:off x="0" y="2971800"/>
            <a:ext cx="3429000" cy="373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Drilling &amp;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r Reac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able Sources- Altern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elec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ydroelectric Pow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dal Powe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UWZb6QbMqQ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Diagram of tidal turbine."/>
          <p:cNvPicPr/>
          <p:nvPr/>
        </p:nvPicPr>
        <p:blipFill>
          <a:blip r:embed="rId2"/>
          <a:stretch/>
        </p:blipFill>
        <p:spPr>
          <a:xfrm>
            <a:off x="914400" y="1523880"/>
            <a:ext cx="3505320" cy="487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eaGen Tidal System"/>
          <p:cNvPicPr/>
          <p:nvPr/>
        </p:nvPicPr>
        <p:blipFill>
          <a:blip r:embed="rId3"/>
          <a:stretch/>
        </p:blipFill>
        <p:spPr>
          <a:xfrm>
            <a:off x="5786280" y="1447920"/>
            <a:ext cx="3052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56:24Z</dcterms:created>
  <dc:creator>udsd</dc:creator>
  <dc:description/>
  <dc:language>en-US</dc:language>
  <cp:lastModifiedBy>udsd</cp:lastModifiedBy>
  <dcterms:modified xsi:type="dcterms:W3CDTF">2008-06-02T23:04:03Z</dcterms:modified>
  <cp:revision>5</cp:revision>
  <dc:subject/>
  <dc:title>Slide 1</dc:title>
</cp:coreProperties>
</file>