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gif" ContentType="image/gif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503-AF1C-49B5-B9A7-FBAD1330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733-2C28-4997-8ED6-3CBBCAFF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A4D5-25BC-4FF4-988B-1DE12D95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B7A5-673B-41EA-94BD-11D7ABEF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01FA-58AE-41AF-AED6-504FC5EB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4A6-C28F-4487-BEF6-00BF1F25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0A0-2971-41BE-A154-76C66305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1BDB-A0F7-4883-9073-6C4471F0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B76-F3A0-490A-8098-444316AA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187-3659-4600-AE3A-CD87F6B0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B34-2BE7-4530-83FB-C210C37A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2BC-B4EE-48E2-8A24-8298E12F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CC73-2BD8-40E0-80C0-1B41D8C79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link.brightcove.com/services/link/bcpid1213900614/bctid1466838148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UWZb6QbMqQ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Electrical generator"/>
          <p:cNvPicPr/>
          <p:nvPr/>
        </p:nvPicPr>
        <p:blipFill>
          <a:blip r:embed="rId1"/>
          <a:stretch/>
        </p:blipFill>
        <p:spPr>
          <a:xfrm>
            <a:off x="0" y="1870200"/>
            <a:ext cx="8915400" cy="498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How Each Energy Source Works—   to Generate Electricity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ar-active &amp; Pas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How Small Solar Electric Systems Work "/>
          <p:cNvPicPr/>
          <p:nvPr/>
        </p:nvPicPr>
        <p:blipFill>
          <a:blip r:embed="rId1"/>
          <a:stretch/>
        </p:blipFill>
        <p:spPr>
          <a:xfrm>
            <a:off x="0" y="2590920"/>
            <a:ext cx="4991040" cy="426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Passive Solar Energy"/>
          <p:cNvPicPr/>
          <p:nvPr/>
        </p:nvPicPr>
        <p:blipFill>
          <a:blip r:embed="rId2"/>
          <a:stretch/>
        </p:blipFill>
        <p:spPr>
          <a:xfrm>
            <a:off x="5181480" y="2286000"/>
            <a:ext cx="39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Geothermal energy uses heat from under the earth"/>
          <p:cNvPicPr/>
          <p:nvPr/>
        </p:nvPicPr>
        <p:blipFill>
          <a:blip r:embed="rId1"/>
          <a:stretch/>
        </p:blipFill>
        <p:spPr>
          <a:xfrm>
            <a:off x="0" y="2660760"/>
            <a:ext cx="3809880" cy="419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rash to Steam to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839080" cy="51818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drogen Fuel Cell</a:t>
            </a:r>
            <a:br>
              <a:rPr sz="40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nk.brightcove.com/services/link/bcpid1213900614/bctid1466838148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Renewable Power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l Recovery &amp;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5410080" cy="5410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19920" y="1600200"/>
            <a:ext cx="3124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photo"/>
          <p:cNvPicPr/>
          <p:nvPr/>
        </p:nvPicPr>
        <p:blipFill>
          <a:blip r:embed="rId1"/>
          <a:stretch/>
        </p:blipFill>
        <p:spPr>
          <a:xfrm>
            <a:off x="3505320" y="1371600"/>
            <a:ext cx="5638680" cy="548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Reservoir"/>
          <p:cNvPicPr/>
          <p:nvPr/>
        </p:nvPicPr>
        <p:blipFill>
          <a:blip r:embed="rId2"/>
          <a:stretch/>
        </p:blipFill>
        <p:spPr>
          <a:xfrm>
            <a:off x="0" y="2971800"/>
            <a:ext cx="3429000" cy="3733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Drilling &amp;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ar Reac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able Sources- Altern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elec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Hydroelectric Pow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dal Powe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WUWZb6QbMqQ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Diagram of tidal turbine."/>
          <p:cNvPicPr/>
          <p:nvPr/>
        </p:nvPicPr>
        <p:blipFill>
          <a:blip r:embed="rId2"/>
          <a:stretch/>
        </p:blipFill>
        <p:spPr>
          <a:xfrm>
            <a:off x="914400" y="1523880"/>
            <a:ext cx="3505320" cy="4876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SeaGen Tidal System"/>
          <p:cNvPicPr/>
          <p:nvPr/>
        </p:nvPicPr>
        <p:blipFill>
          <a:blip r:embed="rId3"/>
          <a:stretch/>
        </p:blipFill>
        <p:spPr>
          <a:xfrm>
            <a:off x="5786280" y="1447920"/>
            <a:ext cx="3052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56:24Z</dcterms:created>
  <dc:creator>udsd</dc:creator>
  <dc:description/>
  <dc:language>en-US</dc:language>
  <cp:lastModifiedBy>udsd</cp:lastModifiedBy>
  <dcterms:modified xsi:type="dcterms:W3CDTF">2008-06-02T23:04:03Z</dcterms:modified>
  <cp:revision>5</cp:revision>
  <dc:subject/>
  <dc:title>Slide 1</dc:title>
</cp:coreProperties>
</file>