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DFC-848D-4C93-9BF5-AFEA2A53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EDC-66D8-4300-AD81-597C5DD3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656-F328-4FF8-A424-57264A29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34C-64C8-4CAB-886D-8B4C8D31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1EE-1B44-4E5A-AAC5-55F3AD1D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796-FEE7-4B22-B724-3B90B123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C60-7DC2-4DD9-AF6C-0EEA8CF6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25C-5215-41B9-8460-A975F018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764-EB14-4016-9C29-7BE38465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61A-1C69-40C6-B9ED-A5D85A15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880-57E6-4F75-84BD-4BA87B4C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222-3EAF-4034-A8E8-4F27EF4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B5E0-23E8-4FF0-AF11-8CD377E3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link.brightcove.com/services/link/bcpid1213900614/bctid1466838148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UWZb6QbMqQ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Electrical generator"/>
          <p:cNvPicPr/>
          <p:nvPr/>
        </p:nvPicPr>
        <p:blipFill>
          <a:blip r:embed="rId1"/>
          <a:stretch/>
        </p:blipFill>
        <p:spPr>
          <a:xfrm>
            <a:off x="0" y="1870200"/>
            <a:ext cx="8915400" cy="498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How Each Energy Source Works—   to Generate Electricit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-active &amp; Pa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ow Small Solar Electric Systems Work "/>
          <p:cNvPicPr/>
          <p:nvPr/>
        </p:nvPicPr>
        <p:blipFill>
          <a:blip r:embed="rId1"/>
          <a:stretch/>
        </p:blipFill>
        <p:spPr>
          <a:xfrm>
            <a:off x="0" y="2590920"/>
            <a:ext cx="499104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Passive Solar Energy"/>
          <p:cNvPicPr/>
          <p:nvPr/>
        </p:nvPicPr>
        <p:blipFill>
          <a:blip r:embed="rId2"/>
          <a:stretch/>
        </p:blipFill>
        <p:spPr>
          <a:xfrm>
            <a:off x="5181480" y="22860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0" y="2660760"/>
            <a:ext cx="3809880" cy="419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rash to Steam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839080" cy="5181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br>
              <a:rPr sz="40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nk.brightcove.com/services/link/bcpid1213900614/bctid146683814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Pow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Recovery &amp;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41008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hoto"/>
          <p:cNvPicPr/>
          <p:nvPr/>
        </p:nvPicPr>
        <p:blipFill>
          <a:blip r:embed="rId1"/>
          <a:stretch/>
        </p:blipFill>
        <p:spPr>
          <a:xfrm>
            <a:off x="3505320" y="1371600"/>
            <a:ext cx="56386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Reservoir"/>
          <p:cNvPicPr/>
          <p:nvPr/>
        </p:nvPicPr>
        <p:blipFill>
          <a:blip r:embed="rId2"/>
          <a:stretch/>
        </p:blipFill>
        <p:spPr>
          <a:xfrm>
            <a:off x="0" y="29718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Drilling &amp;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Rea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Sources- Alter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elec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ydroelectric Pow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al Powe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UWZb6QbMqQ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Diagram of tidal turbine."/>
          <p:cNvPicPr/>
          <p:nvPr/>
        </p:nvPicPr>
        <p:blipFill>
          <a:blip r:embed="rId2"/>
          <a:stretch/>
        </p:blipFill>
        <p:spPr>
          <a:xfrm>
            <a:off x="914400" y="1523880"/>
            <a:ext cx="3505320" cy="487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eaGen Tidal System"/>
          <p:cNvPicPr/>
          <p:nvPr/>
        </p:nvPicPr>
        <p:blipFill>
          <a:blip r:embed="rId3"/>
          <a:stretch/>
        </p:blipFill>
        <p:spPr>
          <a:xfrm>
            <a:off x="5786280" y="1447920"/>
            <a:ext cx="305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56:24Z</dcterms:created>
  <dc:creator>udsd</dc:creator>
  <dc:description/>
  <dc:language>en-US</dc:language>
  <cp:lastModifiedBy>udsd</cp:lastModifiedBy>
  <dcterms:modified xsi:type="dcterms:W3CDTF">2008-06-02T23:04:03Z</dcterms:modified>
  <cp:revision>5</cp:revision>
  <dc:subject/>
  <dc:title>Slide 1</dc:title>
</cp:coreProperties>
</file>