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279-928C-43BA-9C82-5E6E6956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4E8-8E7E-4DF9-B411-08AB6E53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597-BA15-4189-8EB4-C2BF325A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E7D-8402-461B-A0D6-3F3D6B63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9DC-9124-414E-A6BF-C686A820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396-3787-4E34-90CB-2A898463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F35-7204-4624-BA43-ADCCDDC1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540-0F99-4C67-A8F8-44D830DA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BC7-9AE3-42D4-80B6-1A8D4A5D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49A-9D2E-4670-B94A-2585C262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1F2-9659-4D58-8A55-7FD05BCD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1D6-DC3F-4DB3-8C53-6C7EE427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00DF-F60A-48AB-8D12-3099D0ADD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link.brightcove.com/services/link/bcpid1213900614/bctid1466838148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UWZb6QbMqQ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Electrical generator"/>
          <p:cNvPicPr/>
          <p:nvPr/>
        </p:nvPicPr>
        <p:blipFill>
          <a:blip r:embed="rId1"/>
          <a:stretch/>
        </p:blipFill>
        <p:spPr>
          <a:xfrm>
            <a:off x="0" y="1870200"/>
            <a:ext cx="8915400" cy="498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How Each Energy Source Works—   to Generate Electricit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-active &amp; Pa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How Small Solar Electric Systems Work "/>
          <p:cNvPicPr/>
          <p:nvPr/>
        </p:nvPicPr>
        <p:blipFill>
          <a:blip r:embed="rId1"/>
          <a:stretch/>
        </p:blipFill>
        <p:spPr>
          <a:xfrm>
            <a:off x="0" y="2590920"/>
            <a:ext cx="499104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Passive Solar Energy"/>
          <p:cNvPicPr/>
          <p:nvPr/>
        </p:nvPicPr>
        <p:blipFill>
          <a:blip r:embed="rId2"/>
          <a:stretch/>
        </p:blipFill>
        <p:spPr>
          <a:xfrm>
            <a:off x="5181480" y="22860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0" y="2660760"/>
            <a:ext cx="3809880" cy="419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rash to Steam to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839080" cy="5181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drogen Fuel Cell</a:t>
            </a:r>
            <a:br>
              <a:rPr sz="40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nk.brightcove.com/services/link/bcpid1213900614/bctid1466838148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Power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Recovery &amp;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410080" cy="54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3124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hoto"/>
          <p:cNvPicPr/>
          <p:nvPr/>
        </p:nvPicPr>
        <p:blipFill>
          <a:blip r:embed="rId1"/>
          <a:stretch/>
        </p:blipFill>
        <p:spPr>
          <a:xfrm>
            <a:off x="3505320" y="1371600"/>
            <a:ext cx="563868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Reservoir"/>
          <p:cNvPicPr/>
          <p:nvPr/>
        </p:nvPicPr>
        <p:blipFill>
          <a:blip r:embed="rId2"/>
          <a:stretch/>
        </p:blipFill>
        <p:spPr>
          <a:xfrm>
            <a:off x="0" y="2971800"/>
            <a:ext cx="3429000" cy="373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Drilling &amp;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r Reac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able Sources- Altern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elec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ydroelectric Pow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dal Powe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UWZb6QbMqQ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Diagram of tidal turbine."/>
          <p:cNvPicPr/>
          <p:nvPr/>
        </p:nvPicPr>
        <p:blipFill>
          <a:blip r:embed="rId2"/>
          <a:stretch/>
        </p:blipFill>
        <p:spPr>
          <a:xfrm>
            <a:off x="914400" y="1523880"/>
            <a:ext cx="3505320" cy="487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eaGen Tidal System"/>
          <p:cNvPicPr/>
          <p:nvPr/>
        </p:nvPicPr>
        <p:blipFill>
          <a:blip r:embed="rId3"/>
          <a:stretch/>
        </p:blipFill>
        <p:spPr>
          <a:xfrm>
            <a:off x="5786280" y="1447920"/>
            <a:ext cx="3052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56:24Z</dcterms:created>
  <dc:creator>udsd</dc:creator>
  <dc:description/>
  <dc:language>en-US</dc:language>
  <cp:lastModifiedBy>udsd</cp:lastModifiedBy>
  <dcterms:modified xsi:type="dcterms:W3CDTF">2008-06-02T23:04:03Z</dcterms:modified>
  <cp:revision>5</cp:revision>
  <dc:subject/>
  <dc:title>Slide 1</dc:title>
</cp:coreProperties>
</file>