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4CE1-5732-4013-BEC1-CC36EFAF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2F34-65AA-4260-968A-08BD4888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90F8-F980-4258-938A-01C9B9EF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97BE-FEAD-40EE-9FAF-247FA436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B40F-BDA0-4F8E-B79B-7034015A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50A8-553D-468C-9942-4A0D652B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039B-C33C-420E-8826-515E7B30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0D55-8507-4141-AB90-6C69892F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359D-F833-4BBB-B44C-44937817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B157-56EB-43A5-B230-84EF6224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4E3B-E951-4B49-8D76-499DEE91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4DC0-6DC1-4DCD-A8C9-9FE21DAC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66D3-9CF3-4D8C-BB66-B8DB0335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0372-0656-4F72-AECC-62B8F571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DBAD-3328-4B44-AAE7-0355BBEA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05E3-7729-43AA-9D53-3256DC51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9CC6-44D6-4DC5-94D5-B2B1B8E2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EDA6-4FED-4161-A4D0-2B5AE18D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D51D-DED7-4921-9C3F-66BF006F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DC66-0BE5-429F-9337-CBD06EBE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D673-1D2F-45BA-8036-AA1C1D4A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1A7A-53D8-4EA5-9F6E-343A129F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82B8-549E-4FAC-8035-EBEFB93F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2372-F178-4064-A786-F12FE302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3F96-9AE3-41FE-877B-15EEA93AD07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A289-5086-474A-86AA-09A55BBE0AB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http://www.biblelife.org/energy-photovoltaic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marineturbines.com/technical.htm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hyperlink" Target="http://images.google.com/imgres?imgurl=http://www.goalfinder.com/images/SCCAPP2/burning-of-wood.jpg&amp;imgrefurl=http://www.goalfinder.com/product.asp%3Fproductid%3D74&amp;h=161&amp;w=250&amp;sz=7&amp;hl=en&amp;start=42&amp;tbnid=HsqnibfLl1Oa2M:&amp;tbnh=71&amp;tbnw=111&amp;prev=/images%3Fq%3Dburning%2Bwood%26start%3D40%26gbv%3D2%26ndsp%3D20%26svnum%3D10%26hl%3Den%26sa%3DN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en.wikipedia.org/wiki/Image:Gluehbirne_2_db.jpg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www.picture-newsletter.com/nuclear/nuclear-power-plant-9igh.jpg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google.com/imgres?imgurl=http://www.sustainabletechnology.uk.com/Onroof.jpg&amp;imgrefurl=http://www.sustainabletechnology.uk.com/SolarThermal.htm&amp;h=1536&amp;w=2048&amp;sz=415&amp;hl=en&amp;start=4&amp;tbnid=_qPJ3nMoTlgJDM:&amp;tbnh=113&amp;tbnw=150&amp;prev=/images%3Fq%3Dsolar%2Bwater%2Bheating%26svnum%3D10%26hl%3Den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Alternative Energy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hapter 18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voltaics (Solar Cell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" descr="A simple photovoltaic system"/>
          <p:cNvPicPr/>
          <p:nvPr/>
        </p:nvPicPr>
        <p:blipFill>
          <a:blip r:embed="rId1"/>
          <a:stretch/>
        </p:blipFill>
        <p:spPr>
          <a:xfrm>
            <a:off x="762120" y="2514600"/>
            <a:ext cx="3476520" cy="2238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Photovoltaic Electrical Generation Array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2550960"/>
            <a:ext cx="40384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Ce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lea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af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xpen$ive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eed large surface are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nattractiv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s there enough available sunlight in all areas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quires a backup electricity sour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d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nlight heats Earth’s surfa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arm air rises; cooler air replaces it (wind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ind (mechanical E) turns giant blad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nnected to a generator; creates electric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d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lea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ell developed technolog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lectricity is cheaper per watt than coal produce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nattractiv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ew regions with consistent wind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is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terfere with microwave communicati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arm birds &amp; wildlif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d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" descr="Lots of Wind Mills"/>
          <p:cNvPicPr/>
          <p:nvPr/>
        </p:nvPicPr>
        <p:blipFill>
          <a:blip r:embed="rId1"/>
          <a:stretch/>
        </p:blipFill>
        <p:spPr>
          <a:xfrm>
            <a:off x="830160" y="2771640"/>
            <a:ext cx="3291120" cy="2186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Wind mills close-up, courtesy of ESN"/>
          <p:cNvPicPr/>
          <p:nvPr/>
        </p:nvPicPr>
        <p:blipFill>
          <a:blip r:embed="rId2"/>
          <a:stretch/>
        </p:blipFill>
        <p:spPr>
          <a:xfrm>
            <a:off x="5226120" y="1960560"/>
            <a:ext cx="2882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ydroelectric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am is constructed to make a reservoi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eed height change to create enough power of moving wat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lowing water through dam turns turbines, turns generator, makes electric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Hydroelectric Power"/>
          <p:cNvPicPr/>
          <p:nvPr/>
        </p:nvPicPr>
        <p:blipFill>
          <a:blip r:embed="rId1"/>
          <a:stretch/>
        </p:blipFill>
        <p:spPr>
          <a:xfrm>
            <a:off x="228600" y="434880"/>
            <a:ext cx="868680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oover Da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An aerial view of Hoover Dam."/>
          <p:cNvPicPr/>
          <p:nvPr/>
        </p:nvPicPr>
        <p:blipFill>
          <a:blip r:embed="rId1"/>
          <a:stretch/>
        </p:blipFill>
        <p:spPr>
          <a:xfrm>
            <a:off x="1600200" y="1828800"/>
            <a:ext cx="58672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ydroelectric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lea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lood contro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servoir for recreation &amp; irriga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isrupts ecosystems &amp; floods upstream lan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emendous environmental damage during construc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am construction is extremely expensiv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imited to areas with rivers &amp; stream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es Earth’s heat to create steam to make electric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t Dry Rock Meth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ump cold water below groun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urns to stea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tract pressurized stea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urns turbine, turns generator, creates electric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newable Energy Sour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nd every where at least part of the yea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ree (3) Type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ssive Solar Heat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ar Water Heat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ar Cel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8672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2" name="" descr="Geothermal energy uses heat from under the earth"/>
          <p:cNvPicPr/>
          <p:nvPr/>
        </p:nvPicPr>
        <p:blipFill>
          <a:blip r:embed="rId1"/>
          <a:stretch/>
        </p:blipFill>
        <p:spPr>
          <a:xfrm>
            <a:off x="457200" y="1600200"/>
            <a:ext cx="3809880" cy="4800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38592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otentially Renewable***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 greenhouse gas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inimal environmental damage during set-up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imited availability on Earth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arth takes a long time to replace the heat.***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oma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urn organic matter to produce hea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ood (#1 fuel in world usag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unicipal Waste (garbag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gar cane (Hawaii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hicken dropping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nvert to other produc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rn to ethanol (gasoline additiv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ste to Energy Pla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696440" cy="56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oma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duces “wastes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serves fossil fue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ell extra electricity to public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emiss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xious gases releas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o wants to live near a plant that burns trash or chicken poop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id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ffshore Turbin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imilar to underwater windmil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idal Barra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imilar to hydroelectric dam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ffshore Turbin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7" name="" descr="Diagram of tidal turbine."/>
          <p:cNvPicPr/>
          <p:nvPr/>
        </p:nvPicPr>
        <p:blipFill>
          <a:blip r:embed="rId1"/>
          <a:stretch/>
        </p:blipFill>
        <p:spPr>
          <a:xfrm>
            <a:off x="304920" y="1371600"/>
            <a:ext cx="2782800" cy="5486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Picture courtesy of marineturbines.co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2680" y="2438280"/>
            <a:ext cx="53341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a tidal barrage"/>
          <p:cNvPicPr/>
          <p:nvPr/>
        </p:nvPicPr>
        <p:blipFill>
          <a:blip r:embed="rId1"/>
          <a:stretch/>
        </p:blipFill>
        <p:spPr>
          <a:xfrm>
            <a:off x="304920" y="1371600"/>
            <a:ext cx="4593960" cy="4800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Tidal power station in France"/>
          <p:cNvPicPr/>
          <p:nvPr/>
        </p:nvPicPr>
        <p:blipFill>
          <a:blip r:embed="rId2"/>
          <a:stretch/>
        </p:blipFill>
        <p:spPr>
          <a:xfrm>
            <a:off x="5334120" y="2763720"/>
            <a:ext cx="3504960" cy="23418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idal Barrag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id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ree energy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lean (non-polluting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ffects ecosystem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nattractiv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pensive to buil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ffects shipp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ssive Sola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uild your home facing south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rge, double pane window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ck walls &amp; insulation on north sid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crete, adobe or stone construc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Venting for hot air out during summe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rapes in winter to keep heat in at nigh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ciduous trees planted on south sid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lock sunlight in summ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llow sunlight in wint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Energy Concept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&amp; Efficiency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troductory Energy Concep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Energ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bility to do work”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KEY CONCEP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mount of energy in the universe is constan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ix (6) Forms of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Mechanic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of moving thing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X: wind, moving wat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Electric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of moving electr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Hea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of temperature chang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otter temperatures can do more work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1" name="" descr="Electrical Wires"/>
          <p:cNvPicPr/>
          <p:nvPr/>
        </p:nvPicPr>
        <p:blipFill>
          <a:blip r:embed="rId1"/>
          <a:stretch/>
        </p:blipFill>
        <p:spPr>
          <a:xfrm>
            <a:off x="7086600" y="2362320"/>
            <a:ext cx="164160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2066760" cy="27054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4697280"/>
            <a:ext cx="23191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ix (6) Forms of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Ligh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of moving phot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Chemic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stored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in the bonds between atom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X: food, wood, gasoline, batteries, coal, oil…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Nuclea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stored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between the subatomic particl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X: Nuclear power plant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" descr="Duracell Battery Packs"/>
          <p:cNvPicPr/>
          <p:nvPr/>
        </p:nvPicPr>
        <p:blipFill>
          <a:blip r:embed="rId1"/>
          <a:stretch/>
        </p:blipFill>
        <p:spPr>
          <a:xfrm>
            <a:off x="6477120" y="274320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An incandescent light bulb and its glowing filament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1447920"/>
            <a:ext cx="1714680" cy="2485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nuclear-power-plant-9i.jpg (96092 Byte) nuclear power plant Leibstad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00600" y="4648320"/>
            <a:ext cx="24382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inetic vs. Potenti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Kinetic Energ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energy of something moving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: Ball rolling down a hil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Potential Energ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ored energy; can be moved and used when need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: Ball on the edge of a hil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28600" y="76320"/>
          <a:ext cx="2368440" cy="67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320"/>
                    <a:ext cx="236844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43200" y="277920"/>
            <a:ext cx="5943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inetic vs. Potenti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t Top = 100% potenti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t Bottom = 100% kineti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Law of Thermodynamic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Conservation of Energy Law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Energy can neither be created nor destroy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nergy in the universe is constan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f you can’t destroy energy, you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CAN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change its form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: Match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: Light Bulb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Law of Thermodynamic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Energy Quality Law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When energy changes form, some useful energy is always degraded to lower quality, less useful energ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Low temperature heat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is the least useful energy form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: 90% of energy in gas (chemical) is changed to heat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nergy Efficienc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Net Energ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otal E – (E input &amp; wasted 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Energy Efficienc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% of total E that does work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asted energy reduces E efficienc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Life cycle cost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itial energy costs + lifetime operating cos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movement of electron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reated by moving a conducting material (copper wire) through a magnetic fiel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lectric Generator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3" name="" descr="Electrical generator"/>
          <p:cNvPicPr/>
          <p:nvPr/>
        </p:nvPicPr>
        <p:blipFill>
          <a:blip r:embed="rId1"/>
          <a:stretch/>
        </p:blipFill>
        <p:spPr>
          <a:xfrm>
            <a:off x="4572000" y="2057400"/>
            <a:ext cx="434340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ssive Sola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6796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114800" y="480060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5120" y="1905120"/>
            <a:ext cx="761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al &amp; Turbine Pictur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Anthracite coal"/>
          <p:cNvPicPr/>
          <p:nvPr/>
        </p:nvPicPr>
        <p:blipFill>
          <a:blip r:embed="rId2"/>
          <a:stretch/>
        </p:blipFill>
        <p:spPr>
          <a:xfrm>
            <a:off x="685800" y="2209680"/>
            <a:ext cx="38098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ssive Sola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lea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af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nattractiv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s there enough available sunlight in all areas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struction cos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quires backup heat sour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Wate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ar Collectors” on roof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ipes with water or anti-freeze are coiled through box on roof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ated water transferred to basemen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at </a:t>
            </a:r>
            <a:r>
              <a:rPr b="0" i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exchanged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to fresh water; water pumped back to roof to be reheated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Wate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137120" cy="4952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2514600"/>
            <a:ext cx="36576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Wate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lea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af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nattractiv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s there enough available sunlight in all areas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quires a backup hot water sour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Cells (Photovoltaic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ec85e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Converts sunlight to electricity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nlight strikes semi-conducto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lectrons are excited and move; creates electricit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nergy can be stored in a chemical battery for use when sunlight is absen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1:10:13Z</dcterms:created>
  <dc:creator>udsd</dc:creator>
  <dc:description/>
  <dc:language>en-US</dc:language>
  <cp:lastModifiedBy>udsd</cp:lastModifiedBy>
  <dcterms:modified xsi:type="dcterms:W3CDTF">2007-06-06T11:21:33Z</dcterms:modified>
  <cp:revision>4</cp:revision>
  <dc:subject/>
  <dc:title>Alternative Energy</dc:title>
</cp:coreProperties>
</file>