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0C1-4A10-4C31-828C-F7F3B0F8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564-D700-47A1-AD39-9068C89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CE9-2EA9-4FD1-BA20-CC43C38A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CE6-F5D9-4930-AEEE-59A25957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A4C1-99D0-4809-A992-2C55BA8E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DFD4-84AE-4114-84BC-E86A0C31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A4F6-DAA0-4F4F-A963-1572D47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998C-79EF-4E50-ACD8-CC2968E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F2C9-03DA-4907-B886-BA327D76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A212-0651-478F-97E1-ACBE4913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189-02C1-4F96-BFA1-0E63441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147-879E-4390-94B9-3466E0C9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268-543C-4A22-A8FF-D95BECB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A9EB-A718-477B-B110-D634BD7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72F-9E06-406B-9809-59654D0D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E909-6964-4DE8-934B-F02F68E7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611B-7BD3-4312-AF2B-FBFB2AC9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90A-5445-4F91-B87C-5DE0FF0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FA7-7024-41E7-99CD-5D5B537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C89-A736-4EF0-BCC6-04824297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8EA-5C76-4C70-96B7-A959E3D6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8CA-4651-433E-8020-DCD11BB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5AC-4DD7-45A1-A55B-599CEA1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E28-370A-4A4F-B3B0-E1CA4D4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A70-01CB-46F9-9BC5-832B60D02D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756-654A-4C79-B231-2B291E1AB4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biblelife.org/energy-photovoltaic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rineturbines.com/technical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en.wikipedia.org/wiki/Image:Gluehbirne_2_db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picture-newsletter.com/nuclear/nuclear-power-plant-9igh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sustainabletechnology.uk.com/Onroof.jpg&amp;imgrefurl=http://www.sustainabletechnology.uk.com/SolarThermal.htm&amp;h=1536&amp;w=2048&amp;sz=415&amp;hl=en&amp;start=4&amp;tbnid=_qPJ3nMoTlgJDM:&amp;tbnh=113&amp;tbnw=150&amp;prev=/images%3Fq%3Dsolar%2Bwater%2Bheating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ternative Energ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A simple photovoltaic system"/>
          <p:cNvPicPr/>
          <p:nvPr/>
        </p:nvPicPr>
        <p:blipFill>
          <a:blip r:embed="rId1"/>
          <a:stretch/>
        </p:blipFill>
        <p:spPr>
          <a:xfrm>
            <a:off x="762120" y="2514600"/>
            <a:ext cx="34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Photovoltaic Electrical Generation Arra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5096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en$ive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eed large surface are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res a backup electricity sour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heats Earth’s surf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m air rises; cooler air replaces it (win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d (mechanical E) turns giant bl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nected to a generator; creat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 developed technolo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lectricity is cheaper per watt than coal produc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w regions with consistent 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is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fere with microwave commun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rm birds &amp; wild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Lots of Wind Mills"/>
          <p:cNvPicPr/>
          <p:nvPr/>
        </p:nvPicPr>
        <p:blipFill>
          <a:blip r:embed="rId1"/>
          <a:stretch/>
        </p:blipFill>
        <p:spPr>
          <a:xfrm>
            <a:off x="830160" y="2771640"/>
            <a:ext cx="3291120" cy="218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Wind mills close-up, courtesy of ESN"/>
          <p:cNvPicPr/>
          <p:nvPr/>
        </p:nvPicPr>
        <p:blipFill>
          <a:blip r:embed="rId2"/>
          <a:stretch/>
        </p:blipFill>
        <p:spPr>
          <a:xfrm>
            <a:off x="5226120" y="196056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m is constructed to make a reservoi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ed height change to create enough power of moving w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od contro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ervoir for recreation &amp; irrig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rupts ecosystems &amp; floods upstream la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emendous environmental damage during constru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m construction is extremely expens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to areas with rivers &amp; stre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Earth’s heat to create steam to make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Dry Rock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mp cold water below grou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o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tract pressurized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urbine, turns generator, creates electr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newable Energy Sour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every where at least part of the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(3)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ive Sola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Wate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el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tentially Renewable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greenhouse g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al environmental damage during set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availability on Eart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rth takes a long time to replace the heat.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rn organic matter to produce he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od (#1 fuel in world us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nicipal Waste (garb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gar cane (Hawai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cken dropp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ert to other produ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rn to ethanol (gasoline additiv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964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s “waste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erves fossil fu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ll extra electricity to publ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mi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xious gases releas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ants to live near a plant that burns trash or chicken poop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fshore Turb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underwater windmi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dal Bar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hydroelectric d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courtesy of marineturbines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Tidal power station in France"/>
          <p:cNvPicPr/>
          <p:nvPr/>
        </p:nvPicPr>
        <p:blipFill>
          <a:blip r:embed="rId2"/>
          <a:stretch/>
        </p:blipFill>
        <p:spPr>
          <a:xfrm>
            <a:off x="5334120" y="2763720"/>
            <a:ext cx="3504960" cy="2341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 (non-pollut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eco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ensive to bui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shipp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 your home facing sou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rge, double pane window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 walls &amp; insulation on north s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crete, adobe or stone constru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enting for hot air out during summ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pes in winter to keep heat in at nigh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iduous trees planted on south 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lock sunlight in summ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ow sunlight in wint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ergy Concept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&amp; Effici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ory Energy Concep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bility to do work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EY CONCEP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mount of energy in the universe is consta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Mechan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th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wind, moving wat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Electr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electr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He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temperature chan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tter temperatures can do more work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Electrical Wires"/>
          <p:cNvPicPr/>
          <p:nvPr/>
        </p:nvPicPr>
        <p:blipFill>
          <a:blip r:embed="rId1"/>
          <a:stretch/>
        </p:blipFill>
        <p:spPr>
          <a:xfrm>
            <a:off x="708660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066760" cy="2705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697280"/>
            <a:ext cx="2319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pho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Chem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the bonds between atom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food, wood, gasoline, batteries, coal, oil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Nuclea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between the subatomic particl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Nuclear power pla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Duracell Battery Packs"/>
          <p:cNvPicPr/>
          <p:nvPr/>
        </p:nvPicPr>
        <p:blipFill>
          <a:blip r:embed="rId1"/>
          <a:stretch/>
        </p:blipFill>
        <p:spPr>
          <a:xfrm>
            <a:off x="6477120" y="2743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n incandescent light bulb and its glowing filame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447920"/>
            <a:ext cx="1714680" cy="24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nuclear-power-plant-9i.jpg (96092 Byte) nuclear power plant Leibstad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648320"/>
            <a:ext cx="2438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inetic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nergy of something mov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rolling down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otential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red energy; can be moved and used when need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on the edge of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76320"/>
          <a:ext cx="23684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23684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43200" y="27792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Top = 100% potent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Bottom = 100% kinet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ervation of Energ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Energy can neither be created nor destroy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ergy in the universe is consta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you can’t destroy energy, you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change its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Mat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Light Bul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 Qualit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ow temperature he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the least useful energy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90% of energy in gas (chemical) is changed to heat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Net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tal E – (E input &amp; wasted 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Energy Effici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% of total E that does wor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sted energy reduces E efficienc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Life cycle cos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energy costs + lifetime operating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electron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by moving a conducting material (copper wire) through a magnetic fie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ic Generato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Electrical generator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14800" y="48006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9051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al &amp; Turbine Pi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thracite coal"/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ruction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backup heat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ollectors” on roo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pes with water or anti-freeze are coiled through box on roof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ed water transferred to bas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xchange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o fresh water; water pumped back to roof to be reheat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3712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a backup hot water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Converts sunlight to electricit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strikes semi-conduc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ons are excited and move; creates electrici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0:13Z</dcterms:created>
  <dc:creator>udsd</dc:creator>
  <dc:description/>
  <dc:language>en-US</dc:language>
  <cp:lastModifiedBy>udsd</cp:lastModifiedBy>
  <dcterms:modified xsi:type="dcterms:W3CDTF">2007-06-06T11:21:33Z</dcterms:modified>
  <cp:revision>4</cp:revision>
  <dc:subject/>
  <dc:title>Alternative Energy</dc:title>
</cp:coreProperties>
</file>