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2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E490-1ABA-4F47-B723-0D90E2AC8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9083-6E8B-415B-AAEF-E6618FBC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60C9-421A-4EF6-8E38-BD64C42AC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F960-77D3-4D1C-948B-42BA6EEA8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8502-6DF6-4BAC-A51D-A5D9439FE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061E-AD95-44B7-9C2B-D43189C1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4E33-E931-4866-B47F-A7305087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D676-DB21-4AE4-A36F-B32142F7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59E78-442E-4CFE-A41E-EE7D8E80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DE29-9D4D-41B4-833E-B8B9A69C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6B25-4879-4ABD-BCAF-543BD280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A35B-B817-4AB4-8CB3-745128BD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4A74-ECAD-47C8-BB12-4822EBA8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4AB5-80FA-4A6C-B1D7-88FC6B88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3C02-F0EC-4AD4-9883-8CC66C06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DE6E-FAD1-4ABD-9FA7-1782CAA20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405D-2D14-4EB0-9F5F-5E25F7F5F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22DB-7143-419F-A2FD-9AB52D95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0DC6-0C29-44B3-B4CF-927D88FD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DE08-B2E1-40ED-92A6-96672858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6BDF-0910-484D-BCA5-A697A510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F22C-D09A-4965-AC14-9000D7D0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EF97-10CB-41EE-A342-86BE8CDE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5964-F932-4CBD-BF66-5046A683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BA06-78D2-46A1-8947-5709F47BF33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FC63-0783-47A6-9280-69BFAE52E62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hyperlink" Target="http://www.biblelife.org/energy-photovoltaic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marineturbines.com/technical.htm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hyperlink" Target="http://images.google.com/imgres?imgurl=http://www.goalfinder.com/images/SCCAPP2/burning-of-wood.jpg&amp;imgrefurl=http://www.goalfinder.com/product.asp%3Fproductid%3D74&amp;h=161&amp;w=250&amp;sz=7&amp;hl=en&amp;start=42&amp;tbnid=HsqnibfLl1Oa2M:&amp;tbnh=71&amp;tbnw=111&amp;prev=/images%3Fq%3Dburning%2Bwood%26start%3D40%26gbv%3D2%26ndsp%3D20%26svnum%3D10%26hl%3Den%26sa%3DN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en.wikipedia.org/wiki/Image:Gluehbirne_2_db.jpg" TargetMode="External"/><Relationship Id="rId3" Type="http://schemas.openxmlformats.org/officeDocument/2006/relationships/image" Target="../media/image22.jpeg"/><Relationship Id="rId4" Type="http://schemas.openxmlformats.org/officeDocument/2006/relationships/hyperlink" Target="http://www.picture-newsletter.com/nuclear/nuclear-power-plant-9igh.jpg" TargetMode="External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images.google.com/imgres?imgurl=http://www.sustainabletechnology.uk.com/Onroof.jpg&amp;imgrefurl=http://www.sustainabletechnology.uk.com/SolarThermal.htm&amp;h=1536&amp;w=2048&amp;sz=415&amp;hl=en&amp;start=4&amp;tbnid=_qPJ3nMoTlgJDM:&amp;tbnh=113&amp;tbnw=150&amp;prev=/images%3Fq%3Dsolar%2Bwater%2Bheating%26svnum%3D10%26hl%3Den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Alternative Energy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hapter 18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voltaics (Solar Cells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6" name="" descr="A simple photovoltaic system"/>
          <p:cNvPicPr/>
          <p:nvPr/>
        </p:nvPicPr>
        <p:blipFill>
          <a:blip r:embed="rId1"/>
          <a:stretch/>
        </p:blipFill>
        <p:spPr>
          <a:xfrm>
            <a:off x="762120" y="2514600"/>
            <a:ext cx="3476520" cy="22384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Photovoltaic Electrical Generation Array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2550960"/>
            <a:ext cx="403848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lar Cell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DVANTA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ree energ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enewabl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lea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af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SADVANTA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xpen$ive!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Need large surface are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Unattractiv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s there enough available sunlight in all areas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equires a backup electricity sourc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ind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it work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unlight heats Earth’s surfac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arm air rises; cooler air replaces it (wind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ind (mechanical E) turns giant blad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onnected to a generator; creates electricit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ind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DVANTA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ree energ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enewabl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lea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Well developed technolog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lectricity is cheaper per watt than coal produced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SADVANTA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Unattractiv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ew regions with consistent wind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Nois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nterfere with microwave communication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Harm birds &amp; wildlif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ind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7" name="" descr="Lots of Wind Mills"/>
          <p:cNvPicPr/>
          <p:nvPr/>
        </p:nvPicPr>
        <p:blipFill>
          <a:blip r:embed="rId1"/>
          <a:stretch/>
        </p:blipFill>
        <p:spPr>
          <a:xfrm>
            <a:off x="830160" y="2771640"/>
            <a:ext cx="3291120" cy="2186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Wind mills close-up, courtesy of ESN"/>
          <p:cNvPicPr/>
          <p:nvPr/>
        </p:nvPicPr>
        <p:blipFill>
          <a:blip r:embed="rId2"/>
          <a:stretch/>
        </p:blipFill>
        <p:spPr>
          <a:xfrm>
            <a:off x="5226120" y="1960560"/>
            <a:ext cx="2882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ydroelectricit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it work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am is constructed to make a reservoi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eed height change to create enough power of moving wat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lowing water through dam turns turbines, turns generator, makes electricit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Hydroelectric Power"/>
          <p:cNvPicPr/>
          <p:nvPr/>
        </p:nvPicPr>
        <p:blipFill>
          <a:blip r:embed="rId1"/>
          <a:stretch/>
        </p:blipFill>
        <p:spPr>
          <a:xfrm>
            <a:off x="228600" y="434880"/>
            <a:ext cx="8686800" cy="604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oover Da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3" name="" descr="An aerial view of Hoover Dam."/>
          <p:cNvPicPr/>
          <p:nvPr/>
        </p:nvPicPr>
        <p:blipFill>
          <a:blip r:embed="rId1"/>
          <a:stretch/>
        </p:blipFill>
        <p:spPr>
          <a:xfrm>
            <a:off x="1600200" y="1828800"/>
            <a:ext cx="58672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ydroelectricit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DVANTA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ree energ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enewabl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lea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lood contro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eservoir for recreation &amp; irrigati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SADVANTA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isrupts ecosystems &amp; floods upstream lan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remendous environmental damage during constructi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am construction is extremely expensiv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Limited to areas with rivers &amp; stream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eothermal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it work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ses Earth’s heat to create steam to make electricit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ot Dry Rock Metho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ump cold water below groun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urns to stea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xtract pressurized stea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urns turbine, turns generator, creates electricit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lar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newable Energy Sourc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nd every where at least part of the yea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ree (3) Type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assive Solar Heat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olar Water Heat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olar Cell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eothermal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586728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eothermal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2" name="" descr="Geothermal energy uses heat from under the earth"/>
          <p:cNvPicPr/>
          <p:nvPr/>
        </p:nvPicPr>
        <p:blipFill>
          <a:blip r:embed="rId1"/>
          <a:stretch/>
        </p:blipFill>
        <p:spPr>
          <a:xfrm>
            <a:off x="457200" y="1600200"/>
            <a:ext cx="3809880" cy="48006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648320" y="2590920"/>
            <a:ext cx="385920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eothermal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DVANTA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ree energ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otentially Renewable***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No greenhouse gas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inimal environmental damage during set-up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SADVANTA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Limited availability on Earth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arth takes a long time to replace the heat.***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iomas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it work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urn organic matter to produce hea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ood (#1 fuel in world usage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unicipal Waste (garbage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gar cane (Hawaii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hicken dropping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onvert to other produc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rn to ethanol (gasoline additive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aste to Energy Pla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7696440" cy="56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iomas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DVANTAG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duces “wastes”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newabl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nserves fossil fuel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ell extra electricity to public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ISADVANTAG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emiss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oxious gases release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ho wants to live near a plant that burns trash or chicken poop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idal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it work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ffshore Turbin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imilar to underwater windmill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idal Barrag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imilar to hydroelectric dam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ffshore Turbin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7" name="" descr="Diagram of tidal turbine."/>
          <p:cNvPicPr/>
          <p:nvPr/>
        </p:nvPicPr>
        <p:blipFill>
          <a:blip r:embed="rId1"/>
          <a:stretch/>
        </p:blipFill>
        <p:spPr>
          <a:xfrm>
            <a:off x="304920" y="1371600"/>
            <a:ext cx="2782800" cy="54864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Picture courtesy of marineturbines.co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52680" y="2438280"/>
            <a:ext cx="533412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a tidal barrage"/>
          <p:cNvPicPr/>
          <p:nvPr/>
        </p:nvPicPr>
        <p:blipFill>
          <a:blip r:embed="rId1"/>
          <a:stretch/>
        </p:blipFill>
        <p:spPr>
          <a:xfrm>
            <a:off x="304920" y="1371600"/>
            <a:ext cx="4593960" cy="48006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Tidal power station in France"/>
          <p:cNvPicPr/>
          <p:nvPr/>
        </p:nvPicPr>
        <p:blipFill>
          <a:blip r:embed="rId2"/>
          <a:stretch/>
        </p:blipFill>
        <p:spPr>
          <a:xfrm>
            <a:off x="5334120" y="2763720"/>
            <a:ext cx="3504960" cy="23418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idal Barrag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idal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DVANTAG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ree energy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newabl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lean (non-polluting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ISADVANTAG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ffects ecosystem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nattractiv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xpensive to buil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ffects shipping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assive Solar Heat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ow it work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uild your home facing south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arge, double pane window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ck walls &amp; insulation on north sid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ncrete, adobe or stone constructio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Venting for hot air out during summer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rapes in winter to keep heat in at night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eciduous trees planted on south sid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Block sunlight in summe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llow sunlight in winte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Energy Concepts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&amp; Efficiency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ntroductory Energy Concep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Energ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bility to do work”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KEY CONCEPT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mount of energy in the universe is constant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ix (6) Forms of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ec85e"/>
                </a:solidFill>
                <a:uFillTx/>
                <a:latin typeface="Verdana"/>
              </a:rPr>
              <a:t>Mechanica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e energy of moving thing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EX: wind, moving wat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ec85e"/>
                </a:solidFill>
                <a:uFillTx/>
                <a:latin typeface="Verdana"/>
              </a:rPr>
              <a:t>Electrica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e energy of moving electron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ec85e"/>
                </a:solidFill>
                <a:uFillTx/>
                <a:latin typeface="Verdana"/>
              </a:rPr>
              <a:t>Hea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e energy of temperature chang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Hotter temperatures can do more work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1" name="" descr="Electrical Wires"/>
          <p:cNvPicPr/>
          <p:nvPr/>
        </p:nvPicPr>
        <p:blipFill>
          <a:blip r:embed="rId1"/>
          <a:stretch/>
        </p:blipFill>
        <p:spPr>
          <a:xfrm>
            <a:off x="7086600" y="2362320"/>
            <a:ext cx="164160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648320" y="1295280"/>
            <a:ext cx="2066760" cy="27054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76920" y="4697280"/>
            <a:ext cx="231912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ix (6) Forms of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ec85e"/>
                </a:solidFill>
                <a:uFillTx/>
                <a:latin typeface="Verdana"/>
              </a:rPr>
              <a:t>Ligh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e energy of moving photon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ec85e"/>
                </a:solidFill>
                <a:uFillTx/>
                <a:latin typeface="Verdana"/>
              </a:rPr>
              <a:t>Chemica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e energy 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stored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in the bonds between atom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EX: food, wood, gasoline, batteries, coal, oil…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ec85e"/>
                </a:solidFill>
                <a:uFillTx/>
                <a:latin typeface="Verdana"/>
              </a:rPr>
              <a:t>Nuclea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e energy 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stored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between the subatomic particl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EX: Nuclear power plant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6" name="" descr="Duracell Battery Packs"/>
          <p:cNvPicPr/>
          <p:nvPr/>
        </p:nvPicPr>
        <p:blipFill>
          <a:blip r:embed="rId1"/>
          <a:stretch/>
        </p:blipFill>
        <p:spPr>
          <a:xfrm>
            <a:off x="6477120" y="2743200"/>
            <a:ext cx="2189160" cy="21891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An incandescent light bulb and its glowing filament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95680" y="1447920"/>
            <a:ext cx="1714680" cy="24858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nuclear-power-plant-9i.jpg (96092 Byte) nuclear power plant Leibstad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800600" y="4648320"/>
            <a:ext cx="243828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Kinetic vs. Potential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Kinetic Energ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energy of something moving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X: Ball rolling down a hill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Potential Energ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tored energy; can be moved and used when neede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X: Ball on the edge of a hill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228600" y="76320"/>
          <a:ext cx="2368440" cy="67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6320"/>
                    <a:ext cx="2368440" cy="67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43200" y="277920"/>
            <a:ext cx="5943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Kinetic vs. Potentia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t Top = 100% potentia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t Bottom = 100% kinetic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4400" spc="-1" strike="noStrike" baseline="30000">
                <a:solidFill>
                  <a:srgbClr val="ffffcc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Law of Thermodynamic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Conservation of Energy Law”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Energy can neither be created nor destroye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nergy in the universe is constant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f you can’t destroy energy, you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CAN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change its form!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X: Match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X: Light Bulb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ffffcc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Law of Thermodynamic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Energy Quality Law”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When energy changes form, some useful energy is always degraded to lower quality, less useful energy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Low temperature heat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is the least useful energy form!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X: 90% of energy in gas (chemical) is changed to heat!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nergy Efficienc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Net Energ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otal E – (E input &amp; wasted E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Energy Efficienc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% of total E that does work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asted energy reduces E efficienc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Life cycle costs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itial energy costs + lifetime operating cos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movement of electrons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reated by moving a conducting material (copper wire) through a magnetic fiel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lectric Generator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3" name="" descr="Electrical generator"/>
          <p:cNvPicPr/>
          <p:nvPr/>
        </p:nvPicPr>
        <p:blipFill>
          <a:blip r:embed="rId1"/>
          <a:stretch/>
        </p:blipFill>
        <p:spPr>
          <a:xfrm>
            <a:off x="4572000" y="2057400"/>
            <a:ext cx="434340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assive Solar Heat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67960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114800" y="4800600"/>
            <a:ext cx="3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05120" y="1905120"/>
            <a:ext cx="761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al &amp; Turbine Pictur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724280" y="2133720"/>
            <a:ext cx="3810240" cy="38098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Anthracite coal"/>
          <p:cNvPicPr/>
          <p:nvPr/>
        </p:nvPicPr>
        <p:blipFill>
          <a:blip r:embed="rId2"/>
          <a:stretch/>
        </p:blipFill>
        <p:spPr>
          <a:xfrm>
            <a:off x="685800" y="2209680"/>
            <a:ext cx="380988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assive Solar Heat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DVANTAG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ree energ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newabl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lea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af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ISADVANTAG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nattractiv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s there enough available sunlight in all areas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nstruction cos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quires backup heat sour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lar Water Heat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it work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olar Collectors” on roof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ipes with water or anti-freeze are coiled through box on roof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eated water transferred to basement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eat </a:t>
            </a:r>
            <a:r>
              <a:rPr b="0" i="1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exchanged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to fresh water; water pumped back to roof to be reheated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lar Water Heat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4137120" cy="49528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76920" y="2514600"/>
            <a:ext cx="365760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lar Water Heat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DVANTAG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ree energ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newabl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lea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af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ISADVANTAG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nattractiv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s there enough available sunlight in all areas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quires a backup hot water sour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lar Cells (Photovoltaics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it work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ec85e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Converts sunlight to electricity!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unlight strikes semi-conducto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lectrons are excited and move; creates electricity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nergy can be stored in a chemical battery for use when sunlight is absent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1:10:13Z</dcterms:created>
  <dc:creator>udsd</dc:creator>
  <dc:description/>
  <dc:language>en-US</dc:language>
  <cp:lastModifiedBy>udsd</cp:lastModifiedBy>
  <dcterms:modified xsi:type="dcterms:W3CDTF">2007-06-06T11:21:33Z</dcterms:modified>
  <cp:revision>4</cp:revision>
  <dc:subject/>
  <dc:title>Alternative Energy</dc:title>
</cp:coreProperties>
</file>