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BB9-4FEC-4901-A42C-222E4741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 – permafrost in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i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gras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 – boreal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uous, tempe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(hint – no le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animals; non-coniferous tree c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 decid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72C-48E2-485D-B10E-C3005ABB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7F4-FC6A-4CF6-B152-1E6FDC26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E0E-2164-46A9-AD1B-FC69825F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500-B28A-491C-BBBF-0254ADDB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C5A-A941-470F-9572-F2336F1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5D8-BA09-4FEE-81BF-FB85BBBC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04B-21E6-4EC4-8022-20300C3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9F9-40F3-4CD0-83C0-4D1AEC0D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077-DB6C-4EE0-AC27-4A864A4A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2D2-3E84-49C1-ADC4-259C9A5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442-41B2-4FDA-AEF3-99543C6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736-89F0-431F-B272-D891272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730-06FC-4678-9667-7EC6BFF7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5520" y="3886200"/>
            <a:ext cx="2666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biomes-taigapic5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:\Chapter_07\Present\Images\07_06c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live at the Canadian border in the U.S.  and have decided to construct a windmill to power your small cabin in the woods.  Your library research says that it should face into the prevailing w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irection should the windmill fa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, South, East or W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Chapter_07\Present\Images\07_07.jpg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PRECIPITATION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 dictates Plants.  Plants dictate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maximize photosyn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retain water and control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lea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xy co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Plant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1. Succul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leshy plants with modified leaves (spines), photosynthesize in stems, store water in flesh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dry, sunny enviro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. Broadleaf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as much sunlight as possible; keep leaves all year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ropical rainforest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. Broadleaf Decidu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sunlight; lose leaves in dry, cold winter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emperate (seasonal) ar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. Coniferous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mall, needle-like leaves; maintain leaves all year; waxy to prevent water los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cold winters; brief summ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creosote bush.jpg"/>
          <p:cNvPicPr/>
          <p:nvPr/>
        </p:nvPicPr>
        <p:blipFill>
          <a:blip r:embed="rId1"/>
          <a:stretch/>
        </p:blipFill>
        <p:spPr>
          <a:xfrm>
            <a:off x="30492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" descr=""/>
          <p:cNvPicPr/>
          <p:nvPr/>
        </p:nvPicPr>
        <p:blipFill>
          <a:blip r:embed="rId2"/>
          <a:stretch/>
        </p:blipFill>
        <p:spPr>
          <a:xfrm>
            <a:off x="530280" y="1274760"/>
            <a:ext cx="7754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rt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cturnal; hide during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outer coverings (reptiles/ins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e water; kangaroo 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stone spec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moisture from seeds (store in bur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 -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ng time to recover from disturbance due to slow plant growth, low diversity, lack of water, &amp; slow nutrient cyc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population by new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reationists destroy landscape; crush underground bur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nization of soil due to 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letion of ground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ng/Oil ex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testing (Manhattan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uture u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xic storage (The Yucca Mountain Project, N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olarpower.jpg"/>
          <p:cNvPicPr/>
          <p:nvPr/>
        </p:nvPicPr>
        <p:blipFill>
          <a:blip r:embed="rId1"/>
          <a:stretch/>
        </p:blipFill>
        <p:spPr>
          <a:xfrm>
            <a:off x="2666880" y="1371600"/>
            <a:ext cx="6089760" cy="495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3" descr="solar panels.jpg"/>
          <p:cNvPicPr/>
          <p:nvPr/>
        </p:nvPicPr>
        <p:blipFill>
          <a:blip r:embed="rId2"/>
          <a:stretch/>
        </p:blipFill>
        <p:spPr>
          <a:xfrm>
            <a:off x="380880" y="304920"/>
            <a:ext cx="30481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eosot3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ter_02\Present\Images\02_19t.jpg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srtson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85312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kang_rat3"/>
          <p:cNvPicPr/>
          <p:nvPr/>
        </p:nvPicPr>
        <p:blipFill>
          <a:blip r:embed="rId1"/>
          <a:stretch/>
        </p:blipFill>
        <p:spPr>
          <a:xfrm>
            <a:off x="838080" y="914400"/>
            <a:ext cx="7464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australian-desert-animals-2"/>
          <p:cNvPicPr/>
          <p:nvPr/>
        </p:nvPicPr>
        <p:blipFill>
          <a:blip r:embed="rId1"/>
          <a:stretch/>
        </p:blipFill>
        <p:spPr>
          <a:xfrm>
            <a:off x="457200" y="609480"/>
            <a:ext cx="84549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eser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458200" cy="51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9960" y="189000"/>
            <a:ext cx="176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inches rain/year (falls as sn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rk winters; 24-hr sunlight in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frost = permanently frozen s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ee height or lower to survive wi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very quickly (3 months 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imal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 (caribou, bi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thick fur, huddle for wi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camoufl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uman Imp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fragile biome on Earth due to slow growth &amp; lack of bio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sunst058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tundrabarrowve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8074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tundra-animals_523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undras del mundo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4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tic soils are wet and nutrient rich.  So why are there no trees in the Arctic, and why are the plants there so close to the g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n’t desert plants such as cacti have lea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trees in most forests found in both the warm tropics and in cold areas such as Canada and Sweden keep their leaves year-round, whereas most trees in temperate forests lose their leaves in win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S (2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to moderate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ipitation limits plants to mostly perennial gr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grassland (savann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m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&amp; wet s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grassland (prair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ught, fires, &amp; grazing prevents most trees/bushes from gr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. &amp; S. America, Europe, &amp; A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ennial grasses grow from base of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mats of deep roots maintain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iries = most fertile soil in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imal Adap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populations of grazing herbiv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anna – eat at different levels to avoid interspecies compet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man Imp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sion to croplands; deserts by acci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rning &amp; plowing; contribute to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st storms in times of drou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raz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Natashagrasslandpic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ison01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tmpgrmp2"/>
          <p:cNvPicPr/>
          <p:nvPr/>
        </p:nvPicPr>
        <p:blipFill>
          <a:blip r:embed="rId1"/>
          <a:stretch/>
        </p:blipFill>
        <p:spPr>
          <a:xfrm>
            <a:off x="457200" y="838080"/>
            <a:ext cx="8454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grsljnp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6800"/>
            <a:ext cx="8229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GiraffeSavannah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savanna_location_map"/>
          <p:cNvPicPr/>
          <p:nvPr/>
        </p:nvPicPr>
        <p:blipFill>
          <a:blip r:embed="rId1"/>
          <a:stretch/>
        </p:blipFill>
        <p:spPr>
          <a:xfrm>
            <a:off x="380880" y="762120"/>
            <a:ext cx="85312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362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(3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to high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inated by various tree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 (near equa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 100 inches rain/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uous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 with moderate precipitation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iferous Evergreen Forests (Tai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cone-bearing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 winters, cool summers with very short growing s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Plants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in layers (Fig. 5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p-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ve ground 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nes – to compete for 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ground litter due to quick nutrient cyc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quality is poor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es lose leaves in winter and dro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maple &amp; o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opy not as blocking as 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is rich due to annual decomposition of fallen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 are classified according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2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76920" y="2133360"/>
            <a:ext cx="4039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ras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rainfall will determine what plants can grow &amp; how 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824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0570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op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emp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ngle that the sun hits the Earth v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leads to Global Wind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 – Plant Ada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-pee shape to prevent snow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waxy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synthesize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bark to prevent fr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spruce, fir, pine, &amp; hem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understory due to acidic soil and slow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ght colors for w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 in layers to reduce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black bears, deer, squirrels,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ing lasts 5-10 years (soils are po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st human population on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9% of original forests have been cleared in N.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 land area that is minimally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 &amp; mining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Taiga Forest Photos"/>
          <p:cNvPicPr/>
          <p:nvPr/>
        </p:nvPicPr>
        <p:blipFill>
          <a:blip r:embed="rId1"/>
          <a:stretch/>
        </p:blipFill>
        <p:spPr>
          <a:xfrm>
            <a:off x="380880" y="457200"/>
            <a:ext cx="8379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aneTaiga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aiga_location_map001"/>
          <p:cNvPicPr/>
          <p:nvPr/>
        </p:nvPicPr>
        <p:blipFill>
          <a:blip r:embed="rId1"/>
          <a:stretch/>
        </p:blipFill>
        <p:spPr>
          <a:xfrm>
            <a:off x="380880" y="685800"/>
            <a:ext cx="85312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ictemperate"/>
          <p:cNvPicPr/>
          <p:nvPr/>
        </p:nvPicPr>
        <p:blipFill>
          <a:blip r:embed="rId1"/>
          <a:stretch/>
        </p:blipFill>
        <p:spPr>
          <a:xfrm>
            <a:off x="838080" y="457200"/>
            <a:ext cx="7921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stream"/>
          <p:cNvPicPr/>
          <p:nvPr/>
        </p:nvPicPr>
        <p:blipFill>
          <a:blip r:embed="rId1"/>
          <a:stretch/>
        </p:blipFill>
        <p:spPr>
          <a:xfrm>
            <a:off x="533520" y="533520"/>
            <a:ext cx="81500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eciduous forest montage © Shirley Burchill"/>
          <p:cNvPicPr/>
          <p:nvPr/>
        </p:nvPicPr>
        <p:blipFill>
          <a:blip r:embed="rId1"/>
          <a:stretch/>
        </p:blipFill>
        <p:spPr>
          <a:xfrm>
            <a:off x="1752480" y="642960"/>
            <a:ext cx="5715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eaf"/>
          <p:cNvPicPr/>
          <p:nvPr/>
        </p:nvPicPr>
        <p:blipFill>
          <a:blip r:embed="rId1"/>
          <a:stretch/>
        </p:blipFill>
        <p:spPr>
          <a:xfrm>
            <a:off x="304920" y="685800"/>
            <a:ext cx="3671640" cy="533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ardinal3"/>
          <p:cNvPicPr/>
          <p:nvPr/>
        </p:nvPicPr>
        <p:blipFill>
          <a:blip r:embed="rId2"/>
          <a:stretch/>
        </p:blipFill>
        <p:spPr>
          <a:xfrm>
            <a:off x="4114800" y="762120"/>
            <a:ext cx="4648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IOMES"/>
          <p:cNvPicPr/>
          <p:nvPr/>
        </p:nvPicPr>
        <p:blipFill>
          <a:blip r:embed="rId1"/>
          <a:stretch/>
        </p:blipFill>
        <p:spPr>
          <a:xfrm>
            <a:off x="838080" y="746280"/>
            <a:ext cx="7696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apforest"/>
          <p:cNvPicPr/>
          <p:nvPr/>
        </p:nvPicPr>
        <p:blipFill>
          <a:blip r:embed="rId1"/>
          <a:stretch/>
        </p:blipFill>
        <p:spPr>
          <a:xfrm>
            <a:off x="533520" y="969840"/>
            <a:ext cx="81532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rainfores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3055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23"/>
          <p:cNvPicPr/>
          <p:nvPr/>
        </p:nvPicPr>
        <p:blipFill>
          <a:blip r:embed="rId1"/>
          <a:stretch/>
        </p:blipFill>
        <p:spPr>
          <a:xfrm>
            <a:off x="838080" y="457200"/>
            <a:ext cx="76932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umilio"/>
          <p:cNvPicPr/>
          <p:nvPr/>
        </p:nvPicPr>
        <p:blipFill>
          <a:blip r:embed="rId1"/>
          <a:stretch/>
        </p:blipFill>
        <p:spPr>
          <a:xfrm>
            <a:off x="762120" y="380880"/>
            <a:ext cx="7159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image?id=6579&amp;rendTypeId=4"/>
          <p:cNvPicPr/>
          <p:nvPr/>
        </p:nvPicPr>
        <p:blipFill>
          <a:blip r:embed="rId1"/>
          <a:stretch/>
        </p:blipFill>
        <p:spPr>
          <a:xfrm>
            <a:off x="1295280" y="228600"/>
            <a:ext cx="6473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of Earth’s land su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changes in climate, soil, &amp; species with altitud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 drop per 1,000 feet as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ine tundra; height above which trees cannot g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undr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:\Chapter_02\Present\Images\02_21.jpg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: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ly increasing human 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sually developing/refug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droelectric d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pollution affecting plant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lution rises, just like 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V radiation levels higher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 of military ba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biome_map_temp_grasslands"/>
          <p:cNvPicPr/>
          <p:nvPr/>
        </p:nvPicPr>
        <p:blipFill>
          <a:blip r:embed="rId1"/>
          <a:stretch/>
        </p:blipFill>
        <p:spPr>
          <a:xfrm>
            <a:off x="304920" y="228600"/>
            <a:ext cx="81500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iomdiagr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ncident_sunlight.jpg"/>
          <p:cNvPicPr/>
          <p:nvPr/>
        </p:nvPicPr>
        <p:blipFill>
          <a:blip r:embed="rId1"/>
          <a:stretch/>
        </p:blipFill>
        <p:spPr>
          <a:xfrm>
            <a:off x="762120" y="343080"/>
            <a:ext cx="784836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mperature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 air rises, yet cools with the change in al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t cools, it falls back to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“falling” dense air causes an increase in air pressure, which must be equ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Chapter_07\Present\Images\07_06b.jpg"/>
          <p:cNvPicPr/>
          <p:nvPr/>
        </p:nvPicPr>
        <p:blipFill>
          <a:blip r:embed="rId1"/>
          <a:stretch/>
        </p:blipFill>
        <p:spPr>
          <a:xfrm>
            <a:off x="388800" y="1295280"/>
            <a:ext cx="3927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s do not blow simply N to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“bent” by the spinning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n consistent, named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E:\Chapter_07\Present\Images\07_06cu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0:25:20Z</dcterms:created>
  <dc:creator>Joanne Lilliendahl</dc:creator>
  <dc:description/>
  <dc:language>en-US</dc:language>
  <cp:lastModifiedBy>udsd</cp:lastModifiedBy>
  <dcterms:modified xsi:type="dcterms:W3CDTF">2008-02-14T14:34:27Z</dcterms:modified>
  <cp:revision>38</cp:revision>
  <dc:subject/>
  <dc:title>BIOMES</dc:title>
</cp:coreProperties>
</file>