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CA9-6DA7-48A0-808D-79BF5536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 – permafrost in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i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gras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 – boreal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uous, temp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(hint – no le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animals; non-coniferous tree c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 decid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2C9-4B81-4D28-9080-1D0E6603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FAC-2B34-4AD5-89ED-4C96B59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5C8-2ABD-4D5F-80EF-6FD639D7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73A-AC6A-49C5-9E45-B8FE51EC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762-89FE-4BBF-B840-2A7EA4C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B17-039B-4BD2-92E7-64F1F140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0D4-94B5-4CF4-8847-3C9B2355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4B0-B187-42FE-9584-A637754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EA6-07E8-4125-950E-D6741AF6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0E7-8A9E-49AC-AE72-78103FA5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63-0E8C-4A7A-B766-52F94C5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400-BBCE-48B5-B68D-129EBAB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6563-13A2-4BDB-89A8-CF9FFAAAA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520" y="388620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biomes-taigapic5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:\Chapter_07\Present\Images\07_06c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live at the Canadian border in the U.S.  and have decided to construct a windmill to power your small cabin in the woods.  Your library research says that it should face into the prevailing w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irection should the windmill fa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, South, East or W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Chapter_07\Present\Images\07_07.jpg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PRECIPITATION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dictates Plants.  Plants dictat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maximize photosyn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retain water and control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lea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xy co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Plan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. Succul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eshy plants with modified leaves (spines), photosynthesize in stems, store water in flesh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dry, sunny enviro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. Broadleaf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as much sunlight as possible; keep leaves all year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ropical rainforest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. Broadleaf Decidu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sunlight; lose leaves in dry, cold winter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emperate (seasonal) ar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. Coniferous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, needle-like leaves; maintain leaves all year; waxy to prevent water los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cold winters; brief summ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creosote bush.jpg"/>
          <p:cNvPicPr/>
          <p:nvPr/>
        </p:nvPicPr>
        <p:blipFill>
          <a:blip r:embed="rId1"/>
          <a:stretch/>
        </p:blipFill>
        <p:spPr>
          <a:xfrm>
            <a:off x="30492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" descr=""/>
          <p:cNvPicPr/>
          <p:nvPr/>
        </p:nvPicPr>
        <p:blipFill>
          <a:blip r:embed="rId2"/>
          <a:stretch/>
        </p:blipFill>
        <p:spPr>
          <a:xfrm>
            <a:off x="530280" y="1274760"/>
            <a:ext cx="7754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rt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cturnal; hide during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outer coverings (reptiles/ins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e water; kangaroo 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tone spec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moisture from seeds (store in bu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 -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ng time to recover from disturbance due to slow plant growth, low diversity, lack of water, &amp; slow nutrient cyc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population by new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reationists destroy landscape; crush underground bu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nization of soil due to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letion of ground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ng/Oil ex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testing (Manhattan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uture u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xic storage (The Yucca Mountain Project, N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olarpower.jpg"/>
          <p:cNvPicPr/>
          <p:nvPr/>
        </p:nvPicPr>
        <p:blipFill>
          <a:blip r:embed="rId1"/>
          <a:stretch/>
        </p:blipFill>
        <p:spPr>
          <a:xfrm>
            <a:off x="2666880" y="1371600"/>
            <a:ext cx="6089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solar panels.jpg"/>
          <p:cNvPicPr/>
          <p:nvPr/>
        </p:nvPicPr>
        <p:blipFill>
          <a:blip r:embed="rId2"/>
          <a:stretch/>
        </p:blipFill>
        <p:spPr>
          <a:xfrm>
            <a:off x="380880" y="304920"/>
            <a:ext cx="30481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eosot3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ter_02\Present\Images\02_19t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srtson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8531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g_rat3"/>
          <p:cNvPicPr/>
          <p:nvPr/>
        </p:nvPicPr>
        <p:blipFill>
          <a:blip r:embed="rId1"/>
          <a:stretch/>
        </p:blipFill>
        <p:spPr>
          <a:xfrm>
            <a:off x="838080" y="914400"/>
            <a:ext cx="7464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australian-desert-animals-2"/>
          <p:cNvPicPr/>
          <p:nvPr/>
        </p:nvPicPr>
        <p:blipFill>
          <a:blip r:embed="rId1"/>
          <a:stretch/>
        </p:blipFill>
        <p:spPr>
          <a:xfrm>
            <a:off x="457200" y="609480"/>
            <a:ext cx="84549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eser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458200" cy="51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9960" y="189000"/>
            <a:ext cx="176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nches rain/year (falls as sn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rk winters; 24-hr sunlight in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= permanently froze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e height or lower to surviv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very quickly (3 months 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imal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 (caribou, bi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thick fur, huddle for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camoufl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uman Imp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fragile biome on Earth due to slow growth &amp; lack of bio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sunst058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tundrabarrowve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8074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tundra-animals_523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undras del mundo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tic soils are wet and nutrient rich.  So why are there no trees in the Arctic, and why are the plants there so close to the g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n’t desert plants such as cacti have lea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rees in most forests found in both the warm tropics and in cold areas such as Canada and Sweden keep their leaves year-round, whereas most trees in temperate forests lose their leaves in win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S (2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o moderate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pitation limits plants to mostly perennial gr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grassland (savann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m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&amp; wet s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grassland (prair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ught, fires, &amp; grazing prevents most trees/bushes from gr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. &amp; S. America, Europe, &amp; A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ennial grasses grow from base of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mats of deep roots maintain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iries = most fertile soil in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imal Adap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pulations of grazing herbiv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anna – eat at different levels to avoid interspecies compet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 Imp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on to croplands; deserts by acci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rning &amp; plowing; contribute to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st storms in times of drou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raz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Natashagrasslandpic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ison01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tmpgrmp2"/>
          <p:cNvPicPr/>
          <p:nvPr/>
        </p:nvPicPr>
        <p:blipFill>
          <a:blip r:embed="rId1"/>
          <a:stretch/>
        </p:blipFill>
        <p:spPr>
          <a:xfrm>
            <a:off x="457200" y="838080"/>
            <a:ext cx="8454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grsljnp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680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iraffeSavannah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savanna_location_map"/>
          <p:cNvPicPr/>
          <p:nvPr/>
        </p:nvPicPr>
        <p:blipFill>
          <a:blip r:embed="rId1"/>
          <a:stretch/>
        </p:blipFill>
        <p:spPr>
          <a:xfrm>
            <a:off x="380880" y="762120"/>
            <a:ext cx="85312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362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(3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to high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inated by various tre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 (near equa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 100 inches rain/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uous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 with moderate precipitation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iferous Evergreen Forests (Tai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cone-bearing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winters, cool summers with very short growing s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Plants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in layers (Fig. 5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p-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ve ground 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nes – to compete for 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ground litter due to quick nutrient cyc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quality is poor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es lose leaves in winter and dro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aple &amp; o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opy not as blocking as 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is rich due to annual decomposition of fall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 are classified according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2133360"/>
            <a:ext cx="4039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rainfall will determine what plants can grow &amp; how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2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0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op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m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ngle that the sun hits the Earth v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eads to Global Wind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 – Plant Ada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-pee shape to prevent snow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waxy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ze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bark to prevent fr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spruce, fir, pine, &amp; hem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understory due to acidic soil and slow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ght colors for w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 in layers to reduce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black bears, deer, squirrels,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ing lasts 5-10 years (soils are po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st human population on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9% of original forests have been cleared in N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 land area that is minimally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&amp; mining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aiga Forest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379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aneTaiga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aiga_location_map001"/>
          <p:cNvPicPr/>
          <p:nvPr/>
        </p:nvPicPr>
        <p:blipFill>
          <a:blip r:embed="rId1"/>
          <a:stretch/>
        </p:blipFill>
        <p:spPr>
          <a:xfrm>
            <a:off x="380880" y="685800"/>
            <a:ext cx="85312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emperate"/>
          <p:cNvPicPr/>
          <p:nvPr/>
        </p:nvPicPr>
        <p:blipFill>
          <a:blip r:embed="rId1"/>
          <a:stretch/>
        </p:blipFill>
        <p:spPr>
          <a:xfrm>
            <a:off x="838080" y="457200"/>
            <a:ext cx="7921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stream"/>
          <p:cNvPicPr/>
          <p:nvPr/>
        </p:nvPicPr>
        <p:blipFill>
          <a:blip r:embed="rId1"/>
          <a:stretch/>
        </p:blipFill>
        <p:spPr>
          <a:xfrm>
            <a:off x="533520" y="533520"/>
            <a:ext cx="8150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eciduous forest montage © Shirley Burchill"/>
          <p:cNvPicPr/>
          <p:nvPr/>
        </p:nvPicPr>
        <p:blipFill>
          <a:blip r:embed="rId1"/>
          <a:stretch/>
        </p:blipFill>
        <p:spPr>
          <a:xfrm>
            <a:off x="1752480" y="642960"/>
            <a:ext cx="5715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eaf"/>
          <p:cNvPicPr/>
          <p:nvPr/>
        </p:nvPicPr>
        <p:blipFill>
          <a:blip r:embed="rId1"/>
          <a:stretch/>
        </p:blipFill>
        <p:spPr>
          <a:xfrm>
            <a:off x="304920" y="685800"/>
            <a:ext cx="3671640" cy="533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ardinal3"/>
          <p:cNvPicPr/>
          <p:nvPr/>
        </p:nvPicPr>
        <p:blipFill>
          <a:blip r:embed="rId2"/>
          <a:stretch/>
        </p:blipFill>
        <p:spPr>
          <a:xfrm>
            <a:off x="4114800" y="762120"/>
            <a:ext cx="4648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OMES"/>
          <p:cNvPicPr/>
          <p:nvPr/>
        </p:nvPicPr>
        <p:blipFill>
          <a:blip r:embed="rId1"/>
          <a:stretch/>
        </p:blipFill>
        <p:spPr>
          <a:xfrm>
            <a:off x="838080" y="746280"/>
            <a:ext cx="7696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apforest"/>
          <p:cNvPicPr/>
          <p:nvPr/>
        </p:nvPicPr>
        <p:blipFill>
          <a:blip r:embed="rId1"/>
          <a:stretch/>
        </p:blipFill>
        <p:spPr>
          <a:xfrm>
            <a:off x="533520" y="969840"/>
            <a:ext cx="8153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rainfores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305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23"/>
          <p:cNvPicPr/>
          <p:nvPr/>
        </p:nvPicPr>
        <p:blipFill>
          <a:blip r:embed="rId1"/>
          <a:stretch/>
        </p:blipFill>
        <p:spPr>
          <a:xfrm>
            <a:off x="838080" y="457200"/>
            <a:ext cx="76932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umilio"/>
          <p:cNvPicPr/>
          <p:nvPr/>
        </p:nvPicPr>
        <p:blipFill>
          <a:blip r:embed="rId1"/>
          <a:stretch/>
        </p:blipFill>
        <p:spPr>
          <a:xfrm>
            <a:off x="762120" y="380880"/>
            <a:ext cx="7159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mage?id=6579&amp;rendTypeId=4"/>
          <p:cNvPicPr/>
          <p:nvPr/>
        </p:nvPicPr>
        <p:blipFill>
          <a:blip r:embed="rId1"/>
          <a:stretch/>
        </p:blipFill>
        <p:spPr>
          <a:xfrm>
            <a:off x="1295280" y="228600"/>
            <a:ext cx="6473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Earth’s land su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hanges in climate, soil, &amp; species with altitud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 drop per 1,000 feet a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ine tundra; height above which trees cannot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undr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hapter_02\Present\Images\02_21.jpg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: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increasing human 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sually developing/refug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droelectric d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pollution affecting plant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lution rises, just like 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V radiation levels higher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 of military ba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biome_map_temp_grasslands"/>
          <p:cNvPicPr/>
          <p:nvPr/>
        </p:nvPicPr>
        <p:blipFill>
          <a:blip r:embed="rId1"/>
          <a:stretch/>
        </p:blipFill>
        <p:spPr>
          <a:xfrm>
            <a:off x="304920" y="228600"/>
            <a:ext cx="8150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iomdiagr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ncident_sunlight.jpg"/>
          <p:cNvPicPr/>
          <p:nvPr/>
        </p:nvPicPr>
        <p:blipFill>
          <a:blip r:embed="rId1"/>
          <a:stretch/>
        </p:blipFill>
        <p:spPr>
          <a:xfrm>
            <a:off x="762120" y="343080"/>
            <a:ext cx="7848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mperature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 air rises, yet cools with the change in al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cools, it falls back to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“falling” dense air causes an increase in air pressure, which must be equ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Chapter_07\Present\Images\07_06b.jpg"/>
          <p:cNvPicPr/>
          <p:nvPr/>
        </p:nvPicPr>
        <p:blipFill>
          <a:blip r:embed="rId1"/>
          <a:stretch/>
        </p:blipFill>
        <p:spPr>
          <a:xfrm>
            <a:off x="388800" y="1295280"/>
            <a:ext cx="3927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s do not blow simply N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“bent” by the spinning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n consistent, named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E:\Chapter_07\Present\Images\07_06cu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25:20Z</dcterms:created>
  <dc:creator>Joanne Lilliendahl</dc:creator>
  <dc:description/>
  <dc:language>en-US</dc:language>
  <cp:lastModifiedBy>udsd</cp:lastModifiedBy>
  <dcterms:modified xsi:type="dcterms:W3CDTF">2008-02-14T14:34:27Z</dcterms:modified>
  <cp:revision>38</cp:revision>
  <dc:subject/>
  <dc:title>BIOMES</dc:title>
</cp:coreProperties>
</file>