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37.png" ContentType="image/png"/>
  <Override PartName="/ppt/media/image35.png" ContentType="image/png"/>
  <Override PartName="/ppt/media/image43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18.png" ContentType="image/png"/>
  <Override PartName="/ppt/media/image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8070-3673-4FD6-95E8-7209EADA2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 – permafrost in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a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ir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gras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 – boreal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uous, tempe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(hint – no lea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animals; non-coniferous tree c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 decid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B81-1BDF-489F-8F17-85598478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66E-9CD4-403C-99B8-59730760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DFD-8348-487B-816B-7BE1CCEC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5AD-B3C0-4985-A953-5B5CEADB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7F5-106A-4EAD-B3A5-CE626FCF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0B7-C52B-440C-A7A0-7278CC6F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82B-5D2C-4A2D-AC5D-2A652B5E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D49-2A5B-4054-9E21-99DC5A4F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8B2-B24A-4525-9327-5675F95F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A38-E231-405B-BB91-9641FF40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EC2-DFAB-4A7B-96E6-4E862651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B91-482D-45D7-B878-B48D62C7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65F1-FB9D-4F8D-8ED1-5D887BFC9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24280" y="2130120"/>
            <a:ext cx="3733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05520" y="3886200"/>
            <a:ext cx="2666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5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biomes-taigapic5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E:\Chapter_07\Present\Images\07_06c.jpg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live at the Canadian border in the U.S.  and have decided to construct a windmill to power your small cabin in the woods.  Your library research says that it should face into the prevailing wi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direction should the windmill fac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th, South, East or We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Chapter_07\Present\Images\07_07.jpg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PRECIPITATION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 dictates Plants.  Plants dictate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want to maximize photosynthe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le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want to retain water and control tem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leav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xy co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 Plant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1. Succul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leshy plants with modified leaves (spines), photosynthesize in stems, store water in flesh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ere: dry, sunny enviro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2. Broadleaf evergre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arge leaves to capture as much sunlight as possible; keep leaves all year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ere: tropical rainforest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3. Broadleaf Deciduo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arge leaves to capture sunlight; lose leaves in dry, cold winter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ere: temperate (seasonal) area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4. Coniferous Evergre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mall, needle-like leaves; maintain leaves all year; waxy to prevent water los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ere: cold winters; brief summ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creosote bush.jpg"/>
          <p:cNvPicPr/>
          <p:nvPr/>
        </p:nvPicPr>
        <p:blipFill>
          <a:blip r:embed="rId1"/>
          <a:stretch/>
        </p:blipFill>
        <p:spPr>
          <a:xfrm>
            <a:off x="30492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1" descr=""/>
          <p:cNvPicPr/>
          <p:nvPr/>
        </p:nvPicPr>
        <p:blipFill>
          <a:blip r:embed="rId2"/>
          <a:stretch/>
        </p:blipFill>
        <p:spPr>
          <a:xfrm>
            <a:off x="530280" y="1274760"/>
            <a:ext cx="7754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rt Animal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cturnal; hide during the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ck outer coverings (reptiles/ins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e water; kangaroo 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stone spec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moisture from seeds (store in bur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 - Human Imp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ng time to recover from disturbance due to slow plant growth, low diversity, lack of water, &amp; slow nutrient cyc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population by new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reationists destroy landscape; crush underground burr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inization of soil due to fa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letion of ground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ng/Oil ext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testing (Manhattan Proje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uture u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a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xic storage (The Yucca Mountain Project, N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solarpower.jpg"/>
          <p:cNvPicPr/>
          <p:nvPr/>
        </p:nvPicPr>
        <p:blipFill>
          <a:blip r:embed="rId1"/>
          <a:stretch/>
        </p:blipFill>
        <p:spPr>
          <a:xfrm>
            <a:off x="2666880" y="1371600"/>
            <a:ext cx="6089760" cy="495288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3" descr="solar panels.jpg"/>
          <p:cNvPicPr/>
          <p:nvPr/>
        </p:nvPicPr>
        <p:blipFill>
          <a:blip r:embed="rId2"/>
          <a:stretch/>
        </p:blipFill>
        <p:spPr>
          <a:xfrm>
            <a:off x="380880" y="304920"/>
            <a:ext cx="304812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creosot3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Chapter_02\Present\Images\02_19t.jpg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dsrtson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33520"/>
            <a:ext cx="85312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kang_rat3"/>
          <p:cNvPicPr/>
          <p:nvPr/>
        </p:nvPicPr>
        <p:blipFill>
          <a:blip r:embed="rId1"/>
          <a:stretch/>
        </p:blipFill>
        <p:spPr>
          <a:xfrm>
            <a:off x="838080" y="914400"/>
            <a:ext cx="74646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australian-desert-animals-2"/>
          <p:cNvPicPr/>
          <p:nvPr/>
        </p:nvPicPr>
        <p:blipFill>
          <a:blip r:embed="rId1"/>
          <a:stretch/>
        </p:blipFill>
        <p:spPr>
          <a:xfrm>
            <a:off x="457200" y="609480"/>
            <a:ext cx="8454960" cy="56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desert_location_map001"/>
          <p:cNvPicPr/>
          <p:nvPr/>
        </p:nvPicPr>
        <p:blipFill>
          <a:blip r:embed="rId1"/>
          <a:stretch/>
        </p:blipFill>
        <p:spPr>
          <a:xfrm>
            <a:off x="304920" y="831960"/>
            <a:ext cx="8458200" cy="514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9960" y="189000"/>
            <a:ext cx="176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 inches rain/year (falls as sn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rk winters; 24-hr sunlight in summ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afrost = permanently frozen so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lant Adap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t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ee height or lower to survive wi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w very quickly (3 months ma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imal Adap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ration (caribou, bi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thick fur, huddle for wi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sonal camoufl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uman Imp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fragile biome on Earth due to slow growth &amp; lack of biod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il expl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sunst058"/>
          <p:cNvPicPr/>
          <p:nvPr/>
        </p:nvPicPr>
        <p:blipFill>
          <a:blip r:embed="rId1"/>
          <a:stretch/>
        </p:blipFill>
        <p:spPr>
          <a:xfrm>
            <a:off x="685800" y="152280"/>
            <a:ext cx="7924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tundrabarrowve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80880"/>
            <a:ext cx="80740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tundra-animals_523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tundras del mundo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44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tic soils are wet and nutrient rich.  So why are there no trees in the Arctic, and why are the plants there so close to the gr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n’t desert plants such as cacti have lea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trees in most forests found in both the warm tropics and in cold areas such as Canada and Sweden keep their leaves year-round, whereas most trees in temperate forests lose their leaves in win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SSLANDS (2 typ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to moderate precip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cipitation limits plants to mostly perennial gras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opical grassland (savann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m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&amp; wet sea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mperate grassland (prair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sonal temper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ught, fires, &amp; grazing prevents most trees/bushes from grow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. &amp; S. America, Europe, &amp; A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SSLA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t Adap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ennial grasses grow from base of pl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mats of deep roots maintain so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iries = most fertile soil in the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imal Adap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 populations of grazing herbiv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vanna – eat at different levels to avoid interspecies compet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uman Imp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sion to croplands; deserts by acci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rning &amp; plowing; contribute to CO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st storms in times of drou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graz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2Natashagrasslandpic"/>
          <p:cNvPicPr/>
          <p:nvPr/>
        </p:nvPicPr>
        <p:blipFill>
          <a:blip r:embed="rId1"/>
          <a:stretch/>
        </p:blipFill>
        <p:spPr>
          <a:xfrm>
            <a:off x="685800" y="9144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bison01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tmpgrmp2"/>
          <p:cNvPicPr/>
          <p:nvPr/>
        </p:nvPicPr>
        <p:blipFill>
          <a:blip r:embed="rId1"/>
          <a:stretch/>
        </p:blipFill>
        <p:spPr>
          <a:xfrm>
            <a:off x="457200" y="838080"/>
            <a:ext cx="845496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grsljnp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766800"/>
            <a:ext cx="82296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GiraffeSavannah"/>
          <p:cNvPicPr/>
          <p:nvPr/>
        </p:nvPicPr>
        <p:blipFill>
          <a:blip r:embed="rId1"/>
          <a:stretch/>
        </p:blipFill>
        <p:spPr>
          <a:xfrm>
            <a:off x="609480" y="457200"/>
            <a:ext cx="8153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savanna_location_map"/>
          <p:cNvPicPr/>
          <p:nvPr/>
        </p:nvPicPr>
        <p:blipFill>
          <a:blip r:embed="rId1"/>
          <a:stretch/>
        </p:blipFill>
        <p:spPr>
          <a:xfrm>
            <a:off x="380880" y="762120"/>
            <a:ext cx="85312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24480" y="274320"/>
            <a:ext cx="2362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S (3 typ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240" y="380520"/>
            <a:ext cx="84582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rate to high precip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inated by various tree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opical Rainforests (near equa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green broadleaf t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~ 100 inches rain/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st biodiversity on planet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mperate Deciduous 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uous broadleaf t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sonal temperatures with moderate precipitation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niferous Evergreen Forests (Taig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green cone-bearing t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d winters, cool summers with very short growing sea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S – Plants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opical Rain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w in layers (Fig. 5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ip-t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ove ground ro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nes – to compete for sun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al ground litter due to quick nutrient cyc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quality is poor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ciduous 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es lose leaves in winter and drou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maple &amp; o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opy not as blocking as T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is rich due to annual decomposition of fallen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es are classified according 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00240" y="1371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76920" y="2133360"/>
            <a:ext cx="4039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Des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Gras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mount of rainfall will determine what plants can grow &amp; how 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2824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205704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rop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empe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o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ngle that the sun hits the Earth va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leads to Global Wind patt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 – Plant Ada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ai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e-pee shape to prevent snow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, waxy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otosynthesize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bark to prevent freez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spruce, fir, pine, &amp; hem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al understory due to acidic soil and slow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S – Animal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st biodiversity on pl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ght colors for w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 in layers to reduce compet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ciduous 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f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black bears, deer, squirrels, bi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ai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ber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f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S – Human Imp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R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ores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ing lasts 5-10 years (soils are po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ciduous Fo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st human population on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9% of original forests have been cleared in N.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a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 land area that is minimally develo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ging &amp; mining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Taiga Forest Photos"/>
          <p:cNvPicPr/>
          <p:nvPr/>
        </p:nvPicPr>
        <p:blipFill>
          <a:blip r:embed="rId1"/>
          <a:stretch/>
        </p:blipFill>
        <p:spPr>
          <a:xfrm>
            <a:off x="380880" y="457200"/>
            <a:ext cx="8379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DaneTaiga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taiga_location_map001"/>
          <p:cNvPicPr/>
          <p:nvPr/>
        </p:nvPicPr>
        <p:blipFill>
          <a:blip r:embed="rId1"/>
          <a:stretch/>
        </p:blipFill>
        <p:spPr>
          <a:xfrm>
            <a:off x="380880" y="685800"/>
            <a:ext cx="85312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ictemperate"/>
          <p:cNvPicPr/>
          <p:nvPr/>
        </p:nvPicPr>
        <p:blipFill>
          <a:blip r:embed="rId1"/>
          <a:stretch/>
        </p:blipFill>
        <p:spPr>
          <a:xfrm>
            <a:off x="838080" y="457200"/>
            <a:ext cx="79218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dstream"/>
          <p:cNvPicPr/>
          <p:nvPr/>
        </p:nvPicPr>
        <p:blipFill>
          <a:blip r:embed="rId1"/>
          <a:stretch/>
        </p:blipFill>
        <p:spPr>
          <a:xfrm>
            <a:off x="533520" y="533520"/>
            <a:ext cx="81500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Deciduous forest montage © Shirley Burchill"/>
          <p:cNvPicPr/>
          <p:nvPr/>
        </p:nvPicPr>
        <p:blipFill>
          <a:blip r:embed="rId1"/>
          <a:stretch/>
        </p:blipFill>
        <p:spPr>
          <a:xfrm>
            <a:off x="1752480" y="642960"/>
            <a:ext cx="5715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leaf"/>
          <p:cNvPicPr/>
          <p:nvPr/>
        </p:nvPicPr>
        <p:blipFill>
          <a:blip r:embed="rId1"/>
          <a:stretch/>
        </p:blipFill>
        <p:spPr>
          <a:xfrm>
            <a:off x="304920" y="685800"/>
            <a:ext cx="3671640" cy="5334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ardinal3"/>
          <p:cNvPicPr/>
          <p:nvPr/>
        </p:nvPicPr>
        <p:blipFill>
          <a:blip r:embed="rId2"/>
          <a:stretch/>
        </p:blipFill>
        <p:spPr>
          <a:xfrm>
            <a:off x="4114800" y="762120"/>
            <a:ext cx="4648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BIOMES"/>
          <p:cNvPicPr/>
          <p:nvPr/>
        </p:nvPicPr>
        <p:blipFill>
          <a:blip r:embed="rId1"/>
          <a:stretch/>
        </p:blipFill>
        <p:spPr>
          <a:xfrm>
            <a:off x="838080" y="746280"/>
            <a:ext cx="769644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mapforest"/>
          <p:cNvPicPr/>
          <p:nvPr/>
        </p:nvPicPr>
        <p:blipFill>
          <a:blip r:embed="rId1"/>
          <a:stretch/>
        </p:blipFill>
        <p:spPr>
          <a:xfrm>
            <a:off x="533520" y="969840"/>
            <a:ext cx="815328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rainforest_location_map001"/>
          <p:cNvPicPr/>
          <p:nvPr/>
        </p:nvPicPr>
        <p:blipFill>
          <a:blip r:embed="rId1"/>
          <a:stretch/>
        </p:blipFill>
        <p:spPr>
          <a:xfrm>
            <a:off x="304920" y="831960"/>
            <a:ext cx="83055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123"/>
          <p:cNvPicPr/>
          <p:nvPr/>
        </p:nvPicPr>
        <p:blipFill>
          <a:blip r:embed="rId1"/>
          <a:stretch/>
        </p:blipFill>
        <p:spPr>
          <a:xfrm>
            <a:off x="838080" y="457200"/>
            <a:ext cx="769320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pumilio"/>
          <p:cNvPicPr/>
          <p:nvPr/>
        </p:nvPicPr>
        <p:blipFill>
          <a:blip r:embed="rId1"/>
          <a:stretch/>
        </p:blipFill>
        <p:spPr>
          <a:xfrm>
            <a:off x="762120" y="380880"/>
            <a:ext cx="715968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image?id=6579&amp;rendTypeId=4"/>
          <p:cNvPicPr/>
          <p:nvPr/>
        </p:nvPicPr>
        <p:blipFill>
          <a:blip r:embed="rId1"/>
          <a:stretch/>
        </p:blipFill>
        <p:spPr>
          <a:xfrm>
            <a:off x="1295280" y="228600"/>
            <a:ext cx="647388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UNTAIN 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% of Earth’s land surf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changes in climate, soil, &amp; species with altitud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 drop per 1,000 feet asc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-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ine tundra; height above which trees cannot gr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undra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E:\Chapter_02\Present\Images\02_21.jpg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UNTAIN: Human Imp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ly increasing human pop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usually developing/refuge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droelectric d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 pollution affecting plant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lution rises, just like he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V radiation levels higher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es  of military batt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biome_map_temp_grasslands"/>
          <p:cNvPicPr/>
          <p:nvPr/>
        </p:nvPicPr>
        <p:blipFill>
          <a:blip r:embed="rId1"/>
          <a:stretch/>
        </p:blipFill>
        <p:spPr>
          <a:xfrm>
            <a:off x="304920" y="228600"/>
            <a:ext cx="815004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biomdiagr"/>
          <p:cNvPicPr/>
          <p:nvPr/>
        </p:nvPicPr>
        <p:blipFill>
          <a:blip r:embed="rId1"/>
          <a:stretch/>
        </p:blipFill>
        <p:spPr>
          <a:xfrm>
            <a:off x="380880" y="228600"/>
            <a:ext cx="861084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Incident_sunlight.jpg"/>
          <p:cNvPicPr/>
          <p:nvPr/>
        </p:nvPicPr>
        <p:blipFill>
          <a:blip r:embed="rId1"/>
          <a:stretch/>
        </p:blipFill>
        <p:spPr>
          <a:xfrm>
            <a:off x="762120" y="343080"/>
            <a:ext cx="784836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mperature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m air rises, yet cools with the change in altitu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it cools, it falls back to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“falling” dense air causes an increase in air pressure, which must be equal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E:\Chapter_07\Present\Images\07_06b.jpg"/>
          <p:cNvPicPr/>
          <p:nvPr/>
        </p:nvPicPr>
        <p:blipFill>
          <a:blip r:embed="rId1"/>
          <a:stretch/>
        </p:blipFill>
        <p:spPr>
          <a:xfrm>
            <a:off x="388800" y="1295280"/>
            <a:ext cx="39276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8765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s do not blow simply N to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“bent” by the spinning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in consistent, named 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E:\Chapter_07\Present\Images\07_06cu.jpg"/>
          <p:cNvPicPr/>
          <p:nvPr/>
        </p:nvPicPr>
        <p:blipFill>
          <a:blip r:embed="rId1"/>
          <a:stretch/>
        </p:blipFill>
        <p:spPr>
          <a:xfrm>
            <a:off x="457200" y="137160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00:25:20Z</dcterms:created>
  <dc:creator>Joanne Lilliendahl</dc:creator>
  <dc:description/>
  <dc:language>en-US</dc:language>
  <cp:lastModifiedBy>udsd</cp:lastModifiedBy>
  <dcterms:modified xsi:type="dcterms:W3CDTF">2008-02-14T14:34:27Z</dcterms:modified>
  <cp:revision>38</cp:revision>
  <dc:subject/>
  <dc:title>BIOMES</dc:title>
</cp:coreProperties>
</file>