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CDDF-1532-4132-A650-2513295B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BE5-932D-4EBC-9888-B8B12289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5B8C-E298-4BD5-9B76-3ADCFFD6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0D22-3854-4C56-92DF-E879AF13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C006-6AE4-4DA1-95B6-E0419225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8FB-66A9-439B-B1FD-9FE9CDDA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7085-B350-4B2B-BB8F-4F646EA5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97D5-4FD3-4866-9648-6BE1E629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413B-2FC1-4191-BFDA-294667BD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CF4B-77B1-4F75-A963-E52D0B1A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CFE-7F7B-4CCC-A440-BDD932A7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1EF-D094-4509-B5C3-081C3788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63FA-3690-47AA-A181-97F3CF215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vescience.com/environment/041201_water_bonds.html" TargetMode="External"/><Relationship Id="rId2" Type="http://schemas.openxmlformats.org/officeDocument/2006/relationships/hyperlink" Target="http://www.livescience.com/mysteries/061023_oceans_salty.html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, Water Everywhe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poured all the world’s water on the United States and could contain it, you’d create a lake 90 miles dee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much water is that? Roughly 326 million cubic miles, according to the U.S. Geological Survey. Some 72 percent of Earth is covered i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at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, but 97 percent of that is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alt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and no good for drink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, some facts about the freshwate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0 percent of freshwater is locked in ice ca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s than 1 percent of the world’s freshwater is readily accessi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countries (Brazil, Russia, Canada, Indonesia, China and Colombia) have 50 percent of the freshwater reser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-third of the world’s population lives in “water-stressed” count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STAL ZONE specif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MANGROVE SWA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warm tropical coasts with an over-abundance of silt (sediment &amp; nutrie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55 species of salt-tolerant trees &amp; shru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prevent coastal erosion; roots above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SH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an be rocky or sandy (barri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http://www.shunya.net/Pictures/Mexico/mangrove-swamp.jpg"/>
          <p:cNvPicPr/>
          <p:nvPr/>
        </p:nvPicPr>
        <p:blipFill>
          <a:blip r:embed="rId1"/>
          <a:stretch/>
        </p:blipFill>
        <p:spPr>
          <a:xfrm>
            <a:off x="6095880" y="152280"/>
            <a:ext cx="26337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CORAL REE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18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 in shallow coastal zones of warm tropical &amp; sub-tropical oc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water populations of polyps (animals similar to jellyfish) that secrete limestone sh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productive AL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http://web.syr.edu/~tjconena/sjcoralfor400300.JPG"/>
          <p:cNvPicPr/>
          <p:nvPr/>
        </p:nvPicPr>
        <p:blipFill>
          <a:blip r:embed="rId1"/>
          <a:stretch/>
        </p:blipFill>
        <p:spPr>
          <a:xfrm>
            <a:off x="4952880" y="3505320"/>
            <a:ext cx="38102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4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 OPEN S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ded into 3 zones, depending on the amount of sunlight EUPHO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HY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YS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low avg. net primary produ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hytoplankton most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% of ocean’s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gross primary productivity howe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y because of total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Isosceles Triangle 3"/>
          <p:cNvSpPr/>
          <p:nvPr/>
        </p:nvSpPr>
        <p:spPr>
          <a:xfrm rot="10800000">
            <a:off x="6477120" y="1828800"/>
            <a:ext cx="1295280" cy="1295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5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. FRESHWATER ALZ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. FRESHWATER LAKES – general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rge, natural bodies of standing (still) fresh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ed from ppt, runoff or groundwater that fills depressions in Earth’s surf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nd to have a lot of algal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 current to carry away or disper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mp. is often hig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 types of lakes;  4 zones within a lak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Up-Down Arrow 3"/>
          <p:cNvSpPr/>
          <p:nvPr/>
        </p:nvSpPr>
        <p:spPr>
          <a:xfrm>
            <a:off x="6858000" y="3733920"/>
            <a:ext cx="228600" cy="987480"/>
          </a:xfrm>
          <a:prstGeom prst="up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5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 TYPES OF LAK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914040"/>
            <a:ext cx="83818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IGOTROPHIC LAKE (poorly nourish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ly fo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deep with steep ba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vel, sandy, rocky bot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le shore vegetation, not much alg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-blue or green in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pop.s of pp and small fish (trout &amp; ba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http://aquat1.ifas.ufl.edu/sheelam.jpg"/>
          <p:cNvPicPr/>
          <p:nvPr/>
        </p:nvPicPr>
        <p:blipFill>
          <a:blip r:embed="rId1"/>
          <a:stretch/>
        </p:blipFill>
        <p:spPr>
          <a:xfrm>
            <a:off x="762120" y="5486400"/>
            <a:ext cx="7010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5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5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 TYPES OF LAK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EUTROPHIC LAKE (well-nourish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d l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ssive nutrients, rapid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llow, murky water from algae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light can’t penetrate far, not many fish at the bo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vege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eutrophic.jpg"/>
          <p:cNvPicPr/>
          <p:nvPr/>
        </p:nvPicPr>
        <p:blipFill>
          <a:blip r:embed="rId1"/>
          <a:stretch/>
        </p:blipFill>
        <p:spPr>
          <a:xfrm>
            <a:off x="4191120" y="4170240"/>
            <a:ext cx="42670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TYPES OF LAK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5" descr="http://lakes.chebucto.org/WATERSHEDS/FISHERIES/FISHES/PIC/eutrophication.jpg"/>
          <p:cNvPicPr/>
          <p:nvPr/>
        </p:nvPicPr>
        <p:blipFill>
          <a:blip r:embed="rId1"/>
          <a:stretch/>
        </p:blipFill>
        <p:spPr>
          <a:xfrm>
            <a:off x="457200" y="2362320"/>
            <a:ext cx="8331120" cy="4141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304920" y="1447920"/>
            <a:ext cx="52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MESOTROPHIC L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In between Oligo &amp; Eu - trop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kes are divided into 4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lake zones.jpg"/>
          <p:cNvPicPr/>
          <p:nvPr/>
        </p:nvPicPr>
        <p:blipFill>
          <a:blip r:embed="rId1"/>
          <a:stretch/>
        </p:blipFill>
        <p:spPr>
          <a:xfrm>
            <a:off x="762120" y="1182600"/>
            <a:ext cx="739116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 LAKE Z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ORAL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elines &amp; very shallow waters around ed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vegetation grows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LIMNETIC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p layer of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rganisms found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est temperature; sun easily penet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8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 ZONES IN LAK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PROFUNDAL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ow the limnetic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sunlight &amp; nutr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many organisms found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BENTHIC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bottom layer of water, including bottom sedi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le, to no, organisms live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sunlight penet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5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5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7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Barcharts of the distribution of water on Earth. "/>
          <p:cNvPicPr/>
          <p:nvPr/>
        </p:nvPicPr>
        <p:blipFill>
          <a:blip r:embed="rId1"/>
          <a:stretch/>
        </p:blipFill>
        <p:spPr>
          <a:xfrm>
            <a:off x="304920" y="533520"/>
            <a:ext cx="4924440" cy="411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Pie charts of the distribution of water on Earth. "/>
          <p:cNvPicPr/>
          <p:nvPr/>
        </p:nvPicPr>
        <p:blipFill>
          <a:blip r:embed="rId2"/>
          <a:stretch/>
        </p:blipFill>
        <p:spPr>
          <a:xfrm>
            <a:off x="5486400" y="3276720"/>
            <a:ext cx="34196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ke Stratification – Seasons change temp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3" descr="LakeStratification.gif"/>
          <p:cNvPicPr/>
          <p:nvPr/>
        </p:nvPicPr>
        <p:blipFill>
          <a:blip r:embed="rId1"/>
          <a:stretch/>
        </p:blipFill>
        <p:spPr>
          <a:xfrm>
            <a:off x="762120" y="1754280"/>
            <a:ext cx="76197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 FRESHWATER STRE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ning water with curr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cold te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clear, algae is quickly carried a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s from surface water or runoff that does not soak into 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z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stream2.jpg"/>
          <p:cNvPicPr/>
          <p:nvPr/>
        </p:nvPicPr>
        <p:blipFill>
          <a:blip r:embed="rId1"/>
          <a:stretch/>
        </p:blipFill>
        <p:spPr>
          <a:xfrm>
            <a:off x="2438280" y="4648320"/>
            <a:ext cx="612144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eshwater Stream Z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rst (narrow)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waters/mountain highland str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ning of the st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is very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waterfalls/rap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amount of dissolved oxy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 water fish (trou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gae &amp; moss attach to r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stream.jpg"/>
          <p:cNvPicPr/>
          <p:nvPr/>
        </p:nvPicPr>
        <p:blipFill>
          <a:blip r:embed="rId1"/>
          <a:stretch/>
        </p:blipFill>
        <p:spPr>
          <a:xfrm>
            <a:off x="6858000" y="2286000"/>
            <a:ext cx="205740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08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shwater Stream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6324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Second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zone meets with other str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wer current, warmer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obstacles (rock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x of warm &amp; cold water f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http://www.dpiw.tas.gov.au/inter.nsf/Images/LBUN-4Z56BX/$File/water_hortonriver.jpg"/>
          <p:cNvPicPr/>
          <p:nvPr/>
        </p:nvPicPr>
        <p:blipFill>
          <a:blip r:embed="rId1"/>
          <a:stretch/>
        </p:blipFill>
        <p:spPr>
          <a:xfrm>
            <a:off x="1600200" y="4724280"/>
            <a:ext cx="6019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eshwater Stream Z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ams join together to form a r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de &amp; mur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temper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dissolved oxygen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ts of sediment that deposits at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 &amp; catf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9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. Inland Wetla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ds covered with water all or part of the year (excluding streams, lakes, resevoi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marshes (herbaceous pla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prairie potholes (season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swamps (tress &amp; shru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mudfl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bo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Mudflats.jpg"/>
          <p:cNvPicPr/>
          <p:nvPr/>
        </p:nvPicPr>
        <p:blipFill>
          <a:blip r:embed="rId1"/>
          <a:stretch/>
        </p:blipFill>
        <p:spPr>
          <a:xfrm>
            <a:off x="6324480" y="3352680"/>
            <a:ext cx="25909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4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4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http://library.thinkquest.org/04oct/01590/intro/stream.jpg"/>
          <p:cNvPicPr/>
          <p:nvPr/>
        </p:nvPicPr>
        <p:blipFill>
          <a:blip r:embed="rId1"/>
          <a:stretch/>
        </p:blipFill>
        <p:spPr>
          <a:xfrm>
            <a:off x="228600" y="1219320"/>
            <a:ext cx="5791320" cy="4914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81480" y="213012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QUATIC LIFE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324120" y="388620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ection 5-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quatic “Biomes” are determined by the salinity of the wa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ltwater/Mar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open se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estu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 coast 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 coral re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  coastal mar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  mangrove swa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  coastal wet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esh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4720" y="2174760"/>
            <a:ext cx="40417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kes &amp; Po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owing Stre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land wet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QUATIC LIFE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0" descr="http://www.lenntech.com/images/freshwaterschema.gif"/>
          <p:cNvPicPr/>
          <p:nvPr/>
        </p:nvPicPr>
        <p:blipFill>
          <a:blip r:embed="rId1"/>
          <a:stretch/>
        </p:blipFill>
        <p:spPr>
          <a:xfrm>
            <a:off x="4419720" y="1676520"/>
            <a:ext cx="449568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9621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ving in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oyancy for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fluctuations in 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ents are dissolved and easily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tes are diluted &amp; disper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MITING F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4720" y="1828440"/>
            <a:ext cx="404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solved Oxy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divide ALZ’s into lay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rfa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t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Organisms will live different place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. MARINE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The Ocean is divided i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COASTAL zone &amp; OPEN s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COASTAL ZONE – general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warm, nutrient r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and to continental sh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vered at high tide, exposed at low 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10% of ocean area but 90% of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nnect with estu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protect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8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ocean.jpg"/>
          <p:cNvPicPr/>
          <p:nvPr/>
        </p:nvPicPr>
        <p:blipFill>
          <a:blip r:embed="rId1"/>
          <a:stretch/>
        </p:blipFill>
        <p:spPr>
          <a:xfrm>
            <a:off x="428760" y="304920"/>
            <a:ext cx="83343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STAL ZONES – specific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ESTU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where fresh &amp; salt water m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treams flow into oc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ts of nutrients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good breeding ground for org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COASTAL WET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reas of coastal land covered for part or all of the year with salt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bays, lagoons, salt flats, mud flats, salt mar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3:50:09Z</dcterms:created>
  <dc:creator>Joanne Lilliendahl</dc:creator>
  <dc:description/>
  <dc:language>en-US</dc:language>
  <cp:lastModifiedBy>udsd</cp:lastModifiedBy>
  <dcterms:modified xsi:type="dcterms:W3CDTF">2008-02-14T14:34:15Z</dcterms:modified>
  <cp:revision>27</cp:revision>
  <dc:subject/>
  <dc:title>AQUATIC LIFE ZONES</dc:title>
</cp:coreProperties>
</file>