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978-A1FE-47E8-B18E-0B4BCF0F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AB1-E36C-481E-8F19-63C5BF54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4CC-3E13-43B4-999D-5CD7D32A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E71-14B3-4EB8-B7AF-E47615C6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D48-D04B-4A59-81F9-64A3BBBA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D35-2F78-474B-8A7E-423C382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DAC-EBBB-486F-800B-0AF7D4C2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228-5253-4392-B2C0-55AEE27A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FCB-5B9E-41C4-B804-F22CE6D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16E-6AEB-488E-80B8-087F67B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A87-1E4C-4FB6-AEDA-0AB814E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EA6-CF11-4A3B-86F3-AD29D07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6C9A-0F51-40BD-BC1E-FA6BB4EBA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escience.com/environment/041201_water_bonds.html" TargetMode="External"/><Relationship Id="rId2" Type="http://schemas.openxmlformats.org/officeDocument/2006/relationships/hyperlink" Target="http://www.livescience.com/mysteries/061023_oceans_salty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, Water Everyw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oured all the world’s water on the United States and could contain it, you’d create a lake 90 miles dee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water is that? Roughly 326 million cubic miles, according to the U.S. Geological Survey. Some 72 percent of Earth is covered i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but 97 percent of tha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and no good for drin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some facts about the freshwat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 percent of freshwater is locked in ice ca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han 1 percent of the world’s freshwater is readily acce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countries (Brazil, Russia, Canada, Indonesia, China and Colombia) have 50 percent of the freshwater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-third of the world’s population lives in “water-stressed”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 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MANGROVE SW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 tropical coasts with an over-abundance of silt (sediment &amp;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5 species of salt-tolerant trees &amp; 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coastal erosion; roots abov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an be rocky or sandy (barri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www.shunya.net/Pictures/Mexico/mangrove-swamp.jpg"/>
          <p:cNvPicPr/>
          <p:nvPr/>
        </p:nvPicPr>
        <p:blipFill>
          <a:blip r:embed="rId1"/>
          <a:stretch/>
        </p:blipFill>
        <p:spPr>
          <a:xfrm>
            <a:off x="6095880" y="152280"/>
            <a:ext cx="26337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RAL RE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hallow coastal zones of warm tropical &amp; sub-tropical oc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water populations of polyps (animals similar to jellyfish) that secrete limestone sh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ductive AL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http://web.syr.edu/~tjconena/sjcoralfor400300.JPG"/>
          <p:cNvPicPr/>
          <p:nvPr/>
        </p:nvPicPr>
        <p:blipFill>
          <a:blip r:embed="rId1"/>
          <a:stretch/>
        </p:blipFill>
        <p:spPr>
          <a:xfrm>
            <a:off x="4952880" y="3505320"/>
            <a:ext cx="3810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OPEN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3 zones, depending on the amount of sunlight EUPHO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HY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S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ow avg. net primary produ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hytoplankton mos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of ocean’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gross primary productivity how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because of tot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Isosceles Triangle 3"/>
          <p:cNvSpPr/>
          <p:nvPr/>
        </p:nvSpPr>
        <p:spPr>
          <a:xfrm rot="10800000">
            <a:off x="6477120" y="1828800"/>
            <a:ext cx="129528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FRESHWATER ALZ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FRESHWATER LAKES – gener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, natural bodies of standing (still) fresh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ed from ppt, runoff or groundwater that fills depressions in Earth’s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nd to have a lot of algal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current to carry away or dispe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. is often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types of lakes;  4 zones within a la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-Down Arrow 3"/>
          <p:cNvSpPr/>
          <p:nvPr/>
        </p:nvSpPr>
        <p:spPr>
          <a:xfrm>
            <a:off x="6858000" y="3733920"/>
            <a:ext cx="228600" cy="98748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TROPHIC LAKE (poorly 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eep with steep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el, sandy, rock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shore vegetation, not much alg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-blue or green i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.s of pp and small fish (trout &amp; b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aquat1.ifas.ufl.edu/sheelam.jpg"/>
          <p:cNvPicPr/>
          <p:nvPr/>
        </p:nvPicPr>
        <p:blipFill>
          <a:blip r:embed="rId1"/>
          <a:stretch/>
        </p:blipFill>
        <p:spPr>
          <a:xfrm>
            <a:off x="762120" y="5486400"/>
            <a:ext cx="7010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UTROPHIC LAKE (well-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d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ive nutrients, rapid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llow, murky water from alga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can’t penetrate far, not many fish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utrophic.jpg"/>
          <p:cNvPicPr/>
          <p:nvPr/>
        </p:nvPicPr>
        <p:blipFill>
          <a:blip r:embed="rId1"/>
          <a:stretch/>
        </p:blipFill>
        <p:spPr>
          <a:xfrm>
            <a:off x="4191120" y="4170240"/>
            <a:ext cx="42670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1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http://lakes.chebucto.org/WATERSHEDS/FISHERIES/FISHES/PIC/eutrophication.jpg"/>
          <p:cNvPicPr/>
          <p:nvPr/>
        </p:nvPicPr>
        <p:blipFill>
          <a:blip r:embed="rId1"/>
          <a:stretch/>
        </p:blipFill>
        <p:spPr>
          <a:xfrm>
            <a:off x="457200" y="2362320"/>
            <a:ext cx="8331120" cy="414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04920" y="14479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ESOTROPHIC 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n between Oligo &amp; Eu - 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s are divided into 4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lake zones.jpg"/>
          <p:cNvPicPr/>
          <p:nvPr/>
        </p:nvPicPr>
        <p:blipFill>
          <a:blip r:embed="rId1"/>
          <a:stretch/>
        </p:blipFill>
        <p:spPr>
          <a:xfrm>
            <a:off x="762120" y="1182600"/>
            <a:ext cx="73911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LAKE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OR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elines &amp; very shallow waters around ed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vegetation grow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 layer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temperature; sun easily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ZONES IN L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ROFUND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ow the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sunlight &amp; 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many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ENTH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bottom layer of water, including bottom sed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, to no, organisms liv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unlight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archarts of the distribution of water on Earth. "/>
          <p:cNvPicPr/>
          <p:nvPr/>
        </p:nvPicPr>
        <p:blipFill>
          <a:blip r:embed="rId1"/>
          <a:stretch/>
        </p:blipFill>
        <p:spPr>
          <a:xfrm>
            <a:off x="304920" y="533520"/>
            <a:ext cx="492444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ie charts of the distribution of water on Earth. "/>
          <p:cNvPicPr/>
          <p:nvPr/>
        </p:nvPicPr>
        <p:blipFill>
          <a:blip r:embed="rId2"/>
          <a:stretch/>
        </p:blipFill>
        <p:spPr>
          <a:xfrm>
            <a:off x="5486400" y="3276720"/>
            <a:ext cx="3419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tratification – Seasons change 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LakeStratification.gif"/>
          <p:cNvPicPr/>
          <p:nvPr/>
        </p:nvPicPr>
        <p:blipFill>
          <a:blip r:embed="rId1"/>
          <a:stretch/>
        </p:blipFill>
        <p:spPr>
          <a:xfrm>
            <a:off x="762120" y="17542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FRESHWATER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water with cur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cold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lear, algae is quickly carried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from surface water or runoff that does not soak into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stream2.jpg"/>
          <p:cNvPicPr/>
          <p:nvPr/>
        </p:nvPicPr>
        <p:blipFill>
          <a:blip r:embed="rId1"/>
          <a:stretch/>
        </p:blipFill>
        <p:spPr>
          <a:xfrm>
            <a:off x="2438280" y="4648320"/>
            <a:ext cx="612144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(narrow)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waters/mountain highland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of the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v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aterfalls/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mount of dissolv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ater fish (tr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ae &amp; moss attach to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tream.jpg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Secon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one meets with other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current, warmer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obstacles (rock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warm &amp; cold water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www.dpiw.tas.gov.au/inter.nsf/Images/LBUN-4Z56BX/$File/water_hortonriver.jpg"/>
          <p:cNvPicPr/>
          <p:nvPr/>
        </p:nvPicPr>
        <p:blipFill>
          <a:blip r:embed="rId1"/>
          <a:stretch/>
        </p:blipFill>
        <p:spPr>
          <a:xfrm>
            <a:off x="1600200" y="4724280"/>
            <a:ext cx="6019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 join together to form a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&amp; mur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dissolved oxyge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sediment that deposits a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 &amp; cat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Inland Wet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s covered with water all or part of the year (excluding streams, lakes, resevo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arshes (herbaceous pl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rairie potholes (seas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wamps (tress &amp; shru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ud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bo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Mudflats.jpg"/>
          <p:cNvPicPr/>
          <p:nvPr/>
        </p:nvPicPr>
        <p:blipFill>
          <a:blip r:embed="rId1"/>
          <a:stretch/>
        </p:blipFill>
        <p:spPr>
          <a:xfrm>
            <a:off x="6324480" y="3352680"/>
            <a:ext cx="2590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4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library.thinkquest.org/04oct/01590/intro/stream.jpg"/>
          <p:cNvPicPr/>
          <p:nvPr/>
        </p:nvPicPr>
        <p:blipFill>
          <a:blip r:embed="rId1"/>
          <a:stretch/>
        </p:blipFill>
        <p:spPr>
          <a:xfrm>
            <a:off x="228600" y="1219320"/>
            <a:ext cx="5791320" cy="491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480" y="213012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4120" y="388620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ction 5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quatic “Biomes” are determined by the salinity of the 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twater/Ma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open s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estu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coast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coral r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coastal mar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mangrove sw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coastal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sh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kes &amp; P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wing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land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http://www.lenntech.com/images/freshwaterschema.gif"/>
          <p:cNvPicPr/>
          <p:nvPr/>
        </p:nvPicPr>
        <p:blipFill>
          <a:blip r:embed="rId1"/>
          <a:stretch/>
        </p:blipFill>
        <p:spPr>
          <a:xfrm>
            <a:off x="4419720" y="1676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621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in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oyancy fo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fluctuations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 are dissolved and easi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s are diluted &amp; disper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182844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ivide ALZ’s into lay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f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Organisms will live different plac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MARIN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e Ocean is divided i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OASTAL zone &amp; OPE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OASTAL ZONE – gener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, nutrient r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nd to continental sh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vered at high tide, exposed at low 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10% of ocean area but 90% of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nnect with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otect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ocean.jpg"/>
          <p:cNvPicPr/>
          <p:nvPr/>
        </p:nvPicPr>
        <p:blipFill>
          <a:blip r:embed="rId1"/>
          <a:stretch/>
        </p:blipFill>
        <p:spPr>
          <a:xfrm>
            <a:off x="428760" y="304920"/>
            <a:ext cx="8334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S – specifi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here fresh &amp; salt water m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reams flow into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ts of nutrien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good breeding ground f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OASTAL WE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reas of coastal land covered for part or all of the year with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bays, lagoons, salt flats, mud flats, salt m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50:09Z</dcterms:created>
  <dc:creator>Joanne Lilliendahl</dc:creator>
  <dc:description/>
  <dc:language>en-US</dc:language>
  <cp:lastModifiedBy>udsd</cp:lastModifiedBy>
  <dcterms:modified xsi:type="dcterms:W3CDTF">2008-02-14T14:34:15Z</dcterms:modified>
  <cp:revision>27</cp:revision>
  <dc:subject/>
  <dc:title>AQUATIC LIFE ZONES</dc:title>
</cp:coreProperties>
</file>