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jpeg" ContentType="image/jpeg"/>
  <Override PartName="/ppt/media/image4.png" ContentType="image/png"/>
  <Override PartName="/ppt/media/image6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17F34-3A8B-43D6-8A7C-8C43A7B31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EFA22-899E-40DB-AF0E-BA95117FE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C970E-317D-4A8D-A8C2-8B14DB244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26754-7529-441C-946C-C06E0AF18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2425B-154B-49CF-8E8A-2AA2E15F8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95571-1DBA-4672-A367-A00AB933B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0D131-4FE0-4D88-B659-B7E450D67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AFDF5-6EBF-48C9-B779-62598308C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463EB-FEBB-445F-8EB8-3BD637E14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44381-468D-4C7B-B37D-2DBE30FFE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1A422-7835-4DD7-80D8-A38835416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DEB60-BBE5-4083-AE5F-BCBCC6B9C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38A6F-0CC1-42AC-9DB6-4ABCEF0B52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ivescience.com/environment/041201_water_bonds.html" TargetMode="External"/><Relationship Id="rId2" Type="http://schemas.openxmlformats.org/officeDocument/2006/relationships/hyperlink" Target="http://www.livescience.com/mysteries/061023_oceans_salty.html" TargetMode="External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ter, Water Everywhere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837720"/>
            <a:ext cx="8229600" cy="52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f you poured all the world’s water on the United States and could contain it, you’d create a lake 90 miles deep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ow much water is that? Roughly 326 million cubic miles, according to the U.S. Geological Survey. Some 72 percent of Earth is covered in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ater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, but 97 percent of that is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salty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 and no good for drinking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o, some facts about the freshwater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70 percent of freshwater is locked in ice cap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ess than 1 percent of the world’s freshwater is readily accessibl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6 countries (Brazil, Russia, Canada, Indonesia, China and Colombia) have 50 percent of the freshwater reserv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ne-third of the world’s population lives in “water-stressed” countri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" dur="50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3)" transition="in">
                                      <p:cBhvr additive="repl">
                                        <p:cTn id="25" dur="2000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STAL ZONE specific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6840" y="1599840"/>
            <a:ext cx="8381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. MANGROVE SWAM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warm tropical coasts with an over-abundance of silt (sediment &amp; nutrient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55 species of salt-tolerant trees &amp; shrub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prevent coastal erosion; roots above wa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. SHO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can be rocky or sandy (barrier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7" descr="http://www.shunya.net/Pictures/Mexico/mangrove-swamp.jpg"/>
          <p:cNvPicPr/>
          <p:nvPr/>
        </p:nvPicPr>
        <p:blipFill>
          <a:blip r:embed="rId1"/>
          <a:stretch/>
        </p:blipFill>
        <p:spPr>
          <a:xfrm>
            <a:off x="6095880" y="152280"/>
            <a:ext cx="2633760" cy="27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9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9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5. CORAL REEF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218960"/>
            <a:ext cx="8229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nd in shallow coastal zones of warm tropical &amp; sub-tropical ocea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nderwater populations of polyps (animals similar to jellyfish) that secrete limestone shel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productive AL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7" descr="http://web.syr.edu/~tjconena/sjcoralfor400300.JPG"/>
          <p:cNvPicPr/>
          <p:nvPr/>
        </p:nvPicPr>
        <p:blipFill>
          <a:blip r:embed="rId1"/>
          <a:stretch/>
        </p:blipFill>
        <p:spPr>
          <a:xfrm>
            <a:off x="4952880" y="3505320"/>
            <a:ext cx="381024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34" dur="2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20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20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20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. OPEN SE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vided into 3 zones, depending on the amount of sunlight EUPHOTI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ATHY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BYSS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ery low avg. net primary productivity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phytoplankton mostly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0% of ocean’s spec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arge gross primary productivity howev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mply because of total siz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Isosceles Triangle 3"/>
          <p:cNvSpPr/>
          <p:nvPr/>
        </p:nvSpPr>
        <p:spPr>
          <a:xfrm rot="10800000">
            <a:off x="6477120" y="1828800"/>
            <a:ext cx="1295280" cy="129528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2000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2000"/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2000" fill="hold"/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2000" fill="hold"/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2000" fill="hold"/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I. FRESHWATER ALZ’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. FRESHWATER LAKES – general inform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Large, natural bodies of standing (still) freshwate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ormed from ppt, runoff or groundwater that fills depressions in Earth’s surfac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end to have a lot of algal growth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No current to carry away or dispers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emp. is often high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3 types of lakes;  4 zones within a lake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Up-Down Arrow 3"/>
          <p:cNvSpPr/>
          <p:nvPr/>
        </p:nvSpPr>
        <p:spPr>
          <a:xfrm>
            <a:off x="6858000" y="3733920"/>
            <a:ext cx="228600" cy="987480"/>
          </a:xfrm>
          <a:prstGeom prst="upDownArrow">
            <a:avLst>
              <a:gd name="adj1" fmla="val 50000"/>
              <a:gd name="adj2" fmla="val 4999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93" dur="5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20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0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2" dur="500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3 TYPES OF LAK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6840" y="914040"/>
            <a:ext cx="838188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LIGOTROPHIC LAKE (poorly nourished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wly form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ery deep with steep bank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ravel, sandy, rocky bot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ittle shore vegetation, not much alga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ystal-blue or green in col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mall pop.s of pp and small fish (trout &amp; bas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5" descr="http://aquat1.ifas.ufl.edu/sheelam.jpg"/>
          <p:cNvPicPr/>
          <p:nvPr/>
        </p:nvPicPr>
        <p:blipFill>
          <a:blip r:embed="rId1"/>
          <a:stretch/>
        </p:blipFill>
        <p:spPr>
          <a:xfrm>
            <a:off x="762120" y="5486400"/>
            <a:ext cx="7010280" cy="118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5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331" dur="20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34" dur="500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500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6" dur="500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3 TYPES OF LAK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837720"/>
            <a:ext cx="8229600" cy="52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 EUTROPHIC LAKE (well-nourished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ged lak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cessive nutrients, rapid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hallow, murky water from algae growt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nlight can’t penetrate far, not many fish at the bott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uch vege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3" descr="eutrophic.jpg"/>
          <p:cNvPicPr/>
          <p:nvPr/>
        </p:nvPicPr>
        <p:blipFill>
          <a:blip r:embed="rId1"/>
          <a:stretch/>
        </p:blipFill>
        <p:spPr>
          <a:xfrm>
            <a:off x="4191120" y="4170240"/>
            <a:ext cx="4267080" cy="245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57" dur="20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2000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1" dur="100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7" dur="1000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3 TYPES OF LAK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Content Placeholder 5" descr="http://lakes.chebucto.org/WATERSHEDS/FISHERIES/FISHES/PIC/eutrophication.jpg"/>
          <p:cNvPicPr/>
          <p:nvPr/>
        </p:nvPicPr>
        <p:blipFill>
          <a:blip r:embed="rId1"/>
          <a:stretch/>
        </p:blipFill>
        <p:spPr>
          <a:xfrm>
            <a:off x="457200" y="2362320"/>
            <a:ext cx="8331120" cy="4141800"/>
          </a:xfrm>
          <a:prstGeom prst="rect">
            <a:avLst/>
          </a:prstGeom>
          <a:ln w="0">
            <a:noFill/>
          </a:ln>
        </p:spPr>
      </p:pic>
      <p:sp>
        <p:nvSpPr>
          <p:cNvPr id="86" name="TextBox 6"/>
          <p:cNvSpPr/>
          <p:nvPr/>
        </p:nvSpPr>
        <p:spPr>
          <a:xfrm>
            <a:off x="304920" y="1447920"/>
            <a:ext cx="5208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MESOTROPHIC LAK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-In between Oligo &amp; Eu - troph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kes are divided into 4 Zon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Content Placeholder 3" descr="lake zones.jpg"/>
          <p:cNvPicPr/>
          <p:nvPr/>
        </p:nvPicPr>
        <p:blipFill>
          <a:blip r:embed="rId1"/>
          <a:stretch/>
        </p:blipFill>
        <p:spPr>
          <a:xfrm>
            <a:off x="762120" y="1182600"/>
            <a:ext cx="7391160" cy="519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4 LAKE ZON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ITTORAL ZO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horelines &amp; very shallow waters around edg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vegetation grows he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 LIMNETIC ZO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p layer of wa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rganisms found he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ighest temperature; sun easily penetr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8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2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9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9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5" dur="10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4" dur="770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25" dur="77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27" dur="77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29" dur="77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5" dur="1000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4 ZONES IN LAK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. PROFUNDAL ZO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elow the limnetic zo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ss sunlight &amp; nutri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 many organisms found he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. BENTHIC ZO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ery bottom layer of water, including bottom sedi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ittle, to no, organisms live the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 sunlight penetr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442" dur="2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4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56" dur="20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20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2" dur="20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20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9" dur="1000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7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2" dur="1000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Barcharts of the distribution of water on Earth. "/>
          <p:cNvPicPr/>
          <p:nvPr/>
        </p:nvPicPr>
        <p:blipFill>
          <a:blip r:embed="rId1"/>
          <a:stretch/>
        </p:blipFill>
        <p:spPr>
          <a:xfrm>
            <a:off x="304920" y="533520"/>
            <a:ext cx="4924440" cy="41148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4" descr="Pie charts of the distribution of water on Earth. "/>
          <p:cNvPicPr/>
          <p:nvPr/>
        </p:nvPicPr>
        <p:blipFill>
          <a:blip r:embed="rId2"/>
          <a:stretch/>
        </p:blipFill>
        <p:spPr>
          <a:xfrm>
            <a:off x="5486400" y="3276720"/>
            <a:ext cx="3419640" cy="29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ke Stratification – Seasons change temper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Content Placeholder 3" descr="LakeStratification.gif"/>
          <p:cNvPicPr/>
          <p:nvPr/>
        </p:nvPicPr>
        <p:blipFill>
          <a:blip r:embed="rId1"/>
          <a:stretch/>
        </p:blipFill>
        <p:spPr>
          <a:xfrm>
            <a:off x="762120" y="1754280"/>
            <a:ext cx="761976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. FRESHWATER STRE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unning water with curr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enerally cold tem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ually clear, algae is quickly carried awa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ms from surface water or runoff that does not soak into gr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zon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3" descr="stream2.jpg"/>
          <p:cNvPicPr/>
          <p:nvPr/>
        </p:nvPicPr>
        <p:blipFill>
          <a:blip r:embed="rId1"/>
          <a:stretch/>
        </p:blipFill>
        <p:spPr>
          <a:xfrm>
            <a:off x="2438280" y="4648320"/>
            <a:ext cx="6121440" cy="19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91" dur="1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94" dur="20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5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20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reshwater Stream Zon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irst (narrow) Zo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eadwaters/mountain highland strea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eginning of the stre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ter is very c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y waterfalls/rapi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arge amount of dissolved oxyg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ld water fish (trou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gae &amp; moss attach to rock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3" descr="stream.jpg"/>
          <p:cNvPicPr/>
          <p:nvPr/>
        </p:nvPicPr>
        <p:blipFill>
          <a:blip r:embed="rId1"/>
          <a:stretch/>
        </p:blipFill>
        <p:spPr>
          <a:xfrm>
            <a:off x="6858000" y="2286000"/>
            <a:ext cx="2057400" cy="437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15" dur="2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518" dur="2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21" dur="20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8" dur="5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50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5" dur="200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38" dur="50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reshwater Stream Zon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294920"/>
            <a:ext cx="632448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. Second Zo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zone meets with other strea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lower current, warmer wa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ss obstacles (rocks, etc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ix of warm &amp; cold water fis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5" descr="http://www.dpiw.tas.gov.au/inter.nsf/Images/LBUN-4Z56BX/$File/water_hortonriver.jpg"/>
          <p:cNvPicPr/>
          <p:nvPr/>
        </p:nvPicPr>
        <p:blipFill>
          <a:blip r:embed="rId1"/>
          <a:stretch/>
        </p:blipFill>
        <p:spPr>
          <a:xfrm>
            <a:off x="1600200" y="4724280"/>
            <a:ext cx="60199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1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50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5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1" dur="5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reshwater Stream Zon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ird Zo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eams join together to form a riv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ide &amp; murk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igh tempera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ow dissolved oxygen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ots of sediment that deposits at e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rp &amp; catfis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2" dur="indefinite" restart="never" nodeType="tmRoot">
          <p:childTnLst>
            <p:seq>
              <p:cTn id="563" dur="indefinite" nodeType="mainSeq">
                <p:childTnLst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20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0" dur="10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7" dur="10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6" dur="1000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. Inland Wetland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ands covered with water all or part of the year (excluding streams, lakes, resevoi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amples includ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 marshes (herbaceous plant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 prairie potholes (seasonal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. swamps (tress &amp; shrub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. mudfla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5. bog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3" descr="Mudflats.jpg"/>
          <p:cNvPicPr/>
          <p:nvPr/>
        </p:nvPicPr>
        <p:blipFill>
          <a:blip r:embed="rId1"/>
          <a:stretch/>
        </p:blipFill>
        <p:spPr>
          <a:xfrm>
            <a:off x="6324480" y="3352680"/>
            <a:ext cx="2590920" cy="30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0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9" dur="1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0" dur="4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4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6" dur="20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19" dur="5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622" dur="2000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5" descr="http://library.thinkquest.org/04oct/01590/intro/stream.jpg"/>
          <p:cNvPicPr/>
          <p:nvPr/>
        </p:nvPicPr>
        <p:blipFill>
          <a:blip r:embed="rId1"/>
          <a:stretch/>
        </p:blipFill>
        <p:spPr>
          <a:xfrm>
            <a:off x="228600" y="1219320"/>
            <a:ext cx="5791320" cy="491472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181480" y="2130120"/>
            <a:ext cx="32767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QUATIC LIFE ZON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324120" y="3886200"/>
            <a:ext cx="167652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Section 5-2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quatic “Biomes” are determined by the salinity of the wate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altwater/Marin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.  open se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.  estuar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.  coast lin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4.  coral ree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5.  coastal mars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6.  mangrove swa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7.  coastal wetlan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reshwa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644720" y="2174760"/>
            <a:ext cx="4041720" cy="163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akes &amp; Pon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lowing Strea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land wetlan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QUATIC LIFE ZON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10" descr="http://www.lenntech.com/images/freshwaterschema.gif"/>
          <p:cNvPicPr/>
          <p:nvPr/>
        </p:nvPicPr>
        <p:blipFill>
          <a:blip r:embed="rId1"/>
          <a:stretch/>
        </p:blipFill>
        <p:spPr>
          <a:xfrm>
            <a:off x="4419720" y="1676520"/>
            <a:ext cx="4495680" cy="45720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04920" y="1523880"/>
            <a:ext cx="3962160" cy="466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iving in Wa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DVANTAG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uoyancy for suppor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imited fluctuations in temperatu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utrients are dissolved and easily availab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astes are diluted &amp; dispers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960" y="121896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IMITING FACTO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644720" y="1828440"/>
            <a:ext cx="40417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emperatu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nligh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issolved Oxyg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utri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se divide ALZ’s into layer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rface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idd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otto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ifferent Organisms will live different places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3" dur="5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4" dur="500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0" fill="hold"/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0" fill="hold"/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. MARINE ZON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7375e"/>
                </a:solidFill>
                <a:latin typeface="Calibri"/>
              </a:rPr>
              <a:t>The Ocean is divided in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7375e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17375e"/>
                </a:solidFill>
                <a:latin typeface="Calibri"/>
              </a:rPr>
              <a:t>COASTAL zone &amp; OPEN se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. COASTAL ZONE – general inform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warm, nutrient ri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land to continental shel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covered at high tide, exposed at low t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10% of ocean area but 90% of spec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connect with estu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protect l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18" dur="5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1" dur="5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3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3" descr="ocean.jpg"/>
          <p:cNvPicPr/>
          <p:nvPr/>
        </p:nvPicPr>
        <p:blipFill>
          <a:blip r:embed="rId1"/>
          <a:stretch/>
        </p:blipFill>
        <p:spPr>
          <a:xfrm>
            <a:off x="428760" y="304920"/>
            <a:ext cx="8334360" cy="62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STAL ZONES – specific typ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219320"/>
            <a:ext cx="82296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 ESTU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where fresh &amp; salt water me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streams flow into oce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lots of nutrients avail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good breeding ground for organis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 COASTAL WETL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areas of coastal land covered for part or all of the year with salt wa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bays, lagoons, salt flats, mud flats, salt mars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86" dur="2000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0T23:50:09Z</dcterms:created>
  <dc:creator>Joanne Lilliendahl</dc:creator>
  <dc:description/>
  <dc:language>en-US</dc:language>
  <cp:lastModifiedBy>udsd</cp:lastModifiedBy>
  <dcterms:modified xsi:type="dcterms:W3CDTF">2008-02-14T14:34:15Z</dcterms:modified>
  <cp:revision>27</cp:revision>
  <dc:subject/>
  <dc:title>AQUATIC LIFE ZONES</dc:title>
</cp:coreProperties>
</file>