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D3F2-13FC-4244-8258-5C029E2B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752F-A80F-4F82-A5E4-2504369D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665B-EBE4-4720-B66A-E0703071E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CE8D-F89A-48CF-8EDC-8F69F2CE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FA46-AD77-45CB-BD4B-81FB57F8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8D1F-837A-4D04-85B3-E75D4DCF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7DAE-C77B-481A-A99F-EB30A620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F240-3FEE-49AA-8CE8-D2DCDBD6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66B9-81F7-4EF2-A4D8-E3291AC1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8284-AAD4-4723-926D-EEC964B0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61E9-4F51-4E85-AA65-C7A784DC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CBD4-0ED1-4ACB-B4F6-9F19C9EA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448A-7ADF-4379-9D1F-ACA36781A6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ivescience.com/environment/041201_water_bonds.html" TargetMode="External"/><Relationship Id="rId2" Type="http://schemas.openxmlformats.org/officeDocument/2006/relationships/hyperlink" Target="http://www.livescience.com/mysteries/061023_oceans_salty.html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ter, Water Everywher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poured all the world’s water on the United States and could contain it, you’d create a lake 90 miles deep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much water is that? Roughly 326 million cubic miles, according to the U.S. Geological Survey. Some 72 percent of Earth is covered in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ate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, but 97 percent of that is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alty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and no good for drink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, some facts about the freshwater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0 percent of freshwater is locked in ice cap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s than 1 percent of the world’s freshwater is readily accessib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 countries (Brazil, Russia, Canada, Indonesia, China and Colombia) have 50 percent of the freshwater reserv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-third of the world’s population lives in “water-stressed” countr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" dur="2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STAL ZONE specif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MANGROVE SWAM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warm tropical coasts with an over-abundance of silt (sediment &amp; nutrien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55 species of salt-tolerant trees &amp; shru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prevent coastal erosion; roots above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SH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can be rocky or sandy (barri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" descr="http://www.shunya.net/Pictures/Mexico/mangrove-swamp.jpg"/>
          <p:cNvPicPr/>
          <p:nvPr/>
        </p:nvPicPr>
        <p:blipFill>
          <a:blip r:embed="rId1"/>
          <a:stretch/>
        </p:blipFill>
        <p:spPr>
          <a:xfrm>
            <a:off x="6095880" y="152280"/>
            <a:ext cx="263376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1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2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 CORAL REE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2189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nd in shallow coastal zones of warm tropical &amp; sub-tropical oc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water populations of polyps (animals similar to jellyfish) that secrete limestone sh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productive AL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http://web.syr.edu/~tjconena/sjcoralfor400300.JPG"/>
          <p:cNvPicPr/>
          <p:nvPr/>
        </p:nvPicPr>
        <p:blipFill>
          <a:blip r:embed="rId1"/>
          <a:stretch/>
        </p:blipFill>
        <p:spPr>
          <a:xfrm>
            <a:off x="4952880" y="3505320"/>
            <a:ext cx="38102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. OPEN S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ided into 3 zones, depending on the amount of sunlight EUPHO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HY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YS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low avg. net primary productiv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phytoplankton mostl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% of ocean’s spe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 gross primary productivity howe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y because of total s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Isosceles Triangle 3"/>
          <p:cNvSpPr/>
          <p:nvPr/>
        </p:nvSpPr>
        <p:spPr>
          <a:xfrm rot="10800000">
            <a:off x="6477120" y="1828800"/>
            <a:ext cx="1295280" cy="1295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77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77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I. FRESHWATER ALZ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. FRESHWATER LAKES – general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rge, natural bodies of standing (still) fresh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med from ppt, runoff or groundwater that fills depressions in Earth’s surf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nd to have a lot of algal grow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 current to carry away or disper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mp. is often hig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 types of lakes;  4 zones within a lak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Up-Down Arrow 3"/>
          <p:cNvSpPr/>
          <p:nvPr/>
        </p:nvSpPr>
        <p:spPr>
          <a:xfrm>
            <a:off x="6858000" y="3733920"/>
            <a:ext cx="228600" cy="987480"/>
          </a:xfrm>
          <a:prstGeom prst="upDown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 TYPES OF LAK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914040"/>
            <a:ext cx="83818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LIGOTROPHIC LAKE (poorly nourish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ly form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deep with steep ba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vel, sandy, rocky bot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ttle shore vegetation, not much alga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-blue or green in co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 pop.s of pp and small fish (trout &amp; ba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http://aquat1.ifas.ufl.edu/sheelam.jpg"/>
          <p:cNvPicPr/>
          <p:nvPr/>
        </p:nvPicPr>
        <p:blipFill>
          <a:blip r:embed="rId1"/>
          <a:stretch/>
        </p:blipFill>
        <p:spPr>
          <a:xfrm>
            <a:off x="762120" y="5486400"/>
            <a:ext cx="7010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7" dur="2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 TYPES OF LAK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EUTROPHIC LAKE (well-nourish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ed l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essive nutrients, rapid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llow, murky water from algae grow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light can’t penetrate far, not many fish at the bott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ch vege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eutrophic.jpg"/>
          <p:cNvPicPr/>
          <p:nvPr/>
        </p:nvPicPr>
        <p:blipFill>
          <a:blip r:embed="rId1"/>
          <a:stretch/>
        </p:blipFill>
        <p:spPr>
          <a:xfrm>
            <a:off x="4191120" y="4170240"/>
            <a:ext cx="42670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 TYPES OF LAK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ontent Placeholder 5" descr="http://lakes.chebucto.org/WATERSHEDS/FISHERIES/FISHES/PIC/eutrophication.jpg"/>
          <p:cNvPicPr/>
          <p:nvPr/>
        </p:nvPicPr>
        <p:blipFill>
          <a:blip r:embed="rId1"/>
          <a:stretch/>
        </p:blipFill>
        <p:spPr>
          <a:xfrm>
            <a:off x="457200" y="2362320"/>
            <a:ext cx="8331120" cy="4141800"/>
          </a:xfrm>
          <a:prstGeom prst="rect">
            <a:avLst/>
          </a:prstGeom>
          <a:ln w="0">
            <a:noFill/>
          </a:ln>
        </p:spPr>
      </p:pic>
      <p:sp>
        <p:nvSpPr>
          <p:cNvPr id="86" name="TextBox 6"/>
          <p:cNvSpPr/>
          <p:nvPr/>
        </p:nvSpPr>
        <p:spPr>
          <a:xfrm>
            <a:off x="304920" y="1447920"/>
            <a:ext cx="520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MESOTROPHIC L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In between Oligo &amp; Eu - trop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kes are divided into 4 Z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3" descr="lake zones.jpg"/>
          <p:cNvPicPr/>
          <p:nvPr/>
        </p:nvPicPr>
        <p:blipFill>
          <a:blip r:embed="rId1"/>
          <a:stretch/>
        </p:blipFill>
        <p:spPr>
          <a:xfrm>
            <a:off x="762120" y="1182600"/>
            <a:ext cx="739116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 LAKE Z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TTORAL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relines &amp; very shallow waters around edg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vegetation grows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LIMNETIC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p layer of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rganisms found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est temperature; sun easily penet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3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 ZONES IN LAK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PROFUNDAL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low the limnetic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 sunlight &amp; nutr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many organisms found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BENTHIC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bottom layer of water, including bottom sedi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ttle, to no, organisms live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sunlight penet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Barcharts of the distribution of water on Earth. "/>
          <p:cNvPicPr/>
          <p:nvPr/>
        </p:nvPicPr>
        <p:blipFill>
          <a:blip r:embed="rId1"/>
          <a:stretch/>
        </p:blipFill>
        <p:spPr>
          <a:xfrm>
            <a:off x="304920" y="533520"/>
            <a:ext cx="4924440" cy="4114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Pie charts of the distribution of water on Earth. "/>
          <p:cNvPicPr/>
          <p:nvPr/>
        </p:nvPicPr>
        <p:blipFill>
          <a:blip r:embed="rId2"/>
          <a:stretch/>
        </p:blipFill>
        <p:spPr>
          <a:xfrm>
            <a:off x="5486400" y="3276720"/>
            <a:ext cx="341964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ke Stratification – Seasons change temper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Content Placeholder 3" descr="LakeStratification.gif"/>
          <p:cNvPicPr/>
          <p:nvPr/>
        </p:nvPicPr>
        <p:blipFill>
          <a:blip r:embed="rId1"/>
          <a:stretch/>
        </p:blipFill>
        <p:spPr>
          <a:xfrm>
            <a:off x="762120" y="1754280"/>
            <a:ext cx="761976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. FRESHWATER STRE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nning water with curr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cold tem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clear, algae is quickly carried a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s from surface water or runoff that does not soak into 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z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stream2.jpg"/>
          <p:cNvPicPr/>
          <p:nvPr/>
        </p:nvPicPr>
        <p:blipFill>
          <a:blip r:embed="rId1"/>
          <a:stretch/>
        </p:blipFill>
        <p:spPr>
          <a:xfrm>
            <a:off x="2438280" y="4648320"/>
            <a:ext cx="6121440" cy="19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8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reshwater Stream Z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rst (narrow)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dwaters/mountain highland str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ginning of the str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is very 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waterfalls/rap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 amount of dissolved oxy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d water fish (trou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gae &amp; moss attach to ro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stream.jpg"/>
          <p:cNvPicPr/>
          <p:nvPr/>
        </p:nvPicPr>
        <p:blipFill>
          <a:blip r:embed="rId1"/>
          <a:stretch/>
        </p:blipFill>
        <p:spPr>
          <a:xfrm>
            <a:off x="6858000" y="2286000"/>
            <a:ext cx="205740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5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shwater Stream Z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94920"/>
            <a:ext cx="6324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Second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zone meets with other str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ower current, warmer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 obstacles (rock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x of warm &amp; cold water f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http://www.dpiw.tas.gov.au/inter.nsf/Images/LBUN-4Z56BX/$File/water_hortonriver.jpg"/>
          <p:cNvPicPr/>
          <p:nvPr/>
        </p:nvPicPr>
        <p:blipFill>
          <a:blip r:embed="rId1"/>
          <a:stretch/>
        </p:blipFill>
        <p:spPr>
          <a:xfrm>
            <a:off x="1600200" y="4724280"/>
            <a:ext cx="60199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79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reshwater Stream Z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ams join together to form a ri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de &amp; mur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temper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dissolved oxygen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ts of sediment that deposits at 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p &amp; catf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5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5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11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1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. Inland Wetlan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ds covered with water all or part of the year (excluding streams, lakes, resevoi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marshes (herbaceous plan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prairie potholes (season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swamps (tress &amp; shrub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mudfl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bo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Mudflats.jpg"/>
          <p:cNvPicPr/>
          <p:nvPr/>
        </p:nvPicPr>
        <p:blipFill>
          <a:blip r:embed="rId1"/>
          <a:stretch/>
        </p:blipFill>
        <p:spPr>
          <a:xfrm>
            <a:off x="6324480" y="3352680"/>
            <a:ext cx="259092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633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http://library.thinkquest.org/04oct/01590/intro/stream.jpg"/>
          <p:cNvPicPr/>
          <p:nvPr/>
        </p:nvPicPr>
        <p:blipFill>
          <a:blip r:embed="rId1"/>
          <a:stretch/>
        </p:blipFill>
        <p:spPr>
          <a:xfrm>
            <a:off x="228600" y="1219320"/>
            <a:ext cx="5791320" cy="4914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81480" y="2130120"/>
            <a:ext cx="327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QUATIC LIFE Z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324120" y="388620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ection 5-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quatic “Biomes” are determined by the salinity of the wat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ltwater/Mar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open se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estua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  coast 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  coral re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.  coastal mar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.  mangrove swa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.  coastal wetl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esh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4720" y="2174760"/>
            <a:ext cx="40417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kes &amp; Po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owing Stre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land wetl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QUATIC LIFE Z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0" descr="http://www.lenntech.com/images/freshwaterschema.gif"/>
          <p:cNvPicPr/>
          <p:nvPr/>
        </p:nvPicPr>
        <p:blipFill>
          <a:blip r:embed="rId1"/>
          <a:stretch/>
        </p:blipFill>
        <p:spPr>
          <a:xfrm>
            <a:off x="4419720" y="1676520"/>
            <a:ext cx="4495680" cy="4572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396216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ving in Wa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oyancy for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mited fluctuations in temper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trients are dissolved and easily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tes are diluted &amp; disper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IMITING FA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4720" y="1828440"/>
            <a:ext cx="4041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n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solved Oxy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tr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divide ALZ’s into layer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rfac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dd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t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t Organisms will live different place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8" dur="20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. MARINE Z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The Ocean is divided i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COASTAL zone &amp; OPEN s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COASTAL ZONE – general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warm, nutrient ri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and to continental shel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covered at high tide, exposed at low t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10% of ocean area but 90% of spe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connect with estu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protect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77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77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" dur="77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ocean.jpg"/>
          <p:cNvPicPr/>
          <p:nvPr/>
        </p:nvPicPr>
        <p:blipFill>
          <a:blip r:embed="rId1"/>
          <a:stretch/>
        </p:blipFill>
        <p:spPr>
          <a:xfrm>
            <a:off x="428760" y="304920"/>
            <a:ext cx="833436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STAL ZONES – specific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ESTU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where fresh &amp; salt water m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treams flow into oce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ots of nutrients avai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good breeding ground for organis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COASTAL WET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areas of coastal land covered for part or all of the year with salt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bays, lagoons, salt flats, mud flats, salt mar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4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5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23:50:09Z</dcterms:created>
  <dc:creator>Joanne Lilliendahl</dc:creator>
  <dc:description/>
  <dc:language>en-US</dc:language>
  <cp:lastModifiedBy>udsd</cp:lastModifiedBy>
  <dcterms:modified xsi:type="dcterms:W3CDTF">2008-02-14T14:34:15Z</dcterms:modified>
  <cp:revision>27</cp:revision>
  <dc:subject/>
  <dc:title>AQUATIC LIFE ZONES</dc:title>
</cp:coreProperties>
</file>